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  <p:sldId id="308" r:id="rId70"/>
    <p:sldId id="309" r:id="rId71"/>
    <p:sldId id="310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slide" Target="slides/slide53.xml"/><Relationship Id="rId71" Type="http://schemas.openxmlformats.org/officeDocument/2006/relationships/slide" Target="slides/slide54.xml"/><Relationship Id="rId72" Type="http://schemas.openxmlformats.org/officeDocument/2006/relationships/slide" Target="slides/slide55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move the slide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75CA-A534-4DED-B92C-D05F1E1E4C6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D515-D970-4A35-85F5-E18A7C3EA7D5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A164-DAB6-489F-9438-4E4731F4F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9C12-9B08-4A55-BEFF-30CB1079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E63E3-BE66-4F3D-8138-3AF3C8C1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0CDE4-C517-427C-B5D1-BBBA2B2D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1421F-D193-4D7E-B605-F488B07F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D0424-8817-4DF3-972D-C6DA8400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2E653-DCC2-4CCF-B3D1-82DB6F0B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656DE-C1C4-4075-8DE1-EF6023F9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4262A-1678-4F89-9F2D-E083F5C5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BFF00-C778-48AD-93F4-E5ADAA43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6AD44-C8F8-4740-B035-84F17324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80EB9-2D0F-45AF-A1C2-6DC099A7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0D52-F5E3-4DED-9896-BFD9DD33B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BA6E7-6282-4BA3-9653-6F718F45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E5ADF-4A49-4BEA-9E9E-EA1FBD29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DA20B-E7A5-496C-B625-A21049D7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B61CF-495B-4A0C-88C3-00C9B0E2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7C555-B341-418D-B129-CC9341F7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AE626-935F-4511-BAB0-B340D43E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E4757E-3A07-407B-B88B-D2B4A014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BBBB9-FB86-41A6-BF69-3A784753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14333-5A53-4F5B-A62A-159BE2E0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9FC7E-64F2-436D-8475-8802AE787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DA74-EDBF-4230-A9C4-7C100714B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C1B75-7D86-4F41-8EF9-8418DED4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981BF-26F6-4692-8C0C-076DB38B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84727-018D-4CB4-A91E-985EB5AC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2F121-584D-45E7-ACD8-0A1D0977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37F0A-8E54-4C0E-8EC4-802F1F46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A5E8A-B97C-40EB-BCBA-128C1B8C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EDABA-DBFC-46FF-AA7C-621A595D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872B9-03AA-4267-B886-10B87CFD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25D61-B804-4BD4-83E4-025EB4BF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BB2C0-2BB6-4DF1-AA9F-7ACEF8C2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5C73-5D49-420D-99B0-6B173DC6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41BFB-FFE3-4AD9-96B3-BC9B04EF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D9EC5-A861-4108-A32E-CDCD2312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17182-764A-4AA7-B314-E1B0D2BA1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1DBA5A-8EB5-4B2F-B664-EF9A62210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844740-7056-4F58-BF30-58047BE0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A95FF-37ED-4C77-8389-D569D13C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82F70-99FF-48DB-9D99-94670BC4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B31F03-07DA-4E0E-B932-204D2FBE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F40FB-796A-4E4E-8B0C-6EB03067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AE0504-CA4B-4258-8CD4-C5664725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763A-8E44-450E-815E-4338980E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30E606-A98B-46F4-AA3F-6B2FD038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6585D-AA22-4C04-A3B0-C07DBAA0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CE766-9F3B-4C86-875E-A18417E2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41F15-8046-4777-A9C7-DB25853FB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A8A54-CC47-4950-8146-FC887A1F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8AFEFC-1599-4770-8BAA-968265A7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455764-527A-4180-AD46-F797C96F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3D1579-A34A-4E58-84B9-E9513319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DCC6D4-F227-49C2-B062-F77B70B7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26C596-C2F6-45A9-97DB-6DB2C374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C0F2-092C-4D50-B108-3854FD6F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6CE043-551D-490D-B269-748FC6F9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655C9F-6BAB-405B-8247-9EF9CFA8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96AA32-1CBC-4577-8859-05C5DC1A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EB4D6F-51F0-4E1C-8D0A-CF97F61E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DB0FE3-79C5-4507-9FC4-5D5CC231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1187F5-65DB-404A-9B1E-EE92BE03C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35CA46-E727-4771-A0B9-BA5D448C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7C5C8B-B7B1-4338-8541-6EE81582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A405F9-E571-42B7-BBC5-51E2DACA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BC577D-E62E-401C-859A-D8D5FE4C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0F31-B823-46B0-A3D5-BE5C5E71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0980B0-0102-45E7-8EF4-57E229B3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2DDAFD-A68E-4D86-9978-DBBB9ADB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F1F324-5370-46BE-9773-ECE34DA1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5AE903-4D51-4DC2-90C0-6669943A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E75765-98C1-4D88-A181-F80EF7AE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19F826-639B-43E8-AF59-10BE1270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F3A438-D441-408A-ABC8-E516251F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3AD475-A185-4FA8-B881-F31F2C4C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1A5DF2-3A4F-471F-BF54-0F7DC785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69BE-BC12-4005-8143-82A36994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C776-107B-4A80-AD49-67B4866D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77D3-7C9F-4254-A4A6-D3B74C08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10D7-4F5A-49A1-B51A-1D18D50B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253F-6F02-4E37-9003-9D45C399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93CF-A439-437A-97EB-3882B9A5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AD97-C2B5-4D45-94D8-FFC59A9C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2740-DB9D-42E7-839B-CEDF3A23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68A9-E99D-4900-8125-13B4F865C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1DF61-019E-4CD4-BB74-3B0F45071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DEB64-409E-466E-8A63-91FFA812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71E4B-927D-480D-BFA9-0D2E83A5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D97DD-89C8-4D8F-8967-31C59FBB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26CE3-04DD-4948-9EED-F2F3A22B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89D3-51EC-46AA-B90C-22033ACE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7BFC8-5B4A-4384-83E9-7E164797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EAF19-F9ED-4468-B28B-F70105B2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8888F-17BE-4729-A5B2-855C4AFC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41C66-7947-4042-B4E7-4E5AC4DC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054A9-2C6F-40F9-AE97-9EC1B074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46664-3B26-4549-8053-B50D468E4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8A257-A83F-4C8E-B2E9-AA9C254F1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24B6C-38FF-4D65-8601-E1E6D4BD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364EA-CB9A-499C-9F28-2C55213A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0F92A-4D73-4352-9375-C13DF9F5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BEC4-05C3-4277-82B7-A008D4C6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3D46A-1265-433C-981A-1F059443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726A9-A87C-4DE7-8AEA-DDA5EFBB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E5778-9B86-4CBB-9F51-28894F79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F78D2-35EF-4C20-9755-9543A597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016E3-FB26-46AF-921F-5A622829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DA208-5FF4-4782-8C6A-A44AEC96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9BCDB-3254-4C8B-A897-4EFA2AAC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E9C32-ACFA-4261-BB6B-00B3EE77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40E16-81D2-4643-BDE8-B86ABDF4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0CF3C-02ED-4835-A260-1F0BD47B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A63C-39EB-4417-AE90-A45AEE8E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F0344-9BD5-463E-BAD8-1F1A5694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13C08-6B44-4B66-A7CF-1BEC4BE5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9F6AA-AAD6-4473-97EB-0B6C4D5E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6DCB4-92E1-4C37-A6B7-36C0CBEF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41F10-D34B-4B90-8BF2-BCC597B4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25F23-7116-499C-A0D0-081F3BAD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7067A-3986-4131-8194-AF7DCBEC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D9BBF-47F0-4F2A-B756-E943849A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A905C-FAD9-48E0-80E5-2DE200CF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5AB63-B70E-44E8-A44D-BCF3B881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4050-570A-4ABE-870A-F4AAB0BF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C8075-70E5-45DE-834C-C04B76EE2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8333D-6C3B-40C0-93D1-EDAC88A7D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92877-1B2E-45D0-88A5-C2ECB2E3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CEE20-2909-4E1E-A10F-30DB9DF9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63A69-F3D2-403E-B48A-C13E1BE3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44403-13CE-42E1-833F-B2B9D633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8C785-69FF-4AF0-94CC-9FB65E6C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44468-E7DD-4964-B09D-A46EFA0B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C8E20-A384-41F2-B45A-1B3DE057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6C4AD-19A4-4577-B912-DB432051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0B4E-ED44-4744-9C90-DEDF49E7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E1737-DB19-4883-9798-52EF6A1B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B5202-B0C3-44D4-B79E-45BBF21C4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6A3E6-169F-45AA-89CB-F2EA3A7FE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F6A26-CED4-4AED-B052-B6D33AB5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821BC-18A5-4B58-9AA2-05D955DD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43B0A-922D-4B20-9128-85BB3D69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D0625-4FC9-4ADD-B135-9462DFF0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53D39-4341-478A-B246-B481E207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B3EF7-7F4B-4FE7-AD0C-65E01117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D0956-7F44-4983-812C-D33C403B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503C-85D5-4855-96F9-1C56DFFE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4A659-1B3D-41BE-8230-7A283493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B4C99-4E72-4DE5-93A9-33D8C385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4C03E-7F91-49FE-9228-8C4BE54C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21719-31A1-4B6E-9E10-BBD4375DC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09BE8-AD49-4CB2-9A2C-164DD125B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0FEC6-9BA9-4029-8374-7DE2A84E5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DA977-0972-44FB-ADCD-EA039B5D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61F55-014E-4386-B32F-DCC5079D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84BAA-0A3E-4779-8F56-BCAACA5B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6062C-9B7B-401E-8E28-AA9015A3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D7D3-9BE3-4F97-875E-CA26BE04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9ADBA-BE26-4CE3-99E7-4D830454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440D9-C223-4346-9B92-D8086D14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C5B11-E960-4555-9599-91FC3603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3121F-FCE0-436B-AACC-67542101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9C923-8D39-4017-976B-EB8FFABE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3CEBB-809F-44A6-AD52-5082661D8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175D8-41E9-41B7-A544-A893332A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E1D26-B06E-4F20-B477-94818C0FD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8EE6E-EE7D-4DF9-825A-CDC21D02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48826-FAAE-44DF-BFB1-14C6C394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03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28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29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F890-A0FF-4A94-8462-A8DE07B5FCE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4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3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3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A1CC-CD0C-4F82-9E31-71D5708344C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91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dt" idx="34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ftr" idx="3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1F3E-89DA-4BA3-95D0-48757F229A4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34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35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3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3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2623-8709-4BCC-890C-C2C25945CA1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79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0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1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2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42EA-12AA-47B4-9CB6-3A260FE7814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23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7E6D-6797-445C-A789-E71A7F8E108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86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87" name="Freeform 16"/>
            <p:cNvSpPr/>
            <p:nvPr/>
          </p:nvSpPr>
          <p:spPr>
            <a:xfrm>
              <a:off x="277560" y="530280"/>
              <a:ext cx="2011680" cy="3076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214200" y="824040"/>
              <a:ext cx="54000" cy="44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701640" y="1019160"/>
              <a:ext cx="6192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>
              <a:off x="1942920" y="1108080"/>
              <a:ext cx="155520" cy="117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1190520" y="1717560"/>
              <a:ext cx="250920" cy="133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1396800" y="1819440"/>
              <a:ext cx="157320" cy="6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1563480" y="186048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1652400" y="1865160"/>
              <a:ext cx="19080" cy="39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1361880" y="522360"/>
              <a:ext cx="285840" cy="139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6" name="Freeform 25"/>
            <p:cNvSpPr/>
            <p:nvPr/>
          </p:nvSpPr>
          <p:spPr>
            <a:xfrm>
              <a:off x="1488960" y="457200"/>
              <a:ext cx="231840" cy="95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7" name="Freeform 26"/>
            <p:cNvSpPr/>
            <p:nvPr/>
          </p:nvSpPr>
          <p:spPr>
            <a:xfrm>
              <a:off x="1814400" y="568440"/>
              <a:ext cx="370080" cy="30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>
              <a:off x="1811160" y="438120"/>
              <a:ext cx="698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>
              <a:off x="1677960" y="549360"/>
              <a:ext cx="102960" cy="66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0" name="Freeform 29"/>
            <p:cNvSpPr/>
            <p:nvPr/>
          </p:nvSpPr>
          <p:spPr>
            <a:xfrm>
              <a:off x="1785960" y="561960"/>
              <a:ext cx="8568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1" name="Freeform 30"/>
            <p:cNvSpPr/>
            <p:nvPr/>
          </p:nvSpPr>
          <p:spPr>
            <a:xfrm>
              <a:off x="1739880" y="504720"/>
              <a:ext cx="101520" cy="54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2" name="Freeform 31"/>
            <p:cNvSpPr/>
            <p:nvPr/>
          </p:nvSpPr>
          <p:spPr>
            <a:xfrm>
              <a:off x="1697040" y="453960"/>
              <a:ext cx="6984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3" name="Freeform 32"/>
            <p:cNvSpPr/>
            <p:nvPr/>
          </p:nvSpPr>
          <p:spPr>
            <a:xfrm>
              <a:off x="1877760" y="458640"/>
              <a:ext cx="181080" cy="122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4" name="Freeform 33"/>
            <p:cNvSpPr/>
            <p:nvPr/>
          </p:nvSpPr>
          <p:spPr>
            <a:xfrm>
              <a:off x="152280" y="847800"/>
              <a:ext cx="396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5" name="Freeform 34"/>
            <p:cNvSpPr/>
            <p:nvPr/>
          </p:nvSpPr>
          <p:spPr>
            <a:xfrm>
              <a:off x="1353960" y="16588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6" name="Freeform 35"/>
            <p:cNvSpPr/>
            <p:nvPr/>
          </p:nvSpPr>
          <p:spPr>
            <a:xfrm>
              <a:off x="1358640" y="16984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7" name="Freeform 36"/>
            <p:cNvSpPr/>
            <p:nvPr/>
          </p:nvSpPr>
          <p:spPr>
            <a:xfrm>
              <a:off x="1682640" y="1908360"/>
              <a:ext cx="23760" cy="18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8" name="Freeform 37"/>
            <p:cNvSpPr/>
            <p:nvPr/>
          </p:nvSpPr>
          <p:spPr>
            <a:xfrm>
              <a:off x="1879560" y="113976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9" name="Freeform 38"/>
            <p:cNvSpPr/>
            <p:nvPr/>
          </p:nvSpPr>
          <p:spPr>
            <a:xfrm>
              <a:off x="1720800" y="81432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0" name="Freeform 39"/>
            <p:cNvSpPr/>
            <p:nvPr/>
          </p:nvSpPr>
          <p:spPr>
            <a:xfrm>
              <a:off x="1823760" y="530280"/>
              <a:ext cx="619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1" name="Freeform 40"/>
            <p:cNvSpPr/>
            <p:nvPr/>
          </p:nvSpPr>
          <p:spPr>
            <a:xfrm>
              <a:off x="1923840" y="70164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2" name="Freeform 41"/>
            <p:cNvSpPr/>
            <p:nvPr/>
          </p:nvSpPr>
          <p:spPr>
            <a:xfrm>
              <a:off x="1949400" y="380880"/>
              <a:ext cx="1104840" cy="549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3" name="Freeform 42"/>
            <p:cNvSpPr/>
            <p:nvPr/>
          </p:nvSpPr>
          <p:spPr>
            <a:xfrm>
              <a:off x="2287440" y="67320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4" name="Freeform 43"/>
            <p:cNvSpPr/>
            <p:nvPr/>
          </p:nvSpPr>
          <p:spPr>
            <a:xfrm>
              <a:off x="2736720" y="777960"/>
              <a:ext cx="20340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5" name="Freeform 44"/>
            <p:cNvSpPr/>
            <p:nvPr/>
          </p:nvSpPr>
          <p:spPr>
            <a:xfrm>
              <a:off x="2896920" y="51912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6" name="Freeform 45"/>
            <p:cNvSpPr/>
            <p:nvPr/>
          </p:nvSpPr>
          <p:spPr>
            <a:xfrm>
              <a:off x="3324240" y="468360"/>
              <a:ext cx="245880" cy="100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7" name="Freeform 46"/>
            <p:cNvSpPr/>
            <p:nvPr/>
          </p:nvSpPr>
          <p:spPr>
            <a:xfrm>
              <a:off x="3477960" y="520560"/>
              <a:ext cx="76320" cy="33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8" name="Freeform 47"/>
            <p:cNvSpPr/>
            <p:nvPr/>
          </p:nvSpPr>
          <p:spPr>
            <a:xfrm>
              <a:off x="3014640" y="952560"/>
              <a:ext cx="172800" cy="209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9" name="Freeform 48"/>
            <p:cNvSpPr/>
            <p:nvPr/>
          </p:nvSpPr>
          <p:spPr>
            <a:xfrm>
              <a:off x="2928960" y="1028880"/>
              <a:ext cx="109440" cy="107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0" name="Freeform 49"/>
            <p:cNvSpPr/>
            <p:nvPr/>
          </p:nvSpPr>
          <p:spPr>
            <a:xfrm>
              <a:off x="5605200" y="2843280"/>
              <a:ext cx="752760" cy="785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1" name="Freeform 50"/>
            <p:cNvSpPr/>
            <p:nvPr/>
          </p:nvSpPr>
          <p:spPr>
            <a:xfrm>
              <a:off x="5838840" y="2428920"/>
              <a:ext cx="506160" cy="333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2" name="Freeform 51"/>
            <p:cNvSpPr/>
            <p:nvPr/>
          </p:nvSpPr>
          <p:spPr>
            <a:xfrm>
              <a:off x="5852880" y="2432160"/>
              <a:ext cx="493920" cy="33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3" name="Freeform 52"/>
            <p:cNvSpPr/>
            <p:nvPr/>
          </p:nvSpPr>
          <p:spPr>
            <a:xfrm>
              <a:off x="6218280" y="3654360"/>
              <a:ext cx="71280" cy="92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4" name="Freeform 53"/>
            <p:cNvSpPr/>
            <p:nvPr/>
          </p:nvSpPr>
          <p:spPr>
            <a:xfrm>
              <a:off x="6433920" y="3511440"/>
              <a:ext cx="260640" cy="135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5" name="Freeform 54"/>
            <p:cNvSpPr/>
            <p:nvPr/>
          </p:nvSpPr>
          <p:spPr>
            <a:xfrm>
              <a:off x="6703920" y="3432240"/>
              <a:ext cx="165240" cy="146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6" name="Freeform 55"/>
            <p:cNvSpPr/>
            <p:nvPr/>
          </p:nvSpPr>
          <p:spPr>
            <a:xfrm>
              <a:off x="6791400" y="3367080"/>
              <a:ext cx="586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7" name="Freeform 56"/>
            <p:cNvSpPr/>
            <p:nvPr/>
          </p:nvSpPr>
          <p:spPr>
            <a:xfrm>
              <a:off x="4056120" y="2595600"/>
              <a:ext cx="195120" cy="31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8" name="Freeform 57"/>
            <p:cNvSpPr/>
            <p:nvPr/>
          </p:nvSpPr>
          <p:spPr>
            <a:xfrm>
              <a:off x="4900680" y="2100240"/>
              <a:ext cx="77760" cy="96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9" name="Freeform 58"/>
            <p:cNvSpPr/>
            <p:nvPr/>
          </p:nvSpPr>
          <p:spPr>
            <a:xfrm>
              <a:off x="5429160" y="2205000"/>
              <a:ext cx="176040" cy="290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0" name="Freeform 59"/>
            <p:cNvSpPr/>
            <p:nvPr/>
          </p:nvSpPr>
          <p:spPr>
            <a:xfrm>
              <a:off x="5279760" y="2114640"/>
              <a:ext cx="114480" cy="217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1" name="Freeform 60"/>
            <p:cNvSpPr/>
            <p:nvPr/>
          </p:nvSpPr>
          <p:spPr>
            <a:xfrm>
              <a:off x="5357880" y="2289240"/>
              <a:ext cx="63360" cy="208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2" name="Freeform 61"/>
            <p:cNvSpPr/>
            <p:nvPr/>
          </p:nvSpPr>
          <p:spPr>
            <a:xfrm>
              <a:off x="5429160" y="2506680"/>
              <a:ext cx="10332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3" name="Freeform 62"/>
            <p:cNvSpPr/>
            <p:nvPr/>
          </p:nvSpPr>
          <p:spPr>
            <a:xfrm>
              <a:off x="5594400" y="2355840"/>
              <a:ext cx="131760" cy="185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4" name="Freeform 63"/>
            <p:cNvSpPr/>
            <p:nvPr/>
          </p:nvSpPr>
          <p:spPr>
            <a:xfrm>
              <a:off x="5549760" y="1692360"/>
              <a:ext cx="34920" cy="112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5" name="Freeform 64"/>
            <p:cNvSpPr/>
            <p:nvPr/>
          </p:nvSpPr>
          <p:spPr>
            <a:xfrm>
              <a:off x="5572080" y="1881360"/>
              <a:ext cx="96840" cy="187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6" name="Freeform 65"/>
            <p:cNvSpPr/>
            <p:nvPr/>
          </p:nvSpPr>
          <p:spPr>
            <a:xfrm>
              <a:off x="5640120" y="2128680"/>
              <a:ext cx="101880" cy="125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7" name="Freeform 66"/>
            <p:cNvSpPr/>
            <p:nvPr/>
          </p:nvSpPr>
          <p:spPr>
            <a:xfrm>
              <a:off x="5761080" y="2352600"/>
              <a:ext cx="45720" cy="77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8" name="Freeform 67"/>
            <p:cNvSpPr/>
            <p:nvPr/>
          </p:nvSpPr>
          <p:spPr>
            <a:xfrm>
              <a:off x="5735520" y="2482920"/>
              <a:ext cx="2844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9" name="Freeform 68"/>
            <p:cNvSpPr/>
            <p:nvPr/>
          </p:nvSpPr>
          <p:spPr>
            <a:xfrm>
              <a:off x="5778360" y="2467080"/>
              <a:ext cx="716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0" name="Freeform 69"/>
            <p:cNvSpPr/>
            <p:nvPr/>
          </p:nvSpPr>
          <p:spPr>
            <a:xfrm>
              <a:off x="5887800" y="2577960"/>
              <a:ext cx="3816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1" name="Freeform 70"/>
            <p:cNvSpPr/>
            <p:nvPr/>
          </p:nvSpPr>
          <p:spPr>
            <a:xfrm>
              <a:off x="6311880" y="2511360"/>
              <a:ext cx="73080" cy="74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2" name="Freeform 71"/>
            <p:cNvSpPr/>
            <p:nvPr/>
          </p:nvSpPr>
          <p:spPr>
            <a:xfrm>
              <a:off x="5681520" y="2604960"/>
              <a:ext cx="73080" cy="79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3" name="Freeform 72"/>
            <p:cNvSpPr/>
            <p:nvPr/>
          </p:nvSpPr>
          <p:spPr>
            <a:xfrm>
              <a:off x="5603760" y="2635200"/>
              <a:ext cx="5076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4" name="Freeform 73"/>
            <p:cNvSpPr/>
            <p:nvPr/>
          </p:nvSpPr>
          <p:spPr>
            <a:xfrm>
              <a:off x="5570280" y="2589120"/>
              <a:ext cx="38160" cy="49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5" name="Freeform 74"/>
            <p:cNvSpPr/>
            <p:nvPr/>
          </p:nvSpPr>
          <p:spPr>
            <a:xfrm>
              <a:off x="5624280" y="2606760"/>
              <a:ext cx="5400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6" name="Freeform 75"/>
            <p:cNvSpPr/>
            <p:nvPr/>
          </p:nvSpPr>
          <p:spPr>
            <a:xfrm>
              <a:off x="5546520" y="2079720"/>
              <a:ext cx="42840" cy="87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7" name="Freeform 76"/>
            <p:cNvSpPr/>
            <p:nvPr/>
          </p:nvSpPr>
          <p:spPr>
            <a:xfrm>
              <a:off x="5627520" y="2065320"/>
              <a:ext cx="30240" cy="87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8" name="Freeform 77"/>
            <p:cNvSpPr/>
            <p:nvPr/>
          </p:nvSpPr>
          <p:spPr>
            <a:xfrm>
              <a:off x="5662440" y="2038320"/>
              <a:ext cx="1584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9" name="Freeform 78"/>
            <p:cNvSpPr/>
            <p:nvPr/>
          </p:nvSpPr>
          <p:spPr>
            <a:xfrm>
              <a:off x="5678280" y="2057400"/>
              <a:ext cx="33480" cy="76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0" name="Freeform 79"/>
            <p:cNvSpPr/>
            <p:nvPr/>
          </p:nvSpPr>
          <p:spPr>
            <a:xfrm>
              <a:off x="5251320" y="2166840"/>
              <a:ext cx="190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1" name="Freeform 80"/>
            <p:cNvSpPr/>
            <p:nvPr/>
          </p:nvSpPr>
          <p:spPr>
            <a:xfrm>
              <a:off x="5235480" y="21304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2" name="Freeform 81"/>
            <p:cNvSpPr/>
            <p:nvPr/>
          </p:nvSpPr>
          <p:spPr>
            <a:xfrm>
              <a:off x="5229000" y="2102040"/>
              <a:ext cx="19080" cy="21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3" name="Freeform 82"/>
            <p:cNvSpPr/>
            <p:nvPr/>
          </p:nvSpPr>
          <p:spPr>
            <a:xfrm>
              <a:off x="5209920" y="2038320"/>
              <a:ext cx="1764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4" name="Freeform 83"/>
            <p:cNvSpPr/>
            <p:nvPr/>
          </p:nvSpPr>
          <p:spPr>
            <a:xfrm>
              <a:off x="5213160" y="2077920"/>
              <a:ext cx="255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5" name="Freeform 84"/>
            <p:cNvSpPr/>
            <p:nvPr/>
          </p:nvSpPr>
          <p:spPr>
            <a:xfrm>
              <a:off x="6540480" y="3067200"/>
              <a:ext cx="71280" cy="95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6" name="Freeform 85"/>
            <p:cNvSpPr/>
            <p:nvPr/>
          </p:nvSpPr>
          <p:spPr>
            <a:xfrm>
              <a:off x="6906960" y="2989440"/>
              <a:ext cx="84240" cy="72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7" name="Freeform 86"/>
            <p:cNvSpPr/>
            <p:nvPr/>
          </p:nvSpPr>
          <p:spPr>
            <a:xfrm>
              <a:off x="6653160" y="2949480"/>
              <a:ext cx="27000" cy="36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8" name="Freeform 87"/>
            <p:cNvSpPr/>
            <p:nvPr/>
          </p:nvSpPr>
          <p:spPr>
            <a:xfrm>
              <a:off x="6640560" y="2914560"/>
              <a:ext cx="31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9" name="Freeform 88"/>
            <p:cNvSpPr/>
            <p:nvPr/>
          </p:nvSpPr>
          <p:spPr>
            <a:xfrm>
              <a:off x="6397560" y="2606760"/>
              <a:ext cx="38160" cy="52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0" name="Freeform 89"/>
            <p:cNvSpPr/>
            <p:nvPr/>
          </p:nvSpPr>
          <p:spPr>
            <a:xfrm>
              <a:off x="6451560" y="2674800"/>
              <a:ext cx="4104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1" name="Freeform 90"/>
            <p:cNvSpPr/>
            <p:nvPr/>
          </p:nvSpPr>
          <p:spPr>
            <a:xfrm>
              <a:off x="6494400" y="2774880"/>
              <a:ext cx="4428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2" name="Freeform 91"/>
            <p:cNvSpPr/>
            <p:nvPr/>
          </p:nvSpPr>
          <p:spPr>
            <a:xfrm>
              <a:off x="6548400" y="2759040"/>
              <a:ext cx="442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3" name="Freeform 92"/>
            <p:cNvSpPr/>
            <p:nvPr/>
          </p:nvSpPr>
          <p:spPr>
            <a:xfrm>
              <a:off x="6532560" y="2701800"/>
              <a:ext cx="4104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4" name="Freeform 93"/>
            <p:cNvSpPr/>
            <p:nvPr/>
          </p:nvSpPr>
          <p:spPr>
            <a:xfrm>
              <a:off x="6491160" y="2662200"/>
              <a:ext cx="41400" cy="55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5" name="Freeform 94"/>
            <p:cNvSpPr/>
            <p:nvPr/>
          </p:nvSpPr>
          <p:spPr>
            <a:xfrm>
              <a:off x="6440400" y="2637000"/>
              <a:ext cx="38160" cy="41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6" name="Freeform 95"/>
            <p:cNvSpPr/>
            <p:nvPr/>
          </p:nvSpPr>
          <p:spPr>
            <a:xfrm>
              <a:off x="6503760" y="2720880"/>
              <a:ext cx="3816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7" name="Freeform 96"/>
            <p:cNvSpPr/>
            <p:nvPr/>
          </p:nvSpPr>
          <p:spPr>
            <a:xfrm>
              <a:off x="3948120" y="539640"/>
              <a:ext cx="223560" cy="171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8" name="Freeform 97"/>
            <p:cNvSpPr/>
            <p:nvPr/>
          </p:nvSpPr>
          <p:spPr>
            <a:xfrm>
              <a:off x="4081320" y="704880"/>
              <a:ext cx="6372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9" name="Freeform 98"/>
            <p:cNvSpPr/>
            <p:nvPr/>
          </p:nvSpPr>
          <p:spPr>
            <a:xfrm>
              <a:off x="4406760" y="457200"/>
              <a:ext cx="6660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0" name="Freeform 99"/>
            <p:cNvSpPr/>
            <p:nvPr/>
          </p:nvSpPr>
          <p:spPr>
            <a:xfrm>
              <a:off x="4454280" y="477720"/>
              <a:ext cx="7956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1" name="Freeform 100"/>
            <p:cNvSpPr/>
            <p:nvPr/>
          </p:nvSpPr>
          <p:spPr>
            <a:xfrm>
              <a:off x="4540320" y="482760"/>
              <a:ext cx="7920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2" name="Freeform 101"/>
            <p:cNvSpPr/>
            <p:nvPr/>
          </p:nvSpPr>
          <p:spPr>
            <a:xfrm>
              <a:off x="5094360" y="525600"/>
              <a:ext cx="139680" cy="4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3" name="Freeform 102"/>
            <p:cNvSpPr/>
            <p:nvPr/>
          </p:nvSpPr>
          <p:spPr>
            <a:xfrm>
              <a:off x="5236920" y="523800"/>
              <a:ext cx="7308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4" name="Freeform 103"/>
            <p:cNvSpPr/>
            <p:nvPr/>
          </p:nvSpPr>
          <p:spPr>
            <a:xfrm>
              <a:off x="5203800" y="569880"/>
              <a:ext cx="58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5" name="Freeform 104"/>
            <p:cNvSpPr/>
            <p:nvPr/>
          </p:nvSpPr>
          <p:spPr>
            <a:xfrm>
              <a:off x="5603760" y="925560"/>
              <a:ext cx="120600" cy="181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6" name="Freeform 105"/>
            <p:cNvSpPr/>
            <p:nvPr/>
          </p:nvSpPr>
          <p:spPr>
            <a:xfrm>
              <a:off x="5700600" y="1112760"/>
              <a:ext cx="87480" cy="123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7" name="Freeform 106"/>
            <p:cNvSpPr/>
            <p:nvPr/>
          </p:nvSpPr>
          <p:spPr>
            <a:xfrm>
              <a:off x="5643360" y="1239840"/>
              <a:ext cx="173160" cy="29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8" name="Freeform 107"/>
            <p:cNvSpPr/>
            <p:nvPr/>
          </p:nvSpPr>
          <p:spPr>
            <a:xfrm>
              <a:off x="3959280" y="439920"/>
              <a:ext cx="82440" cy="47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9" name="Freeform 108"/>
            <p:cNvSpPr/>
            <p:nvPr/>
          </p:nvSpPr>
          <p:spPr>
            <a:xfrm>
              <a:off x="3789360" y="453960"/>
              <a:ext cx="30240" cy="34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0" name="Freeform 109"/>
            <p:cNvSpPr/>
            <p:nvPr/>
          </p:nvSpPr>
          <p:spPr>
            <a:xfrm>
              <a:off x="3827520" y="452520"/>
              <a:ext cx="586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1" name="Freeform 110"/>
            <p:cNvSpPr/>
            <p:nvPr/>
          </p:nvSpPr>
          <p:spPr>
            <a:xfrm>
              <a:off x="3924360" y="438120"/>
              <a:ext cx="31680" cy="25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2" name="Freeform 111"/>
            <p:cNvSpPr/>
            <p:nvPr/>
          </p:nvSpPr>
          <p:spPr>
            <a:xfrm>
              <a:off x="3895560" y="466560"/>
              <a:ext cx="237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3" name="Freeform 112"/>
            <p:cNvSpPr/>
            <p:nvPr/>
          </p:nvSpPr>
          <p:spPr>
            <a:xfrm>
              <a:off x="5705280" y="492120"/>
              <a:ext cx="2880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4" name="Freeform 113"/>
            <p:cNvSpPr/>
            <p:nvPr/>
          </p:nvSpPr>
          <p:spPr>
            <a:xfrm>
              <a:off x="4302000" y="2797200"/>
              <a:ext cx="493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5" name="Freeform 114"/>
            <p:cNvSpPr/>
            <p:nvPr/>
          </p:nvSpPr>
          <p:spPr>
            <a:xfrm>
              <a:off x="4365360" y="278604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6" name="Freeform 115"/>
            <p:cNvSpPr/>
            <p:nvPr/>
          </p:nvSpPr>
          <p:spPr>
            <a:xfrm>
              <a:off x="4259160" y="254160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7" name="Freeform 116"/>
            <p:cNvSpPr/>
            <p:nvPr/>
          </p:nvSpPr>
          <p:spPr>
            <a:xfrm>
              <a:off x="4354560" y="2425680"/>
              <a:ext cx="1728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8" name="Freeform 117"/>
            <p:cNvSpPr/>
            <p:nvPr/>
          </p:nvSpPr>
          <p:spPr>
            <a:xfrm>
              <a:off x="4316400" y="2424240"/>
              <a:ext cx="17280" cy="2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9" name="Freeform 118"/>
            <p:cNvSpPr/>
            <p:nvPr/>
          </p:nvSpPr>
          <p:spPr>
            <a:xfrm>
              <a:off x="4298760" y="245916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0" name="Freeform 119"/>
            <p:cNvSpPr/>
            <p:nvPr/>
          </p:nvSpPr>
          <p:spPr>
            <a:xfrm>
              <a:off x="4259160" y="251316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1" name="Freeform 120"/>
            <p:cNvSpPr/>
            <p:nvPr/>
          </p:nvSpPr>
          <p:spPr>
            <a:xfrm>
              <a:off x="4289400" y="24922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2" name="Freeform 121"/>
            <p:cNvSpPr/>
            <p:nvPr/>
          </p:nvSpPr>
          <p:spPr>
            <a:xfrm>
              <a:off x="3125520" y="923760"/>
              <a:ext cx="16200" cy="24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3" name="Freeform 122"/>
            <p:cNvSpPr/>
            <p:nvPr/>
          </p:nvSpPr>
          <p:spPr>
            <a:xfrm>
              <a:off x="3028680" y="87012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4" name="Freeform 123"/>
            <p:cNvSpPr/>
            <p:nvPr/>
          </p:nvSpPr>
          <p:spPr>
            <a:xfrm>
              <a:off x="2651040" y="525600"/>
              <a:ext cx="3270240" cy="2609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pic>
        <p:nvPicPr>
          <p:cNvPr id="195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7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8"/>
          </p:nvPr>
        </p:nvSpPr>
        <p:spPr>
          <a:xfrm>
            <a:off x="6705720" y="6477120"/>
            <a:ext cx="228600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9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8C5E-A4F7-42E6-9CAA-12B20E59646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39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0"/>
          </p:nvPr>
        </p:nvSpPr>
        <p:spPr>
          <a:xfrm>
            <a:off x="49968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1"/>
          </p:nvPr>
        </p:nvSpPr>
        <p:spPr>
          <a:xfrm>
            <a:off x="3143160" y="6428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185D-EE00-4F12-A288-3BB3CDEA1B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2"/>
          </p:nvPr>
        </p:nvSpPr>
        <p:spPr>
          <a:xfrm>
            <a:off x="657180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83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3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4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9725-CD85-4243-B390-A4682DE9373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2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6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7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5362-64A7-446D-9199-6AB799B88FA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71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9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0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7BD3-BD7A-424D-A27A-287CB2BBF4C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15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2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3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3CC9-0B70-49B5-98AB-DEEF916DC2A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59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15D9-B239-4B09-BB12-330EF7CEF77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6"/>
          <p:cNvSpPr/>
          <p:nvPr/>
        </p:nvSpPr>
        <p:spPr>
          <a:xfrm>
            <a:off x="3708000" y="3929760"/>
            <a:ext cx="2142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黑体"/>
                <a:ea typeface="黑体"/>
              </a:rPr>
              <a:t>清华大学经济管理学院   朱世武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0" name="Rectangle 6"/>
          <p:cNvSpPr/>
          <p:nvPr/>
        </p:nvSpPr>
        <p:spPr>
          <a:xfrm>
            <a:off x="3071880" y="4500720"/>
            <a:ext cx="385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sem.tsinghua.edu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resset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1" name="Rectangle 7"/>
          <p:cNvSpPr/>
          <p:nvPr/>
        </p:nvSpPr>
        <p:spPr>
          <a:xfrm>
            <a:off x="3064680" y="5322600"/>
            <a:ext cx="6116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Zhu Shiwu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School of Economics and Managemen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Tsinghua University </a:t>
            </a: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258920" y="1341000"/>
            <a:ext cx="6624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第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11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章 统计量计算</a:t>
            </a:r>
            <a:endParaRPr b="1" i="1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1071360" y="990360"/>
            <a:ext cx="7615080" cy="53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11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.2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计算并输出相关指标。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cor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Idx000001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pears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pearma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kendal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hoeffd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oppr hipr lopr clpr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Spearman </a:t>
            </a:r>
            <a:r>
              <a:rPr b="0" lang="zh-CN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的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rho, Kendall</a:t>
            </a:r>
            <a:r>
              <a:rPr b="0" lang="zh-CN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的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tau-b, Pearson</a:t>
            </a:r>
            <a:r>
              <a:rPr b="0" lang="zh-CN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和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Hoeffding</a:t>
            </a:r>
            <a:r>
              <a:rPr b="0" lang="zh-CN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相关</a:t>
            </a:r>
            <a:r>
              <a:rPr b="0" lang="zh-CN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cor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Idx000001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cssc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co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oppr hipr lopr 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parti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clpr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偏相关阵</a:t>
            </a:r>
            <a:r>
              <a:rPr b="0" lang="zh-CN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cor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Idx000001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co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alph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out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corrout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oppr hipr lopr 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协方差阵和相关阵</a:t>
            </a:r>
            <a:r>
              <a:rPr b="0" lang="zh-CN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corrout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PROC CORR</a:t>
            </a:r>
            <a:r>
              <a:rPr b="0" lang="zh-CN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产生的输出数据集</a:t>
            </a:r>
            <a:r>
              <a:rPr b="0" lang="zh-CN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计算上证指数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.Idx000001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中变量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OPPR,  HIPR, LOPR, CLPR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之间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4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种类型的关联测度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,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PEARSON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偏相关阵，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CRONBACH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系数并产生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TYPE=CORR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的含有协方差及相关阵的输出数据集。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/>
          </p:nvPr>
        </p:nvSpPr>
        <p:spPr>
          <a:xfrm>
            <a:off x="713880" y="1143000"/>
            <a:ext cx="7929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1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3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计算两个数据集中相同变量之间的相关系数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数据集准备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er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Idx000001(keep=date oppr clpr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sDat.Idx399001(keep=date oppr clpr rename=(oppr=oppr_sz clpr=clpr_sz) 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at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cor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a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nomi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o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oppr_sz clpr_sz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oppr clpr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长方形的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COV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和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CORR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阵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cor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a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o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ssc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ut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oup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从含有缺失值的数据集中计算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CSSCP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和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COV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对上证指数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.Idx00000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和深证成指</a:t>
            </a:r>
            <a:r>
              <a:rPr b="0" lang="da-DK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.IDX39900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中的变量开盘价和收盘价作相应的计算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999720" y="714240"/>
            <a:ext cx="69296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1.4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输出偏相关系数到一个数据集中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fr-FR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nodat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no=</a:t>
            </a:r>
            <a:r>
              <a:rPr b="1" lang="fr-FR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linesize=</a:t>
            </a:r>
            <a:r>
              <a:rPr b="1" lang="fr-FR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20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size=</a:t>
            </a:r>
            <a:r>
              <a:rPr b="1" lang="fr-FR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60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cor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fitnes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spearm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kend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co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nosi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u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fitcorr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weight oxygen runtime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part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ge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ge =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'Age of subject'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eight =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'Wt in kg'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untime = </a:t>
            </a:r>
            <a:r>
              <a:rPr b="0" lang="it-IT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'1.5 mi in minutes'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=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'O2 use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'Partial Correlations for a Fitness and Exercise Study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频数过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600200" y="220932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频数过程（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FREQ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）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用于计算各种形式的频数及一些检验统计量。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13920" y="1928520"/>
            <a:ext cx="7239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频数过程句法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143000" y="2643120"/>
            <a:ext cx="69292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FREQ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option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OUT= SAS-data-set&gt;&lt;output-statistic-list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ABLES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requests / option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EIGH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EXACT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tatistic-keyword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-lis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/>
          </p:nvPr>
        </p:nvSpPr>
        <p:spPr>
          <a:xfrm>
            <a:off x="1600200" y="17521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说明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97" name="Object 2"/>
          <p:cNvGraphicFramePr/>
          <p:nvPr/>
        </p:nvGraphicFramePr>
        <p:xfrm>
          <a:off x="1357200" y="2643120"/>
          <a:ext cx="7309080" cy="184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2643120"/>
                    <a:ext cx="730908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PROC FREQ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928440" y="2133360"/>
            <a:ext cx="7910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FREQ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s;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01" name="Object 2"/>
          <p:cNvGraphicFramePr/>
          <p:nvPr/>
        </p:nvGraphicFramePr>
        <p:xfrm>
          <a:off x="1357200" y="3425760"/>
          <a:ext cx="7194600" cy="171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3425760"/>
                    <a:ext cx="7194600" cy="17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/>
          </p:nvPr>
        </p:nvSpPr>
        <p:spPr>
          <a:xfrm>
            <a:off x="1472760" y="190476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ORDER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及说明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04" name="Object 2"/>
          <p:cNvGraphicFramePr/>
          <p:nvPr/>
        </p:nvGraphicFramePr>
        <p:xfrm>
          <a:off x="1476360" y="2492280"/>
          <a:ext cx="7129440" cy="134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492280"/>
                    <a:ext cx="712944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/>
          </p:nvPr>
        </p:nvSpPr>
        <p:spPr>
          <a:xfrm>
            <a:off x="1285920" y="10713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FORMCHAR(1,2,7)= '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符号串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'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垂直线字符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水平线字符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水平与垂直交叉线字符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通常情况下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FORMCHAR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ORMCHAR(1,2,7)= '| - +'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表格没有轮廓线和分隔线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FORMCHAR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ORMCHAR(1,2,7)= '    ' ;  /*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三个空格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*/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1447920" y="159984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按格式化值的顺序排列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$sfm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M' = 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ale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F ' =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emale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fre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r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formatted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x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$sfm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计算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.CLAS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X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分布，并以格式化值的顺序排列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 Narrow"/>
                <a:ea typeface="宋体"/>
              </a:rPr>
              <a:t>内容提要</a:t>
            </a:r>
            <a:endParaRPr b="1" i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000080" y="2071440"/>
            <a:ext cx="75009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相关过程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频数过程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均值过程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单变量过程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4"/>
          <p:cNvSpPr/>
          <p:nvPr/>
        </p:nvSpPr>
        <p:spPr>
          <a:xfrm>
            <a:off x="1332000" y="1916280"/>
            <a:ext cx="611964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Times New Roman"/>
              </a:rPr>
              <a:t>               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REQ </a:t>
            </a:r>
            <a:r>
              <a:rPr b="0" lang="zh-TW" sz="1800" spc="-1" strike="noStrike">
                <a:solidFill>
                  <a:srgbClr val="080808"/>
                </a:solidFill>
                <a:latin typeface="Times New Roman"/>
              </a:rPr>
              <a:t>过程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Times New Roman"/>
              </a:rPr>
              <a:t>                                               </a:t>
            </a:r>
            <a:r>
              <a:rPr b="0" lang="zh-TW" sz="1800" spc="-1" strike="noStrike">
                <a:solidFill>
                  <a:srgbClr val="080808"/>
                </a:solidFill>
                <a:latin typeface="Times New Roman"/>
              </a:rPr>
              <a:t>累积       累积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Sex         </a:t>
            </a:r>
            <a:r>
              <a:rPr b="0" lang="zh-TW" sz="1800" spc="-1" strike="noStrike">
                <a:solidFill>
                  <a:srgbClr val="080808"/>
                </a:solidFill>
                <a:latin typeface="Times New Roman"/>
              </a:rPr>
              <a:t>频数      百分比       频数      百分比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---------------------------------------------------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emale           9     47.37            9     47.37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male            10     52.63           19    100.0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WEIGHT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157040" y="1781280"/>
            <a:ext cx="6629400" cy="20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WEIGHT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该语句规定一个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WEIGH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，它的值表示相应观测的权数。该变量的值应大于零。若这个值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&lt;0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或缺失，假定该值为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BY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143000" y="171432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BY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variable-lis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对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定义的观测组分别计算其相应的简单统计量。当使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时，要求输入数据集已按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排序的次序排列，除非指定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NOTSORTED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。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OUTPUT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000080" y="1714680"/>
            <a:ext cx="67816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OUT= SAS-data-set&gt;&lt;output-statistic-list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该语句创建一个由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FREQ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输出统计量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创建的数集可以包括由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ABLE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规定的任意统计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FREQ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每一次只允许使用一个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。当规定多个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ABLE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时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创建的数据集内容对应于最后那个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ABLE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，当一个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ABLE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规定多个表时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创建的数据集内容对应于最后那个表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UT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输出数据集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-statistic-lis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输出数据集中所包含的统计量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600200" y="1599840"/>
            <a:ext cx="72388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1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随机数频数分析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int(uniform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888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*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+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=int(uniform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888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*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+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fre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a(drop=i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没有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TABLES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语句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fre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 x*y/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his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fre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*y/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i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7" name="Text Box 4"/>
          <p:cNvSpPr/>
          <p:nvPr/>
        </p:nvSpPr>
        <p:spPr>
          <a:xfrm>
            <a:off x="4429080" y="5072040"/>
            <a:ext cx="380520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例中，产生区间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[0, 1]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上均匀分布的随机数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1000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个，分别将区间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[0, 1]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均分成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和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个小区间，并把产生的随机数按所属区间转换为整数。然后对这些整数作频数分析。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/>
          </p:nvPr>
        </p:nvSpPr>
        <p:spPr>
          <a:xfrm>
            <a:off x="1523520" y="152352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对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ne-Wa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频率表作卡方检验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s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olor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fre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olor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r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dat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e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oun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hair/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c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est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Hair Color of European Childre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/>
          </p:nvPr>
        </p:nvSpPr>
        <p:spPr>
          <a:xfrm>
            <a:off x="1523520" y="1371240"/>
            <a:ext cx="7239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1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创建包含卡方统计量的数据集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odate pageno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fre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olor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r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dat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e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oun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eyes*hair /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his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xpec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ellchi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c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chisqdat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ch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rch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mi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Chi-Square Tests for 3 by 5 Table of Eye and Hair Color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chisqdat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ob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Chi-Square Statistics for Eye and Hair Color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Output Data Set from the FREQ Procedure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42960" y="12139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均值过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600200" y="2209320"/>
            <a:ext cx="6781680" cy="11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均值过程（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MEANS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）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用于计算变量的基本描述统计量。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071720" y="9284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均值过程句法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500120" y="1499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MEANS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option(s)&gt; &lt;statistic-keyword(s)&gt;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DESCENDING&gt; variable-1 &lt;... &lt;DESCENDING&gt; variable-n&gt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NOTSORTED&gt;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LASS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(s) &lt;/ option(s)&gt;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REQ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(s)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OUT=SAS-data-set&gt; &lt;output-statistic-specification(s)&g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id-group-specification(s)&gt; &lt;maximum-id-specification(s)&gt; </a:t>
            </a:r>
            <a:br>
              <a:rPr sz="2000"/>
            </a:b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&lt;minimum-id-specification(s)&gt; &lt;/ option(s)&gt; 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YPES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request(s)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(s) &lt; / WEIGHT=weight-variable&gt;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AYS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list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EIGH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523520" y="91404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说明： 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25" name="Object 2"/>
          <p:cNvGraphicFramePr/>
          <p:nvPr/>
        </p:nvGraphicFramePr>
        <p:xfrm>
          <a:off x="1143000" y="2209680"/>
          <a:ext cx="7467480" cy="240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09680"/>
                    <a:ext cx="746748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42960" y="999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相关过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422000" y="1917360"/>
            <a:ext cx="7010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相关过程（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ORR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）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用于计算变量间的相关系数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Times New Roman"/>
                <a:ea typeface="宋体"/>
              </a:rPr>
              <a:t>相关过程句法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CORR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option(s)&gt;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BY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DESCENDING&gt; variable-1&lt;...&lt;DESCENDING&gt; variable-n&gt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NOTSORTED&gt;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REQ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requency-variable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ARTIAL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(s)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VAR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(s)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WEIGH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weight-variable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WITH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(s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PROC MEANS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285920" y="1980720"/>
            <a:ext cx="7477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MEANS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option-list&gt; &lt;statistic-keyword-list&gt;;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option-lis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9" name="Rectangle 4"/>
          <p:cNvSpPr/>
          <p:nvPr/>
        </p:nvSpPr>
        <p:spPr>
          <a:xfrm>
            <a:off x="0" y="25146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30" name=""/>
          <p:cNvGraphicFramePr/>
          <p:nvPr/>
        </p:nvGraphicFramePr>
        <p:xfrm>
          <a:off x="1476360" y="3213000"/>
          <a:ext cx="6408720" cy="2279880"/>
        </p:xfrm>
        <a:graphic>
          <a:graphicData uri="http://schemas.openxmlformats.org/drawingml/2006/table">
            <a:tbl>
              <a:tblPr/>
              <a:tblGrid>
                <a:gridCol w="1655640"/>
                <a:gridCol w="4753080"/>
              </a:tblGrid>
              <a:tr h="346680">
                <a:tc>
                  <a:txBody>
                    <a:bodyPr lIns="108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ALPHA=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08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0" tIns="72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规定置信区间的显著水平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08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108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ATA=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08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输入数据集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08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108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OPRINT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08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不输出任何描述统计量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08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108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MISSING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08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把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CLASS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变量的缺失值作为有效分组值处理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08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108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ESCENDING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08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108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输出数据集是按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_TYPE_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值降序（缺省是上升）排列，选择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WAY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时该选项无效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08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/>
          </p:nvPr>
        </p:nvSpPr>
        <p:spPr>
          <a:xfrm>
            <a:off x="1371600" y="17521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RDER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及说明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VARDEF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及说明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32" name="Object 2"/>
          <p:cNvGraphicFramePr/>
          <p:nvPr/>
        </p:nvGraphicFramePr>
        <p:xfrm>
          <a:off x="1371600" y="2286000"/>
          <a:ext cx="5715000" cy="113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6000"/>
                    <a:ext cx="571500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4" name="Object 3"/>
          <p:cNvGraphicFramePr/>
          <p:nvPr/>
        </p:nvGraphicFramePr>
        <p:xfrm>
          <a:off x="1500120" y="4357800"/>
          <a:ext cx="5643720" cy="1197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3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00120" y="4357800"/>
                    <a:ext cx="56437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1285920" y="132840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tatistic-keyword-lis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就是均值过程可以计算的描述统计量。规定的关键词可以分为三类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描述统计量关键词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分位数关键词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假设检验关键词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76280" y="85716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其它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574280" y="205704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9a55"/>
                </a:solidFill>
                <a:latin typeface="Times New Roman"/>
                <a:ea typeface="宋体"/>
              </a:rPr>
              <a:t>VAR</a:t>
            </a:r>
            <a:r>
              <a:rPr b="0" lang="zh-CN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-lis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要求计算简单描述统计量的数值变量及次序。缺省时指输入数据集中除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LASS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REQ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EIGH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列出的变量之外所有数值变量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9a55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-lis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对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定义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分别计算其相应的简单统计量。当使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时，要求输入数据集已按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排序的次序排列，除非指定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NOTSORTE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/>
          </p:nvPr>
        </p:nvSpPr>
        <p:spPr>
          <a:xfrm>
            <a:off x="1294920" y="1599840"/>
            <a:ext cx="6782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9a55"/>
                </a:solidFill>
                <a:latin typeface="Times New Roman"/>
                <a:ea typeface="宋体"/>
              </a:rPr>
              <a:t>CLASS</a:t>
            </a:r>
            <a:r>
              <a:rPr b="0" lang="zh-CN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LASS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-lis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该语句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一样，定义的观测组并分别计算观测组的描述统计量。不同点是在排序要求及输出格式上的不同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LAS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不要求输入数据集事先已按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LAS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排序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LAS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可以一起使用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9a55"/>
                </a:solidFill>
                <a:latin typeface="Times New Roman"/>
                <a:ea typeface="宋体"/>
              </a:rPr>
              <a:t>FREQ</a:t>
            </a:r>
            <a:r>
              <a:rPr b="0" lang="zh-CN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REQ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variabl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该语句指定一个数值型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REQ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，它的值表示输入数据集中相应观测出现的频数。该变量的值应为正整数。当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REQ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值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或缺失时，相应的观测不参加计算，若这个值不是正整数，取整数部分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/>
          </p:nvPr>
        </p:nvSpPr>
        <p:spPr>
          <a:xfrm>
            <a:off x="1071360" y="1142640"/>
            <a:ext cx="70866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9a55"/>
                </a:solidFill>
                <a:latin typeface="Times New Roman"/>
                <a:ea typeface="宋体"/>
              </a:rPr>
              <a:t>WEIGHT</a:t>
            </a:r>
            <a:r>
              <a:rPr b="0" lang="zh-CN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EIGHT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variabl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该语句规定一个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EIGH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，其值表示相应观测的权数。该变量的值应大于零。当这个值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0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或缺失时，假定该值为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0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9a55"/>
                </a:solidFill>
                <a:latin typeface="Times New Roman"/>
                <a:ea typeface="宋体"/>
              </a:rPr>
              <a:t>ID</a:t>
            </a:r>
            <a:r>
              <a:rPr b="0" lang="zh-CN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-lis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该语句对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EAN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产生的输出数据集增加一个或几个附加变量，用于识别输出数据集里的观测。在输出数据集里，某个观测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值规定为生成这个观测的数据集中相应观测组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具有的最大值，除非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MEAN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的选项中指定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DMIN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如果有两个以上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，这个最大值的选择是对输入数据集的相应观测组中的每个观测，这些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组合成一个值的最大值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/>
          </p:nvPr>
        </p:nvSpPr>
        <p:spPr>
          <a:xfrm>
            <a:off x="919080" y="1213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9a55"/>
                </a:solidFill>
                <a:latin typeface="Times New Roman"/>
                <a:ea typeface="宋体"/>
              </a:rPr>
              <a:t>OUTPUT</a:t>
            </a:r>
            <a:r>
              <a:rPr b="1" lang="zh-CN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OUT= SAS-data-set&gt; &lt;output-statistic-list&g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MINID|MAXID &lt;(var-1&lt;(id-list-1)&g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...var-n&lt;(id-list-n)&gt;&gt;)&gt;=name-list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该语句要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EAN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把计算的描述统计量输出到新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里，并用任选项规定新数据集的名字及所包含变量的名字列表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71320" y="78588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600200" y="2057040"/>
            <a:ext cx="7238880" cy="30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1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3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分组求均值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sor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mea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a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pri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g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sum_ag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/>
          </p:nvPr>
        </p:nvSpPr>
        <p:spPr>
          <a:xfrm>
            <a:off x="1213920" y="1142640"/>
            <a:ext cx="72392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1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4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计算特定的描述统计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odate pageno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in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mea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ake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e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t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resentScore TasteScore;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Summary of Presentation and Taste Scores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5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计算有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LAS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时的描述统计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mea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grade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axde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atus Year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yp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) status*year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cor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Final Exam Grades for Student Status and Year of Graduatio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/>
          </p:nvPr>
        </p:nvSpPr>
        <p:spPr>
          <a:xfrm>
            <a:off x="1071720" y="1114200"/>
            <a:ext cx="7238880" cy="43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6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LAS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一起使用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odate pageno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in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s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Grade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GradeBySectio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ctio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mea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GradeBySection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edi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ctio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atus Year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cor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Final Exam Scores for Student Status and Year of Graduatio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 Within Each Sectio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1371600" y="19807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说明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78" name="Object 2"/>
          <p:cNvGraphicFramePr/>
          <p:nvPr/>
        </p:nvGraphicFramePr>
        <p:xfrm>
          <a:off x="1403280" y="2643120"/>
          <a:ext cx="6788160" cy="224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643120"/>
                    <a:ext cx="678816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/>
          </p:nvPr>
        </p:nvSpPr>
        <p:spPr>
          <a:xfrm>
            <a:off x="1371600" y="1676160"/>
            <a:ext cx="723888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8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计算输出统计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odate pageno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in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mea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Grade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atus Year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finalgrad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sumstat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e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AverageGrade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dgro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score)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b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name)=BestScore) /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ay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eve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sumstat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ob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Average Undergraduate and Graduate Course Grades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For Two Years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/>
          </p:nvPr>
        </p:nvSpPr>
        <p:spPr>
          <a:xfrm>
            <a:off x="1523520" y="1371240"/>
            <a:ext cx="723924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29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利用输出统计量判别极端值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odate pageno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in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mea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harity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e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chool Year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oneyRaised HoursVolunteered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Prize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ax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MoneyRaised(name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oursVolunteered(name))=MostCash MostTim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Summary of Volunteer Work by School and Year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Priz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Best Results: Most Money Raised and Most Hours Worked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单变量过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600200" y="220932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单变量过程（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UNIVARIATE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）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除了能计算均值过程的基本统计量外，还可以实现的计算和功能有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稳健性估计量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描述变量的分布图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频数表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多项检验。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785880" y="92844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单变量过程句法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356840" y="1499760"/>
            <a:ext cx="7239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UNIVARIATE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option(s)&gt;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DESCENDING&gt; variable-1 &lt;...&lt;DESCENDING&gt; variable-n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NOTSORTED&gt;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CLASS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-1&lt;(variable-option(s))&gt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variable-2&lt;(variable-option(s))&gt;&gt; </a:t>
            </a:r>
            <a:br>
              <a:rPr sz="1800"/>
            </a:b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&lt;/ KEYLEVEL='value1'|('value1' 'value2')&gt;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REQ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HISTOGRAM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variable(s)&gt; &lt;/ option(s)&gt;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(s)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SE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keyword(s)&gt; &lt;/ option(s)&gt;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OUT=SAS-data-set&gt;statistic-keyword-1=name(s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... statistic-keyword-n=name(s)&gt; &lt;percentiles-specification&gt;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ROBPLO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variable(s)&gt; &lt;/ option(s)&gt;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QQPLO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variable(s)&gt; &lt;/ option(s)&gt;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VAR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variable(s)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WEIGH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PROC UNIVARIATE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600200" y="177768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UNIVARIATE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= SAS-datas-et &lt;option-list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VARDEF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及说明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54" name="Object 2"/>
          <p:cNvGraphicFramePr/>
          <p:nvPr/>
        </p:nvGraphicFramePr>
        <p:xfrm>
          <a:off x="1600200" y="2577960"/>
          <a:ext cx="6162840" cy="213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577960"/>
                    <a:ext cx="6162840" cy="21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3"/>
          <p:cNvGraphicFramePr/>
          <p:nvPr/>
        </p:nvGraphicFramePr>
        <p:xfrm>
          <a:off x="1600200" y="5105520"/>
          <a:ext cx="4830840" cy="1181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5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5105520"/>
                    <a:ext cx="483084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其它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500120" y="1928520"/>
            <a:ext cx="6553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9a55"/>
                </a:solidFill>
                <a:latin typeface="Times New Roman"/>
                <a:ea typeface="宋体"/>
              </a:rPr>
              <a:t>VAR</a:t>
            </a:r>
            <a:r>
              <a:rPr b="0" lang="zh-CN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-lis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将要计算描述统计量的数值变量及次序。缺省时，为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, CLASS, ID,FREQ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EIGH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列出的变量之外所有数值变量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9a55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-lis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对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定义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计算统计量。当使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时，要求输入数据集已按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排序的次序排列，除非指定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NOTSORTE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/>
          </p:nvPr>
        </p:nvSpPr>
        <p:spPr>
          <a:xfrm>
            <a:off x="1371240" y="167616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9a55"/>
                </a:solidFill>
                <a:latin typeface="Times New Roman"/>
                <a:ea typeface="宋体"/>
              </a:rPr>
              <a:t>FREQ</a:t>
            </a:r>
            <a:r>
              <a:rPr b="0" lang="zh-CN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REQ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指定一个数值型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REQ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，它的值表示输入数据集中相应观测出现的频数。该变量的值应为正整数。若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REQ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值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或缺失，相应的观测不参加计算统计量，若这个值不是正整数，取整数部分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9a55"/>
                </a:solidFill>
                <a:latin typeface="Times New Roman"/>
                <a:ea typeface="宋体"/>
              </a:rPr>
              <a:t>WEIGHT</a:t>
            </a:r>
            <a:r>
              <a:rPr b="0" lang="zh-CN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EIGH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一个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EIGH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，其值表示相应观测的权数。该变量的值应大于零。若这个值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0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或缺失，假定该值为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0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/>
          </p:nvPr>
        </p:nvSpPr>
        <p:spPr>
          <a:xfrm>
            <a:off x="1371600" y="175212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9a55"/>
                </a:solidFill>
                <a:latin typeface="Times New Roman"/>
                <a:ea typeface="宋体"/>
              </a:rPr>
              <a:t>ID</a:t>
            </a:r>
            <a:r>
              <a:rPr b="0" lang="zh-CN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-lis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对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UNIVARIAT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产生的输出数据集增加一个或几个附加变量，目的在于识别输出数据集里的观测。在输出数据集里，某个观测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值规定为生成这个观测的数据集中相应观测。组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具有的最大值，除非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UNIVARIAT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的选项中指定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DMIN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如果有两个以上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，这个最大值的选择是对输入数据集的相应观测组中的每个观测，这些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组合成一个值的最大值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/>
          </p:nvPr>
        </p:nvSpPr>
        <p:spPr>
          <a:xfrm>
            <a:off x="1371600" y="14479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9a55"/>
                </a:solidFill>
                <a:latin typeface="Times New Roman"/>
                <a:ea typeface="宋体"/>
              </a:rPr>
              <a:t>OUTPUT</a:t>
            </a:r>
            <a:r>
              <a:rPr b="0" lang="zh-CN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OUT=&lt;OUT=SAS-data-set&gt;statistic-keyword-1=name(s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... statistic-keyword-n=name(s)&gt; &lt;percentiles-specification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要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UNIVARIAT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把计算的描述统计量输出到新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里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keyword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为统计量关键词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name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为存放输出统计量的变量名称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tatistic-keyword-lis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就是单变量过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UNIVARIAT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可以计算的描述统计量。规定的关键词可以分为四类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描述统计量关键词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分位数关键词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稳健估计量关键词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假设检验关键词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单变更量过程输出全部均值过程的描述统计量与分位数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42960" y="99972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285920" y="1643040"/>
            <a:ext cx="7238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2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应用单变量过程进行多变量分析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odate pageno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in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7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univari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statepop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itypop_90 citypop_80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United States Census of Population and Housing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23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四舍五入单位并识别极端值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odate pageno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in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univari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statepop freq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ou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extrob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extrv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itypop_90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 stat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United States Census of Population and Housing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71680" y="1285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PROC CORR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071720" y="2428920"/>
            <a:ext cx="69292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CORR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option(s)&gt;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CORR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选项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&lt;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(s)&gt;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说明由下页表给出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/>
          </p:nvPr>
        </p:nvSpPr>
        <p:spPr>
          <a:xfrm>
            <a:off x="1219320" y="1371600"/>
            <a:ext cx="761976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2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多变量时创建输出数据集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odate pageno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in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univari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score1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1 test2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teststat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e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MeanTest1 MeanTest2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t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StdDeviationTest1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ctlp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3.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9.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ctlp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Test1_  Test2_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ctl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Low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teststat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ob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Univariate Statistics for Two College Tests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Output Data Set from PROC UNIVARIATE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/>
          </p:nvPr>
        </p:nvSpPr>
        <p:spPr>
          <a:xfrm>
            <a:off x="1523520" y="1219320"/>
            <a:ext cx="72392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37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拟合密度曲线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odate pageno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in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gop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h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ht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t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b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b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istrdat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r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ormal_x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Normal Random Variable'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ponential_x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Exponential Random Variable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ormal_x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*rannor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312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ponential_x=ranexp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874636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/>
          </p:nvPr>
        </p:nvSpPr>
        <p:spPr>
          <a:xfrm>
            <a:off x="1447920" y="17521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univari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distrdata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ormal_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histo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ormal_x /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rm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barl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grey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100 Obs Sampled from a Normal Distributio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univari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distrdata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Exponential_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histo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/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x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i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fi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yellow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idpoi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.0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o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.5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y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.2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100 Obs Sampled from an Exponential Distributio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Picture 2" descr=""/>
          <p:cNvPicPr/>
          <p:nvPr/>
        </p:nvPicPr>
        <p:blipFill>
          <a:blip r:embed="rId1"/>
          <a:stretch/>
        </p:blipFill>
        <p:spPr>
          <a:xfrm>
            <a:off x="1000080" y="971640"/>
            <a:ext cx="7029360" cy="5600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Picture 2" descr=""/>
          <p:cNvPicPr/>
          <p:nvPr/>
        </p:nvPicPr>
        <p:blipFill>
          <a:blip r:embed="rId1"/>
          <a:stretch/>
        </p:blipFill>
        <p:spPr>
          <a:xfrm>
            <a:off x="1000080" y="900000"/>
            <a:ext cx="7029360" cy="5600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WordArt 2"/>
          <p:cNvSpPr txBox="1"/>
          <p:nvPr/>
        </p:nvSpPr>
        <p:spPr>
          <a:xfrm>
            <a:off x="1214280" y="342900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4ab1e4"/>
                </a:solidFill>
                <a:effectLst>
                  <a:outerShdw dist="53966" dir="2700000" blurRad="0" rotWithShape="0">
                    <a:srgbClr val="080808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4ab1e4"/>
              </a:solidFill>
              <a:effectLst>
                <a:outerShdw dist="53966" dir="2700000" blurRad="0" rotWithShape="0">
                  <a:srgbClr val="080808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143000" y="1071360"/>
            <a:ext cx="7238880" cy="80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1116000" y="2205000"/>
          <a:ext cx="7242120" cy="3510000"/>
        </p:xfrm>
        <a:graphic>
          <a:graphicData uri="http://schemas.openxmlformats.org/drawingml/2006/table">
            <a:tbl>
              <a:tblPr/>
              <a:tblGrid>
                <a:gridCol w="2727360"/>
                <a:gridCol w="4514760"/>
              </a:tblGrid>
              <a:tr h="501840"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ALPHA       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输出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Cronbach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系数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COV 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输出协方差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ATA=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输入数据集名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OPRINT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禁止打印输出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OUTP=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创建存放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Pearson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相关系数的数据集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OUTS=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创建存放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Spearman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相关系数的数据集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PEARSON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输出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Pearson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相关系数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71680" y="107172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其它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999720" y="1980720"/>
            <a:ext cx="7915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VAR</a:t>
            </a:r>
            <a:r>
              <a:rPr b="0" lang="zh-CN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-lis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列出要计算相关系数的变量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WITH</a:t>
            </a:r>
            <a:r>
              <a:rPr b="0" lang="zh-CN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ITH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-lis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该语句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VA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联合使用计算变量间特殊组合的相关系数。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VA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列出的变量放在相关阵的上方，而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ITH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列出的变量放在相关阵左边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PARTIAL</a:t>
            </a:r>
            <a:r>
              <a:rPr b="0" lang="zh-CN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ARTIAL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variable-lis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计算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earso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偏相关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pearma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偏秩序相关，或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Kendal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au-b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该语句给出偏相关变量的名子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/>
          </p:nvPr>
        </p:nvSpPr>
        <p:spPr>
          <a:xfrm>
            <a:off x="928800" y="1123560"/>
            <a:ext cx="75722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WEIGHT</a:t>
            </a:r>
            <a:r>
              <a:rPr b="0" lang="zh-CN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EIGH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计算加权的乘积矩相关系数，该语句给出权数变量名字。该语句用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earson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（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皮尔逊）相关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FREQ</a:t>
            </a:r>
            <a:r>
              <a:rPr b="0" lang="zh-CN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REQ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该语句指定一个数值型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REQ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，它的值表示输入数据集中相应观测出现的频数。该变量的值应为正整数。若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REQ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值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或缺失，相应的观测不参加计算统计量；若这个值不是正整数，取整数部分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BY</a:t>
            </a:r>
            <a:r>
              <a:rPr b="0" lang="zh-CN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variable-lis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对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定义的观测组分别计算其相应的简单统计量。当使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时，要求输入数据集已按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排序的次序排列，除非指定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NOTSORTE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071720" y="1856880"/>
            <a:ext cx="6929280" cy="26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1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计算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earso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相关系数及其它关联测度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co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fitness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ea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pearm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hoeff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weight oxygen runtim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Measures of Association for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a Physical Fitness Study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3:57:00Z</dcterms:created>
  <dc:creator>微软用户</dc:creator>
  <dc:description/>
  <dc:language>en-US</dc:language>
  <cp:lastModifiedBy>RESSET</cp:lastModifiedBy>
  <dcterms:modified xsi:type="dcterms:W3CDTF">2013-02-21T05:41:19Z</dcterms:modified>
  <cp:revision>567</cp:revision>
  <dc:subject/>
  <dc:title>第1章 SAS软件入门</dc:title>
</cp:coreProperties>
</file>