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  <p:sldId id="359" r:id="rId121"/>
    <p:sldId id="360" r:id="rId122"/>
    <p:sldId id="361" r:id="rId123"/>
    <p:sldId id="362" r:id="rId124"/>
    <p:sldId id="363" r:id="rId125"/>
    <p:sldId id="364" r:id="rId126"/>
    <p:sldId id="365" r:id="rId127"/>
    <p:sldId id="366" r:id="rId128"/>
    <p:sldId id="367" r:id="rId129"/>
    <p:sldId id="368" r:id="rId130"/>
    <p:sldId id="369" r:id="rId131"/>
    <p:sldId id="370" r:id="rId132"/>
    <p:sldId id="371" r:id="rId133"/>
    <p:sldId id="372" r:id="rId134"/>
    <p:sldId id="373" r:id="rId135"/>
    <p:sldId id="374" r:id="rId136"/>
    <p:sldId id="375" r:id="rId137"/>
    <p:sldId id="376" r:id="rId138"/>
    <p:sldId id="377" r:id="rId139"/>
    <p:sldId id="378" r:id="rId140"/>
    <p:sldId id="379" r:id="rId141"/>
    <p:sldId id="380" r:id="rId142"/>
    <p:sldId id="381" r:id="rId143"/>
    <p:sldId id="382" r:id="rId144"/>
    <p:sldId id="383" r:id="rId145"/>
    <p:sldId id="384" r:id="rId146"/>
    <p:sldId id="385" r:id="rId147"/>
    <p:sldId id="386" r:id="rId148"/>
    <p:sldId id="387" r:id="rId149"/>
    <p:sldId id="388" r:id="rId150"/>
    <p:sldId id="389" r:id="rId151"/>
    <p:sldId id="390" r:id="rId152"/>
    <p:sldId id="391" r:id="rId153"/>
    <p:sldId id="392" r:id="rId154"/>
    <p:sldId id="393" r:id="rId155"/>
    <p:sldId id="394" r:id="rId156"/>
    <p:sldId id="395" r:id="rId157"/>
    <p:sldId id="396" r:id="rId158"/>
    <p:sldId id="397" r:id="rId159"/>
    <p:sldId id="398" r:id="rId160"/>
    <p:sldId id="399" r:id="rId161"/>
    <p:sldId id="400" r:id="rId162"/>
    <p:sldId id="401" r:id="rId163"/>
    <p:sldId id="402" r:id="rId164"/>
    <p:sldId id="403" r:id="rId165"/>
    <p:sldId id="404" r:id="rId166"/>
    <p:sldId id="405" r:id="rId167"/>
    <p:sldId id="406" r:id="rId168"/>
    <p:sldId id="407" r:id="rId169"/>
    <p:sldId id="408" r:id="rId170"/>
    <p:sldId id="409" r:id="rId171"/>
    <p:sldId id="410" r:id="rId172"/>
    <p:sldId id="411" r:id="rId173"/>
    <p:sldId id="412" r:id="rId174"/>
    <p:sldId id="413" r:id="rId175"/>
    <p:sldId id="414" r:id="rId176"/>
    <p:sldId id="415" r:id="rId177"/>
    <p:sldId id="416" r:id="rId178"/>
    <p:sldId id="417" r:id="rId179"/>
    <p:sldId id="418" r:id="rId180"/>
    <p:sldId id="419" r:id="rId181"/>
    <p:sldId id="420" r:id="rId182"/>
    <p:sldId id="421" r:id="rId183"/>
    <p:sldId id="422" r:id="rId184"/>
    <p:sldId id="423" r:id="rId185"/>
    <p:sldId id="424" r:id="rId186"/>
    <p:sldId id="425" r:id="rId187"/>
    <p:sldId id="426" r:id="rId188"/>
    <p:sldId id="427" r:id="rId189"/>
    <p:sldId id="428" r:id="rId190"/>
    <p:sldId id="429" r:id="rId191"/>
    <p:sldId id="430" r:id="rId192"/>
    <p:sldId id="431" r:id="rId193"/>
    <p:sldId id="432" r:id="rId194"/>
    <p:sldId id="433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slide" Target="slides/slide104.xml"/><Relationship Id="rId122" Type="http://schemas.openxmlformats.org/officeDocument/2006/relationships/slide" Target="slides/slide105.xml"/><Relationship Id="rId123" Type="http://schemas.openxmlformats.org/officeDocument/2006/relationships/slide" Target="slides/slide106.xml"/><Relationship Id="rId124" Type="http://schemas.openxmlformats.org/officeDocument/2006/relationships/slide" Target="slides/slide107.xml"/><Relationship Id="rId125" Type="http://schemas.openxmlformats.org/officeDocument/2006/relationships/slide" Target="slides/slide108.xml"/><Relationship Id="rId126" Type="http://schemas.openxmlformats.org/officeDocument/2006/relationships/slide" Target="slides/slide109.xml"/><Relationship Id="rId127" Type="http://schemas.openxmlformats.org/officeDocument/2006/relationships/slide" Target="slides/slide110.xml"/><Relationship Id="rId128" Type="http://schemas.openxmlformats.org/officeDocument/2006/relationships/slide" Target="slides/slide111.xml"/><Relationship Id="rId129" Type="http://schemas.openxmlformats.org/officeDocument/2006/relationships/slide" Target="slides/slide112.xml"/><Relationship Id="rId130" Type="http://schemas.openxmlformats.org/officeDocument/2006/relationships/slide" Target="slides/slide113.xml"/><Relationship Id="rId131" Type="http://schemas.openxmlformats.org/officeDocument/2006/relationships/slide" Target="slides/slide114.xml"/><Relationship Id="rId132" Type="http://schemas.openxmlformats.org/officeDocument/2006/relationships/slide" Target="slides/slide115.xml"/><Relationship Id="rId133" Type="http://schemas.openxmlformats.org/officeDocument/2006/relationships/slide" Target="slides/slide116.xml"/><Relationship Id="rId134" Type="http://schemas.openxmlformats.org/officeDocument/2006/relationships/slide" Target="slides/slide117.xml"/><Relationship Id="rId135" Type="http://schemas.openxmlformats.org/officeDocument/2006/relationships/slide" Target="slides/slide118.xml"/><Relationship Id="rId136" Type="http://schemas.openxmlformats.org/officeDocument/2006/relationships/slide" Target="slides/slide119.xml"/><Relationship Id="rId137" Type="http://schemas.openxmlformats.org/officeDocument/2006/relationships/slide" Target="slides/slide120.xml"/><Relationship Id="rId138" Type="http://schemas.openxmlformats.org/officeDocument/2006/relationships/slide" Target="slides/slide121.xml"/><Relationship Id="rId139" Type="http://schemas.openxmlformats.org/officeDocument/2006/relationships/slide" Target="slides/slide122.xml"/><Relationship Id="rId140" Type="http://schemas.openxmlformats.org/officeDocument/2006/relationships/slide" Target="slides/slide123.xml"/><Relationship Id="rId141" Type="http://schemas.openxmlformats.org/officeDocument/2006/relationships/slide" Target="slides/slide124.xml"/><Relationship Id="rId142" Type="http://schemas.openxmlformats.org/officeDocument/2006/relationships/slide" Target="slides/slide125.xml"/><Relationship Id="rId143" Type="http://schemas.openxmlformats.org/officeDocument/2006/relationships/slide" Target="slides/slide126.xml"/><Relationship Id="rId144" Type="http://schemas.openxmlformats.org/officeDocument/2006/relationships/slide" Target="slides/slide127.xml"/><Relationship Id="rId145" Type="http://schemas.openxmlformats.org/officeDocument/2006/relationships/slide" Target="slides/slide128.xml"/><Relationship Id="rId146" Type="http://schemas.openxmlformats.org/officeDocument/2006/relationships/slide" Target="slides/slide129.xml"/><Relationship Id="rId147" Type="http://schemas.openxmlformats.org/officeDocument/2006/relationships/slide" Target="slides/slide130.xml"/><Relationship Id="rId148" Type="http://schemas.openxmlformats.org/officeDocument/2006/relationships/slide" Target="slides/slide131.xml"/><Relationship Id="rId149" Type="http://schemas.openxmlformats.org/officeDocument/2006/relationships/slide" Target="slides/slide132.xml"/><Relationship Id="rId150" Type="http://schemas.openxmlformats.org/officeDocument/2006/relationships/slide" Target="slides/slide133.xml"/><Relationship Id="rId151" Type="http://schemas.openxmlformats.org/officeDocument/2006/relationships/slide" Target="slides/slide134.xml"/><Relationship Id="rId152" Type="http://schemas.openxmlformats.org/officeDocument/2006/relationships/slide" Target="slides/slide135.xml"/><Relationship Id="rId153" Type="http://schemas.openxmlformats.org/officeDocument/2006/relationships/slide" Target="slides/slide136.xml"/><Relationship Id="rId154" Type="http://schemas.openxmlformats.org/officeDocument/2006/relationships/slide" Target="slides/slide137.xml"/><Relationship Id="rId155" Type="http://schemas.openxmlformats.org/officeDocument/2006/relationships/slide" Target="slides/slide138.xml"/><Relationship Id="rId156" Type="http://schemas.openxmlformats.org/officeDocument/2006/relationships/slide" Target="slides/slide139.xml"/><Relationship Id="rId157" Type="http://schemas.openxmlformats.org/officeDocument/2006/relationships/slide" Target="slides/slide140.xml"/><Relationship Id="rId158" Type="http://schemas.openxmlformats.org/officeDocument/2006/relationships/slide" Target="slides/slide141.xml"/><Relationship Id="rId159" Type="http://schemas.openxmlformats.org/officeDocument/2006/relationships/slide" Target="slides/slide142.xml"/><Relationship Id="rId160" Type="http://schemas.openxmlformats.org/officeDocument/2006/relationships/slide" Target="slides/slide143.xml"/><Relationship Id="rId161" Type="http://schemas.openxmlformats.org/officeDocument/2006/relationships/slide" Target="slides/slide144.xml"/><Relationship Id="rId162" Type="http://schemas.openxmlformats.org/officeDocument/2006/relationships/slide" Target="slides/slide145.xml"/><Relationship Id="rId163" Type="http://schemas.openxmlformats.org/officeDocument/2006/relationships/slide" Target="slides/slide146.xml"/><Relationship Id="rId164" Type="http://schemas.openxmlformats.org/officeDocument/2006/relationships/slide" Target="slides/slide147.xml"/><Relationship Id="rId165" Type="http://schemas.openxmlformats.org/officeDocument/2006/relationships/slide" Target="slides/slide148.xml"/><Relationship Id="rId166" Type="http://schemas.openxmlformats.org/officeDocument/2006/relationships/slide" Target="slides/slide149.xml"/><Relationship Id="rId167" Type="http://schemas.openxmlformats.org/officeDocument/2006/relationships/slide" Target="slides/slide150.xml"/><Relationship Id="rId168" Type="http://schemas.openxmlformats.org/officeDocument/2006/relationships/slide" Target="slides/slide151.xml"/><Relationship Id="rId169" Type="http://schemas.openxmlformats.org/officeDocument/2006/relationships/slide" Target="slides/slide152.xml"/><Relationship Id="rId170" Type="http://schemas.openxmlformats.org/officeDocument/2006/relationships/slide" Target="slides/slide153.xml"/><Relationship Id="rId171" Type="http://schemas.openxmlformats.org/officeDocument/2006/relationships/slide" Target="slides/slide154.xml"/><Relationship Id="rId172" Type="http://schemas.openxmlformats.org/officeDocument/2006/relationships/slide" Target="slides/slide155.xml"/><Relationship Id="rId173" Type="http://schemas.openxmlformats.org/officeDocument/2006/relationships/slide" Target="slides/slide156.xml"/><Relationship Id="rId174" Type="http://schemas.openxmlformats.org/officeDocument/2006/relationships/slide" Target="slides/slide157.xml"/><Relationship Id="rId175" Type="http://schemas.openxmlformats.org/officeDocument/2006/relationships/slide" Target="slides/slide158.xml"/><Relationship Id="rId176" Type="http://schemas.openxmlformats.org/officeDocument/2006/relationships/slide" Target="slides/slide159.xml"/><Relationship Id="rId177" Type="http://schemas.openxmlformats.org/officeDocument/2006/relationships/slide" Target="slides/slide160.xml"/><Relationship Id="rId178" Type="http://schemas.openxmlformats.org/officeDocument/2006/relationships/slide" Target="slides/slide161.xml"/><Relationship Id="rId179" Type="http://schemas.openxmlformats.org/officeDocument/2006/relationships/slide" Target="slides/slide162.xml"/><Relationship Id="rId180" Type="http://schemas.openxmlformats.org/officeDocument/2006/relationships/slide" Target="slides/slide163.xml"/><Relationship Id="rId181" Type="http://schemas.openxmlformats.org/officeDocument/2006/relationships/slide" Target="slides/slide164.xml"/><Relationship Id="rId182" Type="http://schemas.openxmlformats.org/officeDocument/2006/relationships/slide" Target="slides/slide165.xml"/><Relationship Id="rId183" Type="http://schemas.openxmlformats.org/officeDocument/2006/relationships/slide" Target="slides/slide166.xml"/><Relationship Id="rId184" Type="http://schemas.openxmlformats.org/officeDocument/2006/relationships/slide" Target="slides/slide167.xml"/><Relationship Id="rId185" Type="http://schemas.openxmlformats.org/officeDocument/2006/relationships/slide" Target="slides/slide168.xml"/><Relationship Id="rId186" Type="http://schemas.openxmlformats.org/officeDocument/2006/relationships/slide" Target="slides/slide169.xml"/><Relationship Id="rId187" Type="http://schemas.openxmlformats.org/officeDocument/2006/relationships/slide" Target="slides/slide170.xml"/><Relationship Id="rId188" Type="http://schemas.openxmlformats.org/officeDocument/2006/relationships/slide" Target="slides/slide171.xml"/><Relationship Id="rId189" Type="http://schemas.openxmlformats.org/officeDocument/2006/relationships/slide" Target="slides/slide172.xml"/><Relationship Id="rId190" Type="http://schemas.openxmlformats.org/officeDocument/2006/relationships/slide" Target="slides/slide173.xml"/><Relationship Id="rId191" Type="http://schemas.openxmlformats.org/officeDocument/2006/relationships/slide" Target="slides/slide174.xml"/><Relationship Id="rId192" Type="http://schemas.openxmlformats.org/officeDocument/2006/relationships/slide" Target="slides/slide175.xml"/><Relationship Id="rId193" Type="http://schemas.openxmlformats.org/officeDocument/2006/relationships/slide" Target="slides/slide176.xml"/><Relationship Id="rId194" Type="http://schemas.openxmlformats.org/officeDocument/2006/relationships/slide" Target="slides/slide177.xml"/><Relationship Id="rId195" Type="http://schemas.openxmlformats.org/officeDocument/2006/relationships/slide" Target="slides/slide178.xml"/><Relationship Id="rId1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7E0C-CED4-4EA1-9DA8-6D0D220789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EC2-C081-45AC-8857-44287F3FB74E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9B9-DDB4-49AA-A95A-6104D663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088-72F1-40E5-A468-BE939CF7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BAE23-5EB4-423A-A865-41AC0348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9524D-3DD3-4A45-A7C9-D852FDC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DEB3-C521-4B33-8DA7-A69CB9D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EBBDD-691B-4433-A45B-0F864EA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5FC71-ACBE-422D-A741-2E33DF4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A3E1B-D8AD-465E-BC9B-2C4BF84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36B5E-C7CB-4753-B415-3D85B50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C7E60-023C-40AF-8EF4-8405286A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FD76E-BC23-4A4F-A143-FDA1EAF1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E4B92-EC2C-4775-A3EA-F3BB21C2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CB2-C105-4E2D-A882-1DCDD966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3F3FA-D2AF-4118-8137-8A5168F6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CFE1D-930A-4BFF-ACC0-CFE392C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3D75E-544A-4052-A1AE-281115FC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39A01-84EF-4387-B50B-3F2F3B2D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9190F-F4DE-4BCD-9FF1-7DCEECFB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7E8E3-9C1D-4D62-83AE-D753FB1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EC0EC-FC98-4080-93D3-9420737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FFC12-FA3D-4336-B1BB-6ACD25FD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A0F4E-75C5-48E3-8D47-20021614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41AB4-746F-4720-9070-8109AEC5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860-DC86-4E17-A665-09F60CC6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5154F-13C4-456C-8AE3-FDDC2F50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B29B-D609-45C1-A2F4-B9703F7F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166EE-439C-4929-80F5-EA1E23C5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BF6C-C441-4D58-8D66-7D821C1D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2F406-97C1-486C-B319-5EA88B9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0ECA2-E69D-4A71-9A11-FF25FB69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0478D-33D8-46AA-905E-C543592F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F6124-ED6C-40D6-BCFC-5E69EA8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BEB0C-848B-4FEA-8723-3F1978C2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9BCE9-171D-458E-A644-17FE478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41FE-B37C-4244-881F-4369DA60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595DB-4AD4-4268-8EDE-84A7FF11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C7138-1AB9-42B0-80C4-6440C904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68C2D-92A7-4C15-A372-C0C8D86E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D84A6-6D1B-45CE-BE6A-0A0CC77C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CAFBC-182F-4652-B232-5FB3A97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B2C1A-00AC-4C05-A425-FEBB2501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E4E84-17D5-4579-ABAF-5421B6E6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2425B-0CC2-4C13-9AD5-C3FC103B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4DBFF-2576-4731-BA22-9E6148B4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79DBB-2E66-4762-8A43-81A99B18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2A4F-B28A-455C-AF85-A23B1C0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7B23F-2CA5-42FD-A034-69BAB0D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9463E-DE31-4871-976C-297C576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71FE4-98D6-44C2-BD42-ACB44B1C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BF731-2363-4B23-B5A5-BA28881B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FC78E-A321-475D-8BF3-D3255F82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80C51-D740-45F5-87DF-869D1807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FDB31-3016-4911-9D72-DAE26723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CFDAF-EB7B-49A3-8884-1628DB11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2DEE4-BF0A-4C40-B5DA-F9E7B0D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1DAFE-EAE7-44AE-AC5A-3C7C68B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15C6-31B6-431F-A6A7-EB7F0172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3279E-FEBA-4030-B668-FBE2EAAE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A6AFE-7CB8-45E4-82CF-38AB4A6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B6FA1-85F1-49D9-BBF3-8DAFBF0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8F313-6F86-4011-96D4-53B0430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F30EF-F2FA-4E2B-8593-CEFF5D8A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46B9B-763E-48E6-95C4-F22C7E9A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F832E-C20D-4EE6-B1E1-38A87504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CE50A-E98F-4F89-A1E0-88CB8063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F7595-95FD-4876-A932-737DEEF5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76147-038B-4865-B98A-160322A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B764-AF5A-421A-A4F0-B0B99CE1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1C8E1-8AC2-4886-9BFF-2207CCF3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063CF-F550-4AEC-A047-2E17A0D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48F1B-23C3-4899-84B7-C6B8FC7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C3440-7A8C-4FE8-8CAD-AF2E9D7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835E6-618F-4585-8BC8-0528E7EA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55E49-F536-447F-B5B8-9A5DEBB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02849-AE85-4263-83F2-54DD4B7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E0AF7-7B0A-461A-8B7B-50225441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9A79F-55F9-418D-8003-FB6C4A15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199-0527-49FF-B940-01D8F5E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3A71-8033-405A-81A4-9B91E93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3717-CA5D-4AA7-922E-D98D028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47F-7241-480A-B08A-1A0AFC2D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D9E8-ADF0-4F7E-A8D3-636653D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DFDC-9BC9-467B-85EC-7279046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E9FC-DD29-4CA3-AA12-F2CB5B3A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4B1-2183-44EF-9C36-2A6706F9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41FA-0CE9-4F12-9CBA-B28D76BD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9E3E-7E86-4AAB-A710-00C28F8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3D3F-0073-4CA5-9E7E-16ECB3D3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1165-5161-48DA-8D58-AD135A6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8198-F29D-4364-AC0A-891A49D2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C76F-83F9-4787-8614-81D84125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050-0C84-4082-A346-DF656C3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E749-FED4-473F-87C2-86A506D3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4A68-1EB6-4310-B49D-F82285E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8E66-4172-4CDC-AFC6-69BB757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D47F-C752-4C77-9F3A-674F19D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4C8F-4332-4FF4-AB9E-3552B8B0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0048-CC24-4CB3-8192-9687461F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2F1C-DCCA-47ED-85BA-D07E450C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B911-4A50-4819-993E-F4A835DC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AED1-BAB5-42F3-9C70-91E59971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7A36-C6CB-4338-B3AA-413CAB25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F9E-6946-4544-8CDF-87C338F3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73F3-9B06-410D-8848-4F408AB0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38E0-6264-430C-83B8-A6817F9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C69B-64CF-4581-851E-1E5A9E77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FB33-B7A2-4942-86A8-10DE2AF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DF26-158A-4CFC-954F-0AA86C9F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3E7C-FBE4-4A72-81D2-8057D51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FD2D-9C5E-43EC-A9CB-7C97B60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A22D-D83C-4DAC-92EB-EDB6E6D7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74A2-D8FD-4EAD-8607-9161AA90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52CF-CB69-419E-B9E7-0183479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2AC-8C19-4FAB-B248-C269727E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4463-B3A5-473F-B689-1163FDE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170FF-92E6-43EB-8ED7-5BC63E18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4233-7240-4122-9161-AB465F5A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1E34-E628-436B-9E8E-7667D284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66E92-8F3E-4B0A-822F-5EA2FE5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308F-945C-43D3-A660-B0B1A50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EBA7-90B4-4E5F-9B1E-CD4F57C7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2794-2096-4AA6-B2F1-682C237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E665-FB84-4FD4-817D-347D86E6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2FE0-3F66-4B36-89AF-BC81BD1E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012-C58D-4F01-BB1D-6C94F7EF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ED4E-DB4B-4B67-9836-BD12573F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25C0-CA92-4EB9-AE30-9E4D97A0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F475-258D-49BA-9D75-991A23A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D0C1-B6B2-43D1-8AD5-4FC0F621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44B7B-A9A4-42AB-8C87-016E53B9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5D82-E6FB-4B47-94D0-3A4629D7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BB77-FDD9-46A7-9042-6D58E261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F3E0-3EF8-435D-AA2E-C8BA67D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8E7F-655D-493E-92D7-78B13EE1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3B16A-9F9B-4475-B13F-F63B076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D84-E13C-43DF-A1C4-06B4A54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42FE-E504-40B1-926C-C5AB66F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40B4-D530-4C89-98A2-9003E851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7147-3911-43EC-838B-AEC48E25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3182-9514-4AF7-94B2-8AC555C2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21B9-940E-4B57-852F-B3D33859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B0D7-6966-4887-9FA8-07147F0C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F883-F17F-4492-AE1A-2DAF278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5239-05C0-433C-8062-919C85C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356E6-9125-4952-B64F-27DAB4E1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A8E1-DF2D-430B-82FF-ABAE9FE0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7EF-84CA-4564-B571-FF2C9ABB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05258-E360-42E6-BC80-1BB343A1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4886-8663-4B7D-B26E-9133C41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A154-9989-41F8-AD05-9BE1FEF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40C0-B831-439D-B389-96DB477E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54FA7-7E57-4F82-AF71-EBAD0EB1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7CBF-D4F4-4403-872A-354AB909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8E3B-BF9D-4A4D-BC55-EA46CD0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8A9C-BF8E-4FD5-8C6E-83EE2F8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2D6E-E91E-4DC3-B7C7-5AEBA8A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5A0D2-D703-400E-80CF-91D73D69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29F-14CB-4BD2-B99D-081E48AA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C0A2-3254-4762-929E-6BD5B08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C2275-99DA-418E-9AF8-43E47077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96841-5566-4226-BE67-ED2D55D6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C2993-A831-481B-8C2F-9C87ADD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A858-472B-4BDB-8D69-13C0167A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FAE7-BB20-4140-BBA0-0C4E697C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73644-98F5-4F1B-B78B-CA47797D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1A9A2-D694-462C-9A5B-5538E9C1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41376-5C43-4C4C-967E-821EBE7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69B26-5E7B-448F-9E4A-0BA00B0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5DED-DA03-4B6C-8207-534F24D409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ACC-34DC-41DD-8DCE-511BBF0E5B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A7E-FBCF-41EB-9990-38F76B1098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1D4-7CF4-4F7F-8925-7EF5D35EA4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9E6E-8AB0-4622-9F80-D4925DFF8E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DE13-D941-4EF6-A63F-E475A1920F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3C4-D780-44F2-92F1-BA696AE1D8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5F1-74CA-4ED1-8B96-4F8CC1127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C7C5-DDF0-4A2A-8074-9BE9F474F6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C64F-D26E-4CD4-8C05-CF48CE3F05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61D4-1938-410B-B8CB-02E8D57286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9980-0D18-4DFF-9447-4BC07CB0EF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8C68-81F4-4F38-983C-451C2BCCEE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5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步数据处理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+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累加语句累加表达式结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235520" y="29289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6" name="Object 5"/>
          <p:cNvGraphicFramePr/>
          <p:nvPr/>
        </p:nvGraphicFramePr>
        <p:xfrm>
          <a:off x="1357200" y="3786120"/>
          <a:ext cx="4496040" cy="9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786120"/>
                    <a:ext cx="4496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4"/>
          <p:cNvSpPr/>
          <p:nvPr/>
        </p:nvSpPr>
        <p:spPr>
          <a:xfrm>
            <a:off x="1143000" y="1428840"/>
            <a:ext cx="6913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.5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建立临时数组元素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如下程序，则会产生新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1,t2,t3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临时数组，则不会产生新变量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temporary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1403280" y="1700280"/>
          <a:ext cx="6193080" cy="1950840"/>
        </p:xfrm>
        <a:graphic>
          <a:graphicData uri="http://schemas.openxmlformats.org/drawingml/2006/table">
            <a:tbl>
              <a:tblPr/>
              <a:tblGrid>
                <a:gridCol w="889200"/>
                <a:gridCol w="728640"/>
                <a:gridCol w="730080"/>
                <a:gridCol w="730440"/>
                <a:gridCol w="730080"/>
                <a:gridCol w="728640"/>
                <a:gridCol w="730440"/>
                <a:gridCol w="9255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1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Rectangle 139"/>
          <p:cNvSpPr/>
          <p:nvPr/>
        </p:nvSpPr>
        <p:spPr>
          <a:xfrm>
            <a:off x="1821600" y="40053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使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92" name="Rectangle 144"/>
          <p:cNvSpPr/>
          <p:nvPr/>
        </p:nvSpPr>
        <p:spPr>
          <a:xfrm>
            <a:off x="1821600" y="12682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1428840" y="4429080"/>
          <a:ext cx="4071960" cy="1951200"/>
        </p:xfrm>
        <a:graphic>
          <a:graphicData uri="http://schemas.openxmlformats.org/drawingml/2006/table">
            <a:tbl>
              <a:tblPr/>
              <a:tblGrid>
                <a:gridCol w="950760"/>
                <a:gridCol w="779400"/>
                <a:gridCol w="779760"/>
                <a:gridCol w="780840"/>
                <a:gridCol w="781200"/>
              </a:tblGrid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初始值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57160" y="1714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和初值通过对应位置来确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t1 t2 t3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b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第一个语句数组元素的个数与初值的个数相同，把初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,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依次赋给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,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个语句分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1,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数组元素比给出的初始值多，多余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缺失值，而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将发布一个警告信息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数组例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ain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x1-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b(*)x y z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[*]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temporary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s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d1-d7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green red denato  fetze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test1-test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显式下标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85920" y="1714680"/>
            <a:ext cx="7238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凡是可用表达式的地方，都可以使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下标引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e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a1-qa10 qb1-qb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qa1-qa5 qb1-qb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 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 1 6 1 1 1 1 1 1 8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，即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4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组的定义仅在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有效。如果想在几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引用同一个数组，必须在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都定义这个数组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4"/>
          <p:cNvSpPr/>
          <p:nvPr/>
        </p:nvSpPr>
        <p:spPr>
          <a:xfrm>
            <a:off x="1357200" y="1285920"/>
            <a:ext cx="6624720" cy="384084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data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input qa1-qa10 qb1-qb10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    array test{10} qa1-qa5 qb1-qb5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 put test{4}=  test{6}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    car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qa4=6 qb1=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ORK.NEW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实际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7  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组中引用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57160" y="192852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数组元素的下标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组循环变量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hen 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组元素的下标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于是循环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就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依次检查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并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3"/>
          <p:cNvSpPr/>
          <p:nvPr/>
        </p:nvSpPr>
        <p:spPr>
          <a:xfrm>
            <a:off x="1000080" y="157176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数组的一些特殊元素作为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范围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中，处理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中选定的一些特殊元素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128592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里处理多个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(*)d1-d4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m(da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y(i)=day(i)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得到数组中元素的个数。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时，这个上界会根据数组元素个数的实际情况自动调整，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的所有语句都不必改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1356840" y="16426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规定上下界的一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year76-year8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(yrs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(yr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是等价的。第二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下界，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界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准则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变量的观测被读入之前，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的计算结果为缺失值时，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替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可以使用比较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+(-B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必须的，不能写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-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1428480" y="1500120"/>
            <a:ext cx="6429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规定上下界的两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x60-x99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1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1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 lbound2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2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WHI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UNTI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组引用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674028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处理数组时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要创造循环变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利用数组说明实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条件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使用程序语句来改变循环变量的值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1214280" y="1214280"/>
            <a:ext cx="331164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用法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x1-x5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(i)&lt;y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i)= y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i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0" name="Text Box 0"/>
          <p:cNvSpPr/>
          <p:nvPr/>
        </p:nvSpPr>
        <p:spPr>
          <a:xfrm>
            <a:off x="4929120" y="1143000"/>
            <a:ext cx="3743280" cy="447588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2  data test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3  input x1-x5 y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4  array t(5) x1-x5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5  i=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6  do while (t(i)&lt;y)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7  put t(i)= y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8  i=i+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9  end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0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1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0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3=4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.TEST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7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3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4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隐含下标数组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隐含下标数组由一个数组名字，一个下标变量和列表名组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 &lt;(index-variable)&gt;&lt;$&gt;&lt;length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-elements &lt;(initial-values)&g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13" name="Object 2"/>
          <p:cNvGraphicFramePr/>
          <p:nvPr/>
        </p:nvGraphicFramePr>
        <p:xfrm>
          <a:off x="1285920" y="3857760"/>
          <a:ext cx="6864480" cy="216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857760"/>
                    <a:ext cx="68644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58920" y="1412640"/>
            <a:ext cx="72388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字符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(j)$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定义字符数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两个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定义了。其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元素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用长度说明选项，给出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238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7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组成数组的元素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x1-x3) (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x4 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 _character_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字符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数值变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使用特殊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acter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引入字符变量到数组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变量或一个隐含下标数组可以是多个隐含数组的元素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隐含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隐含下标数组的元素时，要先设置下标变量，然后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数组名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55 1 1 1 1 1 1 1 1 1 1 2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输出隐含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元素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1785960" y="1428840"/>
            <a:ext cx="5832360" cy="40212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4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5  input id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6  array big(i)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7  i=11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8  put big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9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ORK.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2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11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1499760" y="114300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1-s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1-s5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arra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里没有规定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自动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_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每个变量值都乘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矩形 2"/>
          <p:cNvSpPr/>
          <p:nvPr/>
        </p:nvSpPr>
        <p:spPr>
          <a:xfrm>
            <a:off x="5143680" y="3000240"/>
            <a:ext cx="3643200" cy="20718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s1    s2    s3    s4    s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1285920" y="1499760"/>
            <a:ext cx="73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73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w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I=1 to 20;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其中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元素的个数。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所有缺失值改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语句等于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+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=sum(s_h, height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这里的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可以省略，加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于没加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_h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两段程序等价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引用多个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re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 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  c1-c100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f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c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I_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;            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100;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=(f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执行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次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处理两个数组，这种情况要求数据有相同的元素和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85716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用隐含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u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 x1-x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t&lt;y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=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_I_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一个隐含下标数组可以是其它隐含下标数组的元素，故允许有二维或更高维的隐含下标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.76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一些数组作为另一些数组的元素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1q1-t1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2 t2q1-t2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3 t3q1-t3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s(k) test1-test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1q1-t1q10 t2q1-t2q10 t3q1-t3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k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有一组数据，包括三组测验题，每组又有十个问题。每个学生的测验数据包括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答案。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把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答案中的缺失值改变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处理上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est1, test2, test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维数相同，在内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的数组名可以是这三个数组名的任一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有当嵌套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引用的每个数组定义不同的下标变量时才能使用嵌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GO T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语句标号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跳到本程序步带有标号的语句继续往下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指定的目标语句必须在同一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规定语句标号来指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目标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78588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每个观测都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500800" y="1428840"/>
          <a:ext cx="2881080" cy="2682720"/>
        </p:xfrm>
        <a:graphic>
          <a:graphicData uri="http://schemas.openxmlformats.org/drawingml/2006/table">
            <a:tbl>
              <a:tblPr/>
              <a:tblGrid>
                <a:gridCol w="649080"/>
                <a:gridCol w="576360"/>
                <a:gridCol w="934920"/>
                <a:gridCol w="720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那些观测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5000760" y="2000160"/>
          <a:ext cx="3020760" cy="26830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3840"/>
                <a:gridCol w="755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857160" y="5000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两例中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-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替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标号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标号给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NK,  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EADER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O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statemen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LINK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转到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指示的语句标号，并从那里继续执行直到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面的那个语句并从那里继续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语句标号所在的目标语句必须在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NK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1857240" y="2000160"/>
            <a:ext cx="5072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Obs    Name       Height      s_h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1         Alice       56.5       56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2      Barbara     65.3      121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3        Carol       62.8      184.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4        Jane        59.8      244.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5        Janet       62.5      306.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6        Joyce      51.3      358.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7        Judy        64.3      422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8        Louise     56.3      478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9        Mary        66.5      545.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……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1071720" y="857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999720" y="857160"/>
            <a:ext cx="7715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8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0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一组语句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bydro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$ wd station $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'station type' wd='depth to water'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lev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.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'aluy'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alcu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985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alcu: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'site_1'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6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'site_2'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55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到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link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下面的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year=1985;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uv   523     site_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uppa   234     site_2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uy   666     site_2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857760" y="4572000"/>
          <a:ext cx="4897440" cy="1441440"/>
        </p:xfrm>
        <a:graphic>
          <a:graphicData uri="http://schemas.openxmlformats.org/drawingml/2006/table">
            <a:tbl>
              <a:tblPr/>
              <a:tblGrid>
                <a:gridCol w="581040"/>
                <a:gridCol w="828360"/>
                <a:gridCol w="747720"/>
                <a:gridCol w="995400"/>
                <a:gridCol w="746280"/>
                <a:gridCol w="998640"/>
              </a:tblGrid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w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tat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ele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alu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2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ite_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upp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3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ite_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alu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66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ite_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83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928440" y="713880"/>
            <a:ext cx="635796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执行的一组语句在程序中仅一次，这时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组要简单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bydro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$ wd station $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station type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wd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depth to water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elev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ALUY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SITE_1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665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SITE_2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55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1985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LUV   523     SITE_1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UPPA   234      SITE_2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LUY   666      SITE_2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1213920" y="713880"/>
            <a:ext cx="39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5.81 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多次执行一组语句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d test1 $ test2 $ test3$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=test1;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recode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1=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=test2;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recode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2=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=test3;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recode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3=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recode: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E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  A  B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  E  F   C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3  C  D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4  A  B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5  B  E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4286160" y="4000680"/>
            <a:ext cx="4286520" cy="221436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id    test1    test2    test3    tes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      A        B        F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       2      F        F        C       C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3          3      C        D        A       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4          4      A        B        A       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5          5      B        F        F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785880" y="856800"/>
            <a:ext cx="7772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在程序中有需要数次执行一组语句，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编写程序可以更简洁，而且容易理解， 如上例。但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编写这段程序还可以更简单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5.82 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编写上例程序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} $ test1-test3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d test1-test3 $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dim(test)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i)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E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i)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  A   B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  E   F   C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3  C   D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4  A   B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5  B   E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3929040" y="3929040"/>
            <a:ext cx="4286160" cy="22147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test1    test2    test3    id    I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       B        F       1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          F        F        C       2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        D        A       3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        B        A       4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5             B        F        F       5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STOP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当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正被处理的那个观测没有添加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8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OUTPU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照常打印数据集列表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从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读取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观测，因为当指针标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N_=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正被处理的那条观测没有添加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ABOR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止执行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，继续执行下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执行前已处理观测的数据集。但是，当新创建数据集和已存在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同名时，不能覆盖已存在的数据集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ABEND|RETURN&gt;|&lt;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ABEND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或会话不正常地结束。产生的结果依赖于执行的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批处理方式和非交互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错误信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终止程序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执行任何相继的语句或检查句法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返回到主机系统，进一步的运行根据用户的主机系统及本机是如何处理不正常作业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管理方式和交互行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并返回到主机系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使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或会话正常结束。产生的结果依赖于执行的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批处理方式和非交互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错误信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终程序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执行任何相继的语句或检查句法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一个条件码指示有错误地控制返回到主机系统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管理方式和交互行方式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并返回到主机系统。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N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主机系统时，用户规定的条件码。即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任选项后面规定一个整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值的范围依赖于主机系统，必须是整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 abend 25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 return 25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两个选项都规定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终止这个作业，并随同规定条件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返回到主机系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观测下面程序的运行结果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57160" y="1213920"/>
            <a:ext cx="7772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a (keep=name height s_h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sum(s_h, height,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); /*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这里的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省略，加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等于没加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* retain s_h 0; */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a (keep=name height s_h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s_h+heigh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* retain s_h 0; */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a (keep=name height s_h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s_h+heigh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* retain s_h 0; */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管理方式下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区别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不显示错误信息，当新创建数据集和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同名时，能覆盖已存在的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1428840" y="4429080"/>
          <a:ext cx="5072040" cy="164628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LSTKINFO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“DATA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所用时间（总处理时间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实际时间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35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PU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 Box 4"/>
          <p:cNvSpPr/>
          <p:nvPr/>
        </p:nvSpPr>
        <p:spPr>
          <a:xfrm>
            <a:off x="1116000" y="1413000"/>
            <a:ext cx="6913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bo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窗口显示错误信息，当新创建数据集和已存在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同名时，不能覆盖已存在的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窗口显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59" name=""/>
          <p:cNvGraphicFramePr/>
          <p:nvPr/>
        </p:nvGraphicFramePr>
        <p:xfrm>
          <a:off x="1500120" y="3643200"/>
          <a:ext cx="6786720" cy="2443320"/>
        </p:xfrm>
        <a:graphic>
          <a:graphicData uri="http://schemas.openxmlformats.org/drawingml/2006/table">
            <a:tbl>
              <a:tblPr/>
              <a:tblGrid>
                <a:gridCol w="6786720"/>
              </a:tblGrid>
              <a:tr h="244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RROR: ABORT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在行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1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5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终止了执行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tkcd=000007 Lstknm=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深达声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 Lstdt=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SAS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系统由于错误而停止了该步的处理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LSTKINFO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可能不完整。该步停止时，共有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由于该步已停止，而没有被替换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“DATA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所用时间（总处理时间）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实际时间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01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PU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02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4"/>
          <p:cNvSpPr/>
          <p:nvPr/>
        </p:nvSpPr>
        <p:spPr>
          <a:xfrm>
            <a:off x="1332000" y="1413000"/>
            <a:ext cx="655308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.85  ABO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防止输入无效数据时出错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put ssn  pay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f _error_ then abor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ar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11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aa    2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44    3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proc pri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2143080" y="5072040"/>
            <a:ext cx="2286000" cy="57168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ssn    pay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 111    100</a:t>
            </a:r>
            <a:r>
              <a:rPr b="0" lang="en-US" sz="900" spc="-1" strike="noStrike">
                <a:solidFill>
                  <a:srgbClr val="080808"/>
                </a:solidFill>
                <a:latin typeface="Times New Roman"/>
              </a:rPr>
              <a:t>            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MO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删除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观测，它可以执行物理也可以执行逻辑删除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执行物理或逻辑删除，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所有数据操作都是有效的。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子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两者结合，只能执行物理删除，因此对于一些特定的操作，不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&gt;&lt;…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64" name=""/>
          <p:cNvGraphicFramePr/>
          <p:nvPr/>
        </p:nvGraphicFramePr>
        <p:xfrm>
          <a:off x="1357200" y="5286240"/>
          <a:ext cx="5715000" cy="731880"/>
        </p:xfrm>
        <a:graphic>
          <a:graphicData uri="http://schemas.openxmlformats.org/drawingml/2006/table">
            <a:tbl>
              <a:tblPr/>
              <a:tblGrid>
                <a:gridCol w="1785960"/>
                <a:gridCol w="3929040"/>
              </a:tblGrid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删除由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步命名数据集的所有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删除当前观测的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785520" y="85716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5.87 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从某个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移走一个观测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tnum credi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001 1500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002 4900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003 3000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tnum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100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re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移走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acctnum=1002</a:t>
            </a:r>
            <a:r>
              <a:rPr b="1" lang="zh-CN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的观测 </a:t>
            </a:r>
            <a:r>
              <a:rPr b="1" lang="zh-CN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1000080" y="5000760"/>
          <a:ext cx="7072200" cy="1197000"/>
        </p:xfrm>
        <a:graphic>
          <a:graphicData uri="http://schemas.openxmlformats.org/drawingml/2006/table">
            <a:tbl>
              <a:tblPr/>
              <a:tblGrid>
                <a:gridCol w="7072200"/>
              </a:tblGrid>
              <a:tr h="11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 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已被更新。重写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，添加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并删除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account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dited Data Se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8" name="矩形 3"/>
          <p:cNvSpPr/>
          <p:nvPr/>
        </p:nvSpPr>
        <p:spPr>
          <a:xfrm>
            <a:off x="1643040" y="2928960"/>
            <a:ext cx="4357800" cy="16430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dited Data S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acctnum    credi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001      15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      1003      30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项时，删除所有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1428840" y="3500280"/>
          <a:ext cx="5438520" cy="1279800"/>
        </p:xfrm>
        <a:graphic>
          <a:graphicData uri="http://schemas.openxmlformats.org/drawingml/2006/table">
            <a:tbl>
              <a:tblPr/>
              <a:tblGrid>
                <a:gridCol w="5438520"/>
              </a:tblGrid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已被更新。重写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，添加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并删除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1" name="矩形 4"/>
          <p:cNvSpPr/>
          <p:nvPr/>
        </p:nvSpPr>
        <p:spPr>
          <a:xfrm>
            <a:off x="1538280" y="5357880"/>
            <a:ext cx="31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MOV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中有很多应用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PLAC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互相独立地进行操作，两语句可以应用于相同的观测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替换主数据集相同物理位置上的观测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输出观测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结尾；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无此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-set-nme-1&gt;&lt;...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1143000" y="4929120"/>
          <a:ext cx="6215040" cy="1292400"/>
        </p:xfrm>
        <a:graphic>
          <a:graphicData uri="http://schemas.openxmlformats.org/drawingml/2006/table">
            <a:tbl>
              <a:tblPr/>
              <a:tblGrid>
                <a:gridCol w="1357200"/>
                <a:gridCol w="485784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输出观测的数据集，并用它的观测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857160" y="107136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st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 $ phonenum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evin 1100100   375006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ndi 11000001  375666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11000002  675896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im  11000003   6750088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r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 $ phonenum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1100100   8375006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11000001  8375666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857160" y="12855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ivan 21000001 8375038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st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ster tr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orc_=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src (_sok)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plac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aster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找到观测进行替代 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orc_=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src (_dsenmr)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_iorc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ast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含有新电话号码的数据集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MASTE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果加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date us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ret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(stk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0002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s+ Dret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USS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re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平方和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非缺失值的观测个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宋体"/>
              </a:rPr>
              <a:t>dat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a(keep=nmi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se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ResDat.indc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nmis+ csrciccd ^=</a:t>
            </a:r>
            <a:r>
              <a:rPr b="0" lang="en-US" sz="20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</a:rPr>
              <a:t>' '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宋体"/>
              </a:rPr>
              <a:t>ru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M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srcic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非缺失值的观测个数，即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srcic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好类股票的个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/>
          </p:nvPr>
        </p:nvSpPr>
        <p:spPr>
          <a:xfrm>
            <a:off x="857160" y="114300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用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RANS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值更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电话号码，增加一个观测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结尾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SRC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每次试图重新得到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自动调用宏检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自动变量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=%</a:t>
            </a:r>
            <a:r>
              <a:rPr b="1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src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(_sok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已经导入观测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=%</a:t>
            </a:r>
            <a:r>
              <a:rPr b="1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src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(_dsenmr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在主数据集中没能找到与修改数据集相应的观测。更多可参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帮助文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结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8" name="矩形 3"/>
          <p:cNvSpPr/>
          <p:nvPr/>
        </p:nvSpPr>
        <p:spPr>
          <a:xfrm>
            <a:off x="1357200" y="3786120"/>
            <a:ext cx="6357960" cy="26431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含有新电话号码的数据集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name        id       phonenu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Kevin    1100100     8375006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Sandi    11000001    8375666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indy    11000002     675896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Jim        11000003     675008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5    Vivan    21000001    8375038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MISSING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的符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含有缺失值的数据源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否则可能产生读入错误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charcter1…charctern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c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代表缺失值的字符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eriod_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I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d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oodpr1 Foodpr2 Foodpr3 Coffeem1 Coffeem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1 115 45 65 I 7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2 86 27 55 72 8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4 93 52 X 76 8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15 73 35 43 112 10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27 101 127 39 76 7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用字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缺失值。如果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读入数值变量的缺失值时（这里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要产生错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本节介绍语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, CALL, NULL, ERROR, RETURN,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LIST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上列出正被加工处理观测的输入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时，在列出的第一行记录之前，显示一条指示列数的标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读入可疑数据行时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 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1 2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4 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8" name="Text Box 2"/>
          <p:cNvSpPr/>
          <p:nvPr/>
        </p:nvSpPr>
        <p:spPr>
          <a:xfrm>
            <a:off x="3357720" y="2714760"/>
            <a:ext cx="5398920" cy="31971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90  data a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1  input x y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2  if x&lt;0 then list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3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RULE:      ----+----1----+----2----+----3----+----4----+----5----+----6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6        -1 2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7        -4 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TE: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WORK.A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4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TE: “DATA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0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PU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0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8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9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89" name="Text Box 3"/>
          <p:cNvSpPr/>
          <p:nvPr/>
        </p:nvSpPr>
        <p:spPr>
          <a:xfrm>
            <a:off x="3635280" y="2349360"/>
            <a:ext cx="40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CA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调用子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outine (parameter-1&lt;…parameter-n&gt;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92" name="Object 2"/>
          <p:cNvGraphicFramePr/>
          <p:nvPr/>
        </p:nvGraphicFramePr>
        <p:xfrm>
          <a:off x="1219320" y="4572000"/>
          <a:ext cx="6095880" cy="77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0"/>
                    <a:ext cx="6095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包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宏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xt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ch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arch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ext1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et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et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布操作系统命令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ir *.sa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发布和操作系统命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ir *.sas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NU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是一个分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用于固定位置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用一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或四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;;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接受空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四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;;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空语句没有执行动作，但它是可执行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表示数据行结束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: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1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5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3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在这个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步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语句告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系统在这个作业流中，紧跟着的是数据行，当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遇到空语句（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;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）时，就知道数据行结束了。上例中的空语句也可以省略，因数据行后面第一个语句（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）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中包含一个分号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8" name="矩形 4"/>
          <p:cNvSpPr/>
          <p:nvPr/>
        </p:nvSpPr>
        <p:spPr>
          <a:xfrm>
            <a:off x="4500720" y="2928960"/>
            <a:ext cx="2857320" cy="22147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窗口显示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bs    y  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1     2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     1    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3     5   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4     3   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线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cl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a (firstob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name=(sum=sum_1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5=(sum_1-sum)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值，体现了用简单方法处理复杂的问题的技巧。也可以用循环语句写相应程序，但程序的效率会很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ERROR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置自动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有选择地输出用户规定的一段信息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记录窗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message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01" name="Object 2"/>
          <p:cNvGraphicFramePr/>
          <p:nvPr/>
        </p:nvGraphicFramePr>
        <p:xfrm>
          <a:off x="1295280" y="4648320"/>
          <a:ext cx="4953240" cy="115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48320"/>
                    <a:ext cx="495324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等价于下面一系列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值语句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一段信息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的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重新设置前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设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tch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5"/>
          <p:cNvSpPr/>
          <p:nvPr/>
        </p:nvSpPr>
        <p:spPr>
          <a:xfrm>
            <a:off x="1258920" y="148428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6" name="矩形 3"/>
          <p:cNvSpPr/>
          <p:nvPr/>
        </p:nvSpPr>
        <p:spPr>
          <a:xfrm>
            <a:off x="1000080" y="1928880"/>
            <a:ext cx="7286760" cy="4000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1  data a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2  input name $ type $ age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3  if type='teen' &amp; age &gt;19 then error "type and age don't match" +3 age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4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ype and age don't match   age=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RULE:      ----+----1----+----2----+----3----+----4----+----5----+----6----+----7----+----8----+----9----+----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5        Wu teen 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ame=Wu type=teen age=20 _ERROR_=1 _N_=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实际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8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9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cth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error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程序与前一页程序结果相同。第一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第二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另外，可以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改变输出错误信息的地点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当前位置上停止执行语句，返回到一个预定位置上继续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RETUR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面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面的语句，并继续往下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EADE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开始新页之前执行的最后一个语句后面的语句，并继续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其它地方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rve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y+z; a=x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6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=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添加这个观测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URVE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后面的二个赋值语句没有被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1428840" y="3143160"/>
          <a:ext cx="6119640" cy="16876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220760"/>
                <a:gridCol w="1225440"/>
                <a:gridCol w="122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6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999720" y="785880"/>
            <a:ext cx="4786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por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b c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x=a*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x&gt;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0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22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5" name="文本占位符 2"/>
          <p:cNvSpPr/>
          <p:nvPr/>
        </p:nvSpPr>
        <p:spPr>
          <a:xfrm>
            <a:off x="2428920" y="4286160"/>
            <a:ext cx="5500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中，在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应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从每个输入行产生多个观测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 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lt;=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观测到数据集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。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gt;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开头处理新的观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6" name=""/>
          <p:cNvGraphicFramePr/>
          <p:nvPr/>
        </p:nvGraphicFramePr>
        <p:xfrm>
          <a:off x="2286000" y="1143000"/>
          <a:ext cx="3798720" cy="4743360"/>
        </p:xfrm>
        <a:graphic>
          <a:graphicData uri="http://schemas.openxmlformats.org/drawingml/2006/table">
            <a:tbl>
              <a:tblPr/>
              <a:tblGrid>
                <a:gridCol w="633240"/>
                <a:gridCol w="632160"/>
                <a:gridCol w="633240"/>
                <a:gridCol w="633600"/>
                <a:gridCol w="633240"/>
                <a:gridCol w="633240"/>
              </a:tblGrid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9001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观测的选择与输出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IF WHERE DELETE OUTPU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000080" y="2000160"/>
            <a:ext cx="723888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类型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条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含有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没有子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/ELSE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真时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假时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&lt;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expression;&g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CONTINUE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85520" y="1285560"/>
            <a:ext cx="7715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循环过程，继续进行下一次循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tus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ntin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到下次循环的开头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enefit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713880" y="356760"/>
            <a:ext cx="2000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上页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2786040" y="3571920"/>
          <a:ext cx="5643720" cy="2038320"/>
        </p:xfrm>
        <a:graphic>
          <a:graphicData uri="http://schemas.openxmlformats.org/drawingml/2006/table">
            <a:tbl>
              <a:tblPr/>
              <a:tblGrid>
                <a:gridCol w="941400"/>
                <a:gridCol w="487440"/>
                <a:gridCol w="1143000"/>
                <a:gridCol w="714240"/>
                <a:gridCol w="928800"/>
                <a:gridCol w="142884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124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LEAVE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处理过程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后面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给定条件下停止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的处理过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e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rt status $ dept $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=star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onus g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2"/>
          <p:cNvSpPr/>
          <p:nvPr/>
        </p:nvSpPr>
        <p:spPr>
          <a:xfrm>
            <a:off x="1071720" y="1214280"/>
            <a:ext cx="716256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接上页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ones 9011 1990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as 876 1976 P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s 7899 1991 ft tech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ell 1250 1975 f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hards 1002 1990 ft dev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lly 85 1981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 091 1990 pt mai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首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检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超过允许的最大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来停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的处理过程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9" name=""/>
          <p:cNvGraphicFramePr/>
          <p:nvPr/>
        </p:nvGraphicFramePr>
        <p:xfrm>
          <a:off x="714240" y="1784520"/>
          <a:ext cx="7358040" cy="3001680"/>
        </p:xfrm>
        <a:graphic>
          <a:graphicData uri="http://schemas.openxmlformats.org/drawingml/2006/table">
            <a:tbl>
              <a:tblPr/>
              <a:tblGrid>
                <a:gridCol w="919440"/>
                <a:gridCol w="1009440"/>
                <a:gridCol w="830160"/>
                <a:gridCol w="920880"/>
                <a:gridCol w="919080"/>
                <a:gridCol w="919440"/>
                <a:gridCol w="920520"/>
                <a:gridCol w="919080"/>
              </a:tblGrid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on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0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homa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ar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9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ch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arre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0372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Kell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o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ai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130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LEA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CONTINU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的差别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得当前的循环过程结束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一起使用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只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57160" y="3567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5.7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x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OK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type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ount+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ne agecheck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 ne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x zero, y nozero'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s-E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x zero, y zero'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x nozero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s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invalid answer for 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id=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当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IF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条件不成立时，执行下面另一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DO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组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s=ans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valid+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子集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任意有效的表达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表达式是真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正被创建的观测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语句。如果表达式是假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立即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始对其他观测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基本语句（赋值、累加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的选择与输出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属性控制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及循环控制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控制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数组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GOT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语句标号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其它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(LIS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NU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5"/>
          <p:cNvSpPr/>
          <p:nvPr/>
        </p:nvSpPr>
        <p:spPr>
          <a:xfrm>
            <a:off x="1214280" y="1500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中，选择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条观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6" name="矩形 3"/>
          <p:cNvSpPr/>
          <p:nvPr/>
        </p:nvSpPr>
        <p:spPr>
          <a:xfrm>
            <a:off x="1143000" y="4286160"/>
            <a:ext cx="6572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IDX000001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89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9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3043440" cy="42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WHERE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42960" y="1714320"/>
            <a:ext cx="7858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读入数据集之前选择观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在执行数据集连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新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修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前进行的操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只从输入数据集中读入满足条件的观测，所以这样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更有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不是可执行语句，它起不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-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作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6572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1" i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5143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where-expression;</a:t>
            </a:r>
            <a:br>
              <a:rPr sz="2000"/>
            </a:b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仅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表达式的特殊算符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1187280" y="2637000"/>
          <a:ext cx="6740640" cy="23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37000"/>
                    <a:ext cx="67406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"/>
          <p:cNvSpPr/>
          <p:nvPr/>
        </p:nvSpPr>
        <p:spPr>
          <a:xfrm>
            <a:off x="928800" y="12859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9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BETWEEN-A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S MISSING|IS NU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例句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stocd between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8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not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num is missing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计算缺失值数目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两个特殊模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百分号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以替代任意多个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划线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正好有一个字符与之匹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比较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识别大写和小写之间的字符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1143000" y="142884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有名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th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an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来选择第一个字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名字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不同选择模式与结果如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选择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yan  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_an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_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Diana, Diane, Dianna, Dyan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上述列表的所有名字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Not lik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1071720" y="1500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condition-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AME AND condition -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HERE SAME AND condition-n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选择除满足上述定义的条件外，还满足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-A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符后列出条件的观测。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6" name="矩形 3"/>
          <p:cNvSpPr/>
          <p:nvPr/>
        </p:nvSpPr>
        <p:spPr>
          <a:xfrm>
            <a:off x="852840" y="78588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AME AND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算符的形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文本占位符 3"/>
          <p:cNvSpPr/>
          <p:nvPr/>
        </p:nvSpPr>
        <p:spPr>
          <a:xfrm>
            <a:off x="857160" y="1071720"/>
            <a:ext cx="7115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1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算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ME-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增加较多的从句到程序中已有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后面，而不需要重新打入原来的从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gplo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ResDat.Idx000001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year(date)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99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same and year(date)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28" name="图片 4" descr="00.bmp"/>
          <p:cNvPicPr/>
          <p:nvPr/>
        </p:nvPicPr>
        <p:blipFill>
          <a:blip r:embed="rId1"/>
          <a:stretch/>
        </p:blipFill>
        <p:spPr>
          <a:xfrm>
            <a:off x="3286080" y="3571920"/>
            <a:ext cx="4757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1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数值变量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非缺失的观测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and y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/y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1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字符变量非缺失的观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^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 is not missing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单独地作为逻辑表达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14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一定范围内的观测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between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15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其中一个观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x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1, 2, 3, 4, 5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情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语句，必须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f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提示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不能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自动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n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圆角矩形 3"/>
          <p:cNvSpPr/>
          <p:nvPr/>
        </p:nvSpPr>
        <p:spPr>
          <a:xfrm>
            <a:off x="1357200" y="3143160"/>
            <a:ext cx="6286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矩形 4"/>
          <p:cNvSpPr/>
          <p:nvPr/>
        </p:nvSpPr>
        <p:spPr>
          <a:xfrm>
            <a:off x="1428840" y="3214800"/>
            <a:ext cx="6286320" cy="4284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: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变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n_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不在文件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DAT.IDX000001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DELETE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000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当前观测，该观测值不被读入到创建的数据集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处理其他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49291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基本语句（赋值 累加）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85520" y="1285920"/>
            <a:ext cx="175716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赋值语句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857160" y="2214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=expressio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将表达式结果赋予一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78" name="Object 2"/>
          <p:cNvGraphicFramePr/>
          <p:nvPr/>
        </p:nvGraphicFramePr>
        <p:xfrm>
          <a:off x="1447920" y="4116240"/>
          <a:ext cx="6248160" cy="11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116240"/>
                    <a:ext cx="62481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部分观测值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ktype=’B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矩形 3"/>
          <p:cNvSpPr/>
          <p:nvPr/>
        </p:nvSpPr>
        <p:spPr>
          <a:xfrm>
            <a:off x="1214280" y="4643280"/>
            <a:ext cx="6572520" cy="100044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STK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2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空数据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所有观测值，即清空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设计复杂程序时，常会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这种用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中信息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矩形 3"/>
          <p:cNvSpPr/>
          <p:nvPr/>
        </p:nvSpPr>
        <p:spPr>
          <a:xfrm>
            <a:off x="1285920" y="4929120"/>
            <a:ext cx="6429240" cy="1000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输出当前的观测到被创建的数据集中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a-set-name-1&gt; &lt;…data-set-name-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4" name="Object 4"/>
          <p:cNvGraphicFramePr/>
          <p:nvPr/>
        </p:nvGraphicFramePr>
        <p:xfrm>
          <a:off x="928800" y="3071880"/>
          <a:ext cx="614340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3071880"/>
                    <a:ext cx="6143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TextBox 4"/>
          <p:cNvSpPr/>
          <p:nvPr/>
        </p:nvSpPr>
        <p:spPr>
          <a:xfrm>
            <a:off x="1000080" y="4214880"/>
            <a:ext cx="6357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行创建多个观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文件创建多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集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几个输入数据行合并为一个观测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56800" y="1214280"/>
            <a:ext cx="4714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1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一个输入数据行创建多个观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ID $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1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2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3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6  99  96  9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8  89  90  88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每一行记录生成三个观测。每个新观测将包括代号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和一次测验值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COR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5786280" y="2571840"/>
          <a:ext cx="2376720" cy="223200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2232000">
                <a:tc>
                  <a:txBody>
                    <a:bodyPr lIns="180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     ID      scor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    02126      9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    02126      9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    02126      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    02128      8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    02128      9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     02128      8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2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多个数据集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两个数据集。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A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；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B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714240" y="99972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5.21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多个数据集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1 age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ag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&l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ice   13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Gail    1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ary    1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andy   1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   1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obert   12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  1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illiam   1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创建两个数据集。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包含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&lt;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观测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包含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&gt;=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观测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428760" y="49968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785880" y="1213920"/>
            <a:ext cx="7929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lstkinf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num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.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几个记录组合信息，分别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这个例子很有用，从这里也认识了自动变量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rst. stktyp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st. stktyp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使用方法。数据处理时用这个语句会很省力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5429160" y="4071960"/>
          <a:ext cx="2500560" cy="78588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1460520">
                <a:tc>
                  <a:txBody>
                    <a:bodyPr lIns="68760" rIns="68760" tIns="0" bIns="0" anchor="t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Stktype    N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A        2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B        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7" name="TextBox 5"/>
          <p:cNvSpPr/>
          <p:nvPr/>
        </p:nvSpPr>
        <p:spPr>
          <a:xfrm>
            <a:off x="5618520" y="3571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统计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结果相同：思考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条件语句的应用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句与前段不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lse 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句与前段不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变量属性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57160" y="18572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把输入格式与变量联系起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 &lt;informat&gt;&lt;DEFAULT=default-in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矩形 3"/>
          <p:cNvSpPr/>
          <p:nvPr/>
        </p:nvSpPr>
        <p:spPr>
          <a:xfrm>
            <a:off x="952920" y="1285920"/>
            <a:ext cx="26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FORMA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语句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1500120" y="3643200"/>
          <a:ext cx="5191200" cy="9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643200"/>
                    <a:ext cx="5191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矩形 5"/>
          <p:cNvSpPr/>
          <p:nvPr/>
        </p:nvSpPr>
        <p:spPr>
          <a:xfrm>
            <a:off x="928800" y="4857840"/>
            <a:ext cx="7215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以出现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中的任何位置，仅适用于当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没有规定临时的缺省输入格式时，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规定的缺省输入格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入格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char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1 22 33 44 100 johnn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列出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输入格式，那么使用这里规定的缺省输入格式，即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4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矩形 3"/>
          <p:cNvSpPr/>
          <p:nvPr/>
        </p:nvSpPr>
        <p:spPr>
          <a:xfrm>
            <a:off x="857160" y="4143240"/>
            <a:ext cx="4071960" cy="35748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1  2.2  3.3  4.4  1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785520" y="85716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赋值语句举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=_N_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=_error_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_s=first.sex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_s=last.sex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a+b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新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=sum(of x1-x5)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数组元素，它的值是一函数值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a+b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一个已经存在的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的值为原来值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之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86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消已存在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这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次序是重要的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就不能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050" descr=""/>
          <p:cNvPicPr/>
          <p:nvPr/>
        </p:nvPicPr>
        <p:blipFill>
          <a:blip r:embed="rId1"/>
          <a:srcRect l="53468" t="13673" r="391" b="11134"/>
          <a:stretch/>
        </p:blipFill>
        <p:spPr>
          <a:xfrm>
            <a:off x="2786040" y="785880"/>
            <a:ext cx="4441680" cy="5429160"/>
          </a:xfrm>
          <a:prstGeom prst="rect">
            <a:avLst/>
          </a:prstGeom>
          <a:ln w="0">
            <a:noFill/>
          </a:ln>
        </p:spPr>
      </p:pic>
      <p:sp>
        <p:nvSpPr>
          <p:cNvPr id="870" name="TextBox 2"/>
          <p:cNvSpPr/>
          <p:nvPr/>
        </p:nvSpPr>
        <p:spPr>
          <a:xfrm>
            <a:off x="500040" y="928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右图显示已删除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a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格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1" descr=""/>
          <p:cNvPicPr/>
          <p:nvPr/>
        </p:nvPicPr>
        <p:blipFill>
          <a:blip r:embed="rId1"/>
          <a:srcRect l="24383" t="13721" r="11686" b="20467"/>
          <a:stretch/>
        </p:blipFill>
        <p:spPr>
          <a:xfrm>
            <a:off x="1857240" y="2428920"/>
            <a:ext cx="6000840" cy="4143240"/>
          </a:xfrm>
          <a:prstGeom prst="rect">
            <a:avLst/>
          </a:prstGeom>
          <a:ln w="0">
            <a:noFill/>
          </a:ln>
        </p:spPr>
      </p:pic>
      <p:sp>
        <p:nvSpPr>
          <p:cNvPr id="872" name="TextBox 2"/>
          <p:cNvSpPr/>
          <p:nvPr/>
        </p:nvSpPr>
        <p:spPr>
          <a:xfrm>
            <a:off x="785880" y="857160"/>
            <a:ext cx="70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未去除格式举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/*informa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前，未能去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RMA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s &lt;format&gt;&lt;DEFAULT=default-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出现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任何位置，仅适用于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临时的缺省输出格式时，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规定的缺省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75" name="Object 4"/>
          <p:cNvGraphicFramePr/>
          <p:nvPr/>
        </p:nvGraphicFramePr>
        <p:xfrm>
          <a:off x="1763640" y="3141720"/>
          <a:ext cx="6193080" cy="11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6193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1000080" y="128556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 $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/x/y/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d mo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92880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2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自定义的格式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fm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al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e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se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sex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ane 2 bill 1 cindy 2 helen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定义输出格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同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联系起来。当以后用一些过程输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值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E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替代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被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矩形 7"/>
          <p:cNvSpPr/>
          <p:nvPr/>
        </p:nvSpPr>
        <p:spPr>
          <a:xfrm>
            <a:off x="5786280" y="2643120"/>
            <a:ext cx="2500560" cy="15001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name      se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jane  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bill         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indy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helen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285920" y="12859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日期时间变量的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b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ate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worddat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immy 15jan8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03mar8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没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日期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将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96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年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月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和日期值之间的天数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，对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日期时间值变量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变量指定相应的日期时间输出格式，这样才能便于理解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4"/>
          <p:cNvSpPr/>
          <p:nvPr/>
        </p:nvSpPr>
        <p:spPr>
          <a:xfrm>
            <a:off x="1619280" y="2133720"/>
            <a:ext cx="4968720" cy="12693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name          bda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     jimmy    January 15, 198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     cindy       March 3, 198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存贮变量值的字节长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variable-specification-1 &lt;… variable-specification-n&gt;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EFAULT=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说明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=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新创建数值变量值的缺省字节长度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628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iable-specificatio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的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说明项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&lt;…variable-n&gt;&lt;$&gt;length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关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6" name="Object 2"/>
          <p:cNvGraphicFramePr/>
          <p:nvPr/>
        </p:nvGraphicFramePr>
        <p:xfrm>
          <a:off x="1600200" y="3505320"/>
          <a:ext cx="6629400" cy="170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6294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428480" y="1356840"/>
            <a:ext cx="30430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500120" y="2000160"/>
            <a:ext cx="68086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   Name         Sex    Age    Height    Weight     n    error    first_s    last_s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ce          F      13       56.5       84.0     1      0         1          0                         2    Barbara      F      13       65.3       98.0     2      0         0          0                         3    Carol         F      14       62.8      102.5     3      0         0          0                         4    Jane           F      12       59.8       84.5     4      0         0          0                         5    Janet         F      15       62.5      112.5     5      0         0          0                         6    Joyce        F      11       51.3       50.5      6      0         0          0                         7    Judy          F      14       64.3       90.0      7      0         0          0                         8    Louise       F      12       56.3       77.0     8      0         0          0                         9    Mary         F      15       66.5      112.0    9      0         0          1                        10    Alfred     M      14      69.0      112.5    10    0         1          0                       11    Henry      M      14     63.5      102.5    11    0         0          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   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值变量长度控制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中数值变量的存贮长度一般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然而很多值可以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的长度准确地表示。当数据集很大时，使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长度来存贮不需要很精确的值时，可以有效地减少外部存贮的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截短数据时，可能会引起误差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1285560" y="92844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截短数据引起的误差问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4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2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1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.0  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tw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W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没有观测。因为，第二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子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常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表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只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会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字符变量长度控制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071360" y="199980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不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变量的长度，字符变量的缺省长由它的第一个观测值决定，这样，后面更长的观测值会被截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隐含地说明字符变量的长度。所以，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定义的字符长度不同于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隐含表示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应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才能起作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隐含指定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（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）给出在创建的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替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928440" y="1499760"/>
            <a:ext cx="712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变量的长由它的第一个观测值决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no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ye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字符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次在赋值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'NO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出现时，它的长度被确定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，当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E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仅前两个字符被存储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丢失了。为解决该问题，或者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，或者重新排列语句顺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003640" y="3357720"/>
          <a:ext cx="2519640" cy="143964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  <a:gridCol w="839880"/>
              </a:tblGrid>
              <a:tr h="576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5929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位置的重要性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14280" y="2142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字符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数值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放在任何地方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1364760" y="1066320"/>
            <a:ext cx="673596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后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字符变量不起作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放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后不起作用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长度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所以显示的值分别为’深发展’和’大秦铁’ 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Text Box 0"/>
          <p:cNvSpPr/>
          <p:nvPr/>
        </p:nvSpPr>
        <p:spPr>
          <a:xfrm>
            <a:off x="2340000" y="515772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4"/>
          <p:cNvSpPr/>
          <p:nvPr/>
        </p:nvSpPr>
        <p:spPr>
          <a:xfrm>
            <a:off x="1547640" y="1484280"/>
            <a:ext cx="6048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上段程序的正确写法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length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放在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之前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显示正确结果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1" name="Text Box 5"/>
          <p:cNvSpPr/>
          <p:nvPr/>
        </p:nvSpPr>
        <p:spPr>
          <a:xfrm>
            <a:off x="2643120" y="500076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66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AB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为变量加标签。变量标签是对变量的进一步说明，看到标签就能理解变量的意思。这个标签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同变量名一起被存贮，而且可通过许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被打印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='label-1' …&lt;variable-1='label-n'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加标签的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符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标签语句可以出现若干个变量名和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1523520" y="10666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两种写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一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二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''  hstocd=''  shrsdt=''  shrout='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类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85880" y="1785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决定结果变量类型的准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数值型，结果变量为数值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字符型，结果变量为字符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既有数值又有字符型，结果变量为数值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Box 1"/>
          <p:cNvSpPr/>
          <p:nvPr/>
        </p:nvSpPr>
        <p:spPr>
          <a:xfrm>
            <a:off x="857160" y="8571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变量类型转换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6" name="TextBox 2"/>
          <p:cNvSpPr/>
          <p:nvPr/>
        </p:nvSpPr>
        <p:spPr>
          <a:xfrm>
            <a:off x="1357200" y="2000160"/>
            <a:ext cx="58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实现数值与字符之间相互转换的方式有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系统自动完成数值与字符之间的转换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字符转换为数值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数值转换为字符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字符自动转换为数值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57160" y="12859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3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字符自动转换为数值。本例中并没有真正把字符变量转换为数值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由字符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值创建一个新的数值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Y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仍是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运算过程中自动转换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X+Y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Box 1"/>
          <p:cNvSpPr/>
          <p:nvPr/>
        </p:nvSpPr>
        <p:spPr>
          <a:xfrm>
            <a:off x="1357200" y="1500120"/>
            <a:ext cx="6072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运算过程中自动转换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数值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lt;Y 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转换为数值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运算过程中自动转换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log(Y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转换为数值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函数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INPU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将字符转换为数值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57160" y="1356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的形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(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源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入格式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源为要转换为数值的变量，常数或表达式。数据源既可以是数值型，也可以是字符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入格式规定对数据源进行转换的输入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字符变量为数值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kcd_1=input(stkcd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字符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tkcd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tkcd_1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如果希望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的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tkcd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，只要类型转换 ，变量名不变，需要增加一下数据步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_1=stkc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字符型常数值为数值常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in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56888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结果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688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数值常数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字符型常数值为字符常数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in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56888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结果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字符常数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数值自动转换为字符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自动地将数值转换为字符情况有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值变量赋值给一个字符变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表达式中有数值变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需要字符变量的函数中引用数值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自动地将数值转换为字符时，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ST1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出格式，字符值右对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.3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值自动转换为字符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变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Y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数值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字符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, Y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仍是数值变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OO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||Y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数值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字符变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6000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SUBSTR(Y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数值变量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字符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矩形 3"/>
          <p:cNvSpPr/>
          <p:nvPr/>
        </p:nvSpPr>
        <p:spPr>
          <a:xfrm>
            <a:off x="5643720" y="4000680"/>
            <a:ext cx="2500200" cy="3571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ROOM          1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18" name="矩形 4"/>
          <p:cNvSpPr/>
          <p:nvPr/>
        </p:nvSpPr>
        <p:spPr>
          <a:xfrm>
            <a:off x="5715000" y="5643720"/>
            <a:ext cx="2571840" cy="3571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60000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函数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PU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将数值转换为字符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的形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T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格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源为要转换为字符值的变量，常数或表达式。数据源既可以是数值型，也可以是字符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格式规定对数据源进行转换的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数值变量为字符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888.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put(y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10.4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是输出格式，将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按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.4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数值输出格式呈现，但使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pu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后，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型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3888.00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85880" y="12855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变量的长度是第一次扫描结果的长度，除非事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好结果变量的长度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扫描结果的长度不是所有数据中的最大长度时会出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第一扫描结果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lstknm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所以显示结果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 =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大秦铁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2286000" y="514368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大秦铁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转换数值常数为字符常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x=put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288.0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$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* 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的输出格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$4.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88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put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288.0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输出格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$6.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88.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put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288.0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.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x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输出格式为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$6.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88.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DO</a:t>
            </a:r>
            <a:r>
              <a:rPr b="1" lang="zh-CN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黑体"/>
              </a:rPr>
              <a:t>及循环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必须由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来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之间的这些语句称为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可以嵌套任意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类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简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UNTIL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简单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5716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/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&gt;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_cm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height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 sex= age= h_cm=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000080" y="3929040"/>
            <a:ext cx="7215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例与下面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果一样，但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率较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_c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height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 sex= age= h_cm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143000" y="1357200"/>
          <a:ext cx="6715080" cy="20113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Janet Sex=F Age=15 h_cm=158.8541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Mary Sex=F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Philip Sex=M Age=16 h_cm=18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Ronald Sex=M Age=15 h_cm=170.2916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William Sex=M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从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ESDAT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.CLASS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读取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WORK.A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有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个观测和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6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个变量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92d050"/>
                      </a:solidFill>
                    </a:lnL>
                    <a:lnR w="13680">
                      <a:solidFill>
                        <a:srgbClr val="92d050"/>
                      </a:solidFill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57160" y="14997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需要被重复执行时要用到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根据下标变量重复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间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_variable=specification-1&lt;,…specification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-variab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定义下标变量，用于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的执行方式和重复次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标变量包含在创建的数据集中，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删除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SPECIFICATION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选项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&lt;TO stop&gt; &lt;BY increment&gt; &lt;WHILE/UNTIL(expression)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4" name="Object 4"/>
          <p:cNvGraphicFramePr/>
          <p:nvPr/>
        </p:nvGraphicFramePr>
        <p:xfrm>
          <a:off x="1143000" y="2928960"/>
          <a:ext cx="6858000" cy="20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28960"/>
                    <a:ext cx="6858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1071360" y="1428480"/>
            <a:ext cx="5715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省的步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i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4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起始值例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k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saturday', 'sunday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, '25feb99'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'01jan2000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例句子中，起始值必须全部是数值或全部是字符常数，也可以是变量。字符常数必须用引号括起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表达式选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&l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(x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&g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onth='jan'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57160" y="1213920"/>
            <a:ext cx="54295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.45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跳出循环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;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&gt;y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kip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skip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循环体外的语句标号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log(y-x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y=y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kip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 y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log(x-y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-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es-E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57160" y="164304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NGTH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得到正确输出结果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2786040" y="492912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大秦铁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65725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显示：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矩形 4"/>
          <p:cNvSpPr/>
          <p:nvPr/>
        </p:nvSpPr>
        <p:spPr>
          <a:xfrm>
            <a:off x="1214280" y="1785960"/>
            <a:ext cx="57866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x=5 y=-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3" name="Text Box 36"/>
          <p:cNvSpPr/>
          <p:nvPr/>
        </p:nvSpPr>
        <p:spPr>
          <a:xfrm>
            <a:off x="928800" y="3000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如下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1285920" y="3714840"/>
          <a:ext cx="5724360" cy="1871640"/>
        </p:xfrm>
        <a:graphic>
          <a:graphicData uri="http://schemas.openxmlformats.org/drawingml/2006/table">
            <a:tbl>
              <a:tblPr/>
              <a:tblGrid>
                <a:gridCol w="488880"/>
                <a:gridCol w="495360"/>
                <a:gridCol w="1668600"/>
                <a:gridCol w="1452240"/>
                <a:gridCol w="161928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.38629436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-18.6137056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.79175946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714240" y="11430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生指定观测值个数的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产生一个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观测值的数据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求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然数之和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4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**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求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自然数的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9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处理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d1-d7;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数组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day{7} */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{i}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{i}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用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处理数组时，便于进行批量更新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OVER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357200" y="1928880"/>
            <a:ext cx="7072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对隐含下标数组元素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里的语句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-nam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规定一个隐含下标数组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5716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隐含数组的所有元素乘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5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 .88  .99  .77  .5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071720" y="5429160"/>
          <a:ext cx="6911640" cy="828720"/>
        </p:xfrm>
        <a:graphic>
          <a:graphicData uri="http://schemas.openxmlformats.org/drawingml/2006/table">
            <a:tbl>
              <a:tblPr/>
              <a:tblGrid>
                <a:gridCol w="1150920"/>
                <a:gridCol w="1152360"/>
                <a:gridCol w="1154160"/>
                <a:gridCol w="1150920"/>
                <a:gridCol w="1152360"/>
                <a:gridCol w="115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8" name="TextBox 4"/>
          <p:cNvSpPr/>
          <p:nvPr/>
        </p:nvSpPr>
        <p:spPr>
          <a:xfrm>
            <a:off x="928800" y="500076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es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WHIL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78588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使得当条件成立时重复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857160" y="3143160"/>
            <a:ext cx="79106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值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重复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组中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 l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UNTIL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条件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Rectangle 3"/>
          <p:cNvSpPr/>
          <p:nvPr/>
        </p:nvSpPr>
        <p:spPr>
          <a:xfrm>
            <a:off x="928800" y="3286080"/>
            <a:ext cx="642924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重复循环直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&gt;=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停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&g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黑体"/>
                <a:ea typeface="黑体"/>
              </a:rPr>
              <a:t>选择控制语句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SELECT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选择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select-expressio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67" name="Object 4"/>
          <p:cNvGraphicFramePr/>
          <p:nvPr/>
        </p:nvGraphicFramePr>
        <p:xfrm>
          <a:off x="1000080" y="4286160"/>
          <a:ext cx="7072200" cy="12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286160"/>
                    <a:ext cx="7072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"/>
          <p:cNvSpPr/>
          <p:nvPr/>
        </p:nvSpPr>
        <p:spPr>
          <a:xfrm>
            <a:off x="2485440" y="1282680"/>
            <a:ext cx="456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表</a:t>
            </a:r>
            <a:r>
              <a:rPr b="0" lang="en-US" sz="1800" spc="-1" strike="noStrike">
                <a:solidFill>
                  <a:srgbClr val="080808"/>
                </a:solidFill>
                <a:latin typeface="Calibri"/>
                <a:ea typeface="黑体"/>
              </a:rPr>
              <a:t>5.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没有规定结果变量长度时，由表达式类型确定结果变量长度的准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87280" y="1773360"/>
          <a:ext cx="7320240" cy="3644640"/>
        </p:xfrm>
        <a:graphic>
          <a:graphicData uri="http://schemas.openxmlformats.org/drawingml/2006/table">
            <a:tbl>
              <a:tblPr/>
              <a:tblGrid>
                <a:gridCol w="1884600"/>
                <a:gridCol w="855720"/>
                <a:gridCol w="2203200"/>
                <a:gridCol w="2376720"/>
              </a:tblGrid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表达式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变量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举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原变量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串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第一个字符串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DEF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所有变量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 b $6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b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字符串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第一个字符串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IP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应用举例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285920" y="171468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.5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=_n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uniform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ob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 x=x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x=x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根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计算新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。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执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x*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不变。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执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X*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其它值时，执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e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ep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er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pring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w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all or winte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1285920" y="1500120"/>
            <a:ext cx="6985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all or wintermon=ja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all or wintermon=feb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pring mon=m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pring mon=ap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pring mon=ma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ummer mon=ju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ummer mon=ju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ummer mon=aug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all or wintermon=se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3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357200" y="1071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日志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1523520" y="12189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5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正确及错误用法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后两个程序的效果相同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ARRAY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定义数组。数组通常由一组变量构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数组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简化很多复杂的数据处理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引用数组等价引用构成数组的那一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显式下标数组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71720" y="1500120"/>
            <a:ext cx="7238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显式下标数组由数组名，元素个数说明，及元素列表等构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数组名引用整个数组，通过数组元素序号（也称为下标）引用该元素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{subscript}&lt;$&gt;&lt;length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array-elements&gt;&lt;(initial-values)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1357200" y="3857760"/>
          <a:ext cx="5857920" cy="250020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</a:tblGrid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名字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ubscrip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下标范围或元素个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元素为字符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元素的长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Elemen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组成数组的元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itial-Valu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相应元素的初始值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下标的三种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标用于表示数组中元素的个数和排列的范围。括号可用大括号，中括号或圆括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格式有三种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1285920" y="3068640"/>
          <a:ext cx="5842080" cy="2217600"/>
        </p:xfrm>
        <a:graphic>
          <a:graphicData uri="http://schemas.openxmlformats.org/drawingml/2006/table">
            <a:tbl>
              <a:tblPr/>
              <a:tblGrid>
                <a:gridCol w="2652840"/>
                <a:gridCol w="3189240"/>
              </a:tblGrid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&lt;,…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每一维的元素个数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,…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规定数组中每一维的上下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*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由规定数组中变量的个数来确定下标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5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格式一定义一维、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mple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red, green, yellow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有三个元素，对应的变量命名分别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d, green, yellow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二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l---score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序从左上角开始逐行放入这个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二定义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数组下界时可以省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下界时，可以加快处理时间，因为计算下标的时间减少了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13880" y="785520"/>
            <a:ext cx="6572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数组元素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71720" y="164268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必须全是数值变量，或全是字符变量，可以用任意顺序列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数组元素的两种表示方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临时数组元素列表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Cl-C3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上例句等价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 A{*}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{*} _CHARACTER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建立临时数组元素列表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：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357200" y="185688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MPORARY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临时数组元素列表可以少占用内存，加快执行时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像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变量那样使用临时数组元素，但要注意有下面几点不同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没有名字，引用时必须用数组名和下标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出现在输出的数据集上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特殊下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*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来引用所有元素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临时数组元素的值被自动保存，而不是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变量，在下一次重复开始时被置为缺失值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8-14T01:33:38Z</dcterms:modified>
  <cp:revision>467</cp:revision>
  <dc:subject/>
  <dc:title>第1章 SAS软件入门</dc:title>
</cp:coreProperties>
</file>