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0DAB-A5B3-49B9-8BA5-B408EFE84E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C19-C0C1-4A2D-89F1-1C0753106E32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08F-E7FE-44EE-BC53-471691AC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C45-79D5-4DA2-B01E-786709B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ED20F-A50D-4E8A-BA75-9AAA5ABB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A11E3-094A-45E1-9281-0E1341F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1A5D7-2C98-4947-89F3-799BBD28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5438D-AB3C-4336-A9CD-C8BFA07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6BE91-B010-4658-BAEA-22C146C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1EFD8-27C1-44A1-8B71-59980FD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A64CF-3867-48B0-AF78-4770FC3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890F-B16B-4E4C-9D51-AC153FCF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E6C48-366B-4106-B4B8-91FB6A9B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54EE5-4805-4912-A2F5-C7495B01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28F-CACB-47E4-9005-0E7EAE20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60A7E-956E-4B6F-A8DB-3DEF343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83FD-5865-49D4-BC64-24048A9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04DE-55D8-463E-905A-0F623B19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331A1-1A1B-43D2-96AE-8B18BA1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E690D-6231-4999-BFD7-F5C171A3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CDA4-C6D9-41D4-A9EB-F9EA804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4D652-B9E3-4AFE-8D63-87397D03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D34D-1E6F-49D3-B2AF-DC775DB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04E68-3897-4F6D-A21D-B0D3683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128F8-BE48-4BF6-AAEC-6C510F55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D8B-D19B-4E50-ABAC-56B3F843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7CDB-0623-404A-BD35-D3997BCB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3701-0897-4319-B34D-0927BF34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AF07B-6E7F-4566-AEA0-0C43306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3C7D7-45C0-42AD-9C95-20842C7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BC672-8FAD-4817-A095-32895A1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082C-3B73-43F4-A5A8-C32C1C4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5E2E9-171B-4FBC-BCC1-410009A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A5B4-C45B-4D88-A188-4C263ED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7452-FFAE-47CE-80CF-C9E9F27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796B-00E3-4124-931C-FF296C3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31D5-0878-4B77-A435-CF1C9BDD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25BE-6FEB-4FE3-A576-F7C8E236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14C6-5DA0-45B1-9997-8BADC9FC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740B7-2781-4C19-B369-896197F7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2BAD0-9768-4446-9D03-C12A470E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1CAEF-4EC3-4E62-9741-73924A5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4BC9F-30A8-4768-AF26-77FEB955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AD0C7-924D-44B2-9188-51A14110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F9CE0-4987-4AE8-A314-BE3AD1F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E3CB5-B275-404E-8E46-B2BBAC2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DEF5-0D69-4CF2-8973-8ED4357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BDCA-77F7-4AC1-91D5-211D276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11645-FC70-4CD3-9C7F-B9C4DC4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0CF33-F2A6-4F40-86A0-EA138B1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0B97E-D27F-4998-ADE7-FE64114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0D6B0-1F21-4F17-9618-12A45820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AAA5B-8102-4C75-9E45-3AB44741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8A44B-E319-4FD8-B90D-15312F77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D417F-535C-4679-8E07-7705691F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E5B6E-910F-4FD0-8527-EF4BCAB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C3C56-C8BA-46FB-91D7-4CD6BDCF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26A86-9AEA-406B-8016-B9AB8B2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6E9-201B-4DA0-9408-BE65175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46911-8A29-4999-A94F-8153807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4DB87-B53C-476A-AF24-6B3AA68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B5951-86A7-47B6-B323-8DD24B6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3B705-A4C2-47FE-BA48-D6369D2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72A23-02AD-4535-B4DD-54AF433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EA45C-D33B-4AD6-BD30-412183A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E7142-D9CB-4C55-AC08-A73B78F3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7993-DE37-4C86-ADB9-E3BC2305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A81-23BF-4451-BE16-E5019FD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77A-DB31-4241-9D9B-942EC6B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409-CBBC-43B7-B383-8124656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C7C-1A7D-4952-A5F1-E06B7C7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C38-E44C-4679-8336-BF0B036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29FF-0665-468F-A12C-800F56E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0722-2571-43FE-BE42-4E597D1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C0BB-E6FE-4102-A524-B7D69F3C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5E5-5002-493D-9C07-EB60E265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DB89-AF41-4489-8799-A8704EBF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780E-8113-4F9F-98BA-1F16C02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602B-7D0A-4FC5-8B5E-B6557FC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1FD2-A395-4D61-843D-C143800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0AEB-063D-4B34-9796-4695343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0D2-71D2-4BB6-A70B-2DE81322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D86C-E909-401D-ABB0-AD0D8D7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4A48-EDBC-4672-9C51-66CC8B9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1F89-EB80-430A-8ADD-5F7B699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2DE5-D895-4D5D-B46A-6860F5C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5275-76A6-41CB-8448-FF3BD49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3A84-66F2-4E0C-B118-15BABCB9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0E50-1655-4491-8D92-65B60981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6E44-434C-42E5-8585-F061E1C1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F1BD-A96B-4308-8FA2-DE22D0C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8E1E-4C02-43ED-9A3F-53EEF7D2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F76-46E1-46E7-A2F6-9AE5CE8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02B5-3A3B-4983-91D1-41BC20E5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8F1C-E74C-45A1-BA78-75120C0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1496-4373-4E22-9B05-EA0A285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6999-9344-41B4-8B28-2620902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629F-014C-444B-B65F-13DDB82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0465-53FA-4EAD-8D3D-DE5938A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7378-4B8E-4F30-815F-FBD343C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3AA3-6BE2-49D7-AB53-50C217AD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A7F8-BB77-451B-AF62-2F990EA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28B0-0E03-460F-A610-964FE909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A3B-60CB-4EF8-8108-46350FB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5E68-37C2-4CAA-8D2E-1A776E1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CAB8-148C-4BB4-A184-7370712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B78B-DB59-47C3-8F99-C969F09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C99C-0C5E-40C0-B53A-CAFC222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4654-0186-424E-80FD-18D89C40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462F-5731-478B-954D-2B98894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49B6-CA20-42CD-8F92-1EE32136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118B-F248-44D7-AA12-A22C3E6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1C40-FC92-462C-B990-3C2BA73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F80B-09D3-43D6-9970-852A283F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95E-7D09-4CA4-AAE9-82AFFB57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1010-224A-4750-8D7F-A4D8C3A6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9B059-C638-4948-939D-99A08C33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E0066-E2C2-4CA8-AA94-6D613D0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C651-C858-4618-9CE3-A3A8C47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E784-9A49-4973-A21A-2B5D9A92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3DD1-8FA2-4F33-8C32-66C3345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CEA3-FDDA-4003-992B-93FC046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F85E-BEE2-4CE5-808B-CAAB393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2225-2A30-49A6-A92C-37D5D4A3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CDF1-24AA-4E36-BE1F-36DD431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F53-9081-4FBB-8245-0894F3F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74AF-B9FE-469C-A917-F0219C43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9C2C-0ECB-443E-8291-FFBE9040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B8BA-9F8C-46DF-AF2B-1CAF73DA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5F00-A9BC-4E73-804F-5EAC6883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4C20-2493-42E9-9978-3D59498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14A3-EAB3-4C0A-B33D-AB884905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A3916-6FD6-44E8-B724-9D41B25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39B6-0954-4135-9BBF-D3813C81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E557-65CA-47F4-A42B-661B977A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332A-B5FA-4683-AFBF-3EF9DFA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83F-F87D-4034-9040-0998372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04DE-C88F-4845-9EA2-064758F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88BB-1B46-480A-8FB1-0D1EBEE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0FC24-D800-40BF-894D-2EED83E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1D86-B9EA-46B4-878E-D5797E63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F907D-A7B9-492A-9727-1399C3A2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1C70-93DF-45AA-918D-FB666273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EA78-63A4-4464-8634-BF141BBF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17C7-CA5D-41F8-90C7-5A467C19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4F7E-B0DB-453D-A724-06847FB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1CC7-7E84-46A5-AB3C-D0F824C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D05-E16C-4456-B991-641AD75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7323-FF78-4039-AE80-C14BCD8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1102-A6FB-4CFE-81FB-34DD310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7BBF-5154-459F-BD03-A667469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FE28-90A9-4BCE-BC92-08476A2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C56A-75E6-46FE-A864-AF7DBA8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DDEA-24E9-4A40-93EA-A4BE986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D01C-8135-459E-91AF-2E5C4EE5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3B3F-7115-4E0D-BDD9-C934152E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9BC06-9446-492B-A9C9-98EAA46F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0DA6E-982F-4887-B7AB-F8D5083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6D11-7E0B-4683-9399-8F3BEB35DA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15C-40FA-45C9-8F1D-1AC5FFE170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4AA-CB4B-43DD-95E6-AC5F4D6511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069-64FB-4990-B579-009FF3F579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02F2-E301-4388-9AE6-E224AB5237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0C13-6373-40AE-97BB-FAF208D8D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54D-3DB2-4718-BEB5-921AD15B05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636-3D82-4B5C-A740-0135433DA3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F49-AF37-4FEA-B472-BC75672A04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649-FA83-45DF-ADC0-4B5F347256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7D0-91F9-43BF-B728-2C2FFCCF8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E6CA-734B-4204-B190-DFB4DB5FD2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2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制表与绘图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 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出现在报表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clu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type*expenditures / rt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857160" y="1285920"/>
          <a:ext cx="7715520" cy="4710240"/>
        </p:xfrm>
        <a:graphic>
          <a:graphicData uri="http://schemas.openxmlformats.org/drawingml/2006/table">
            <a:tbl>
              <a:tblPr/>
              <a:tblGrid>
                <a:gridCol w="2014560"/>
                <a:gridCol w="1900440"/>
                <a:gridCol w="1900080"/>
                <a:gridCol w="1900440"/>
              </a:tblGrid>
              <a:tr h="339840">
                <a:tc gridSpan="4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4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 gridSpan="2" row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制行列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 rt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642960" y="1214280"/>
          <a:ext cx="8072280" cy="4240440"/>
        </p:xfrm>
        <a:graphic>
          <a:graphicData uri="http://schemas.openxmlformats.org/drawingml/2006/table">
            <a:tbl>
              <a:tblPr/>
              <a:tblGrid>
                <a:gridCol w="2584440"/>
                <a:gridCol w="1874880"/>
                <a:gridCol w="2152440"/>
                <a:gridCol w="1460520"/>
              </a:tblGrid>
              <a:tr h="333360">
                <a:tc gridSpan="4">
                  <a:txBody>
                    <a:bodyPr lIns="7200" rIns="7200" tIns="7200" bIns="7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" marR="72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4">
                  <a:txBody>
                    <a:bodyPr lIns="7200" rIns="7200" tIns="7200" bIns="7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" marR="72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gridSpan="2" rowSpan="2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92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92040"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47480"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1071720" y="1142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通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L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概况信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4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(division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ubtota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for 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Custom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42960" y="1000080"/>
          <a:ext cx="7786800" cy="5481720"/>
        </p:xfrm>
        <a:graphic>
          <a:graphicData uri="http://schemas.openxmlformats.org/drawingml/2006/table">
            <a:tbl>
              <a:tblPr/>
              <a:tblGrid>
                <a:gridCol w="1803240"/>
                <a:gridCol w="1695600"/>
                <a:gridCol w="1695600"/>
                <a:gridCol w="1544400"/>
                <a:gridCol w="1047960"/>
              </a:tblGrid>
              <a:tr h="349200">
                <a:tc gridSpan="5">
                  <a:txBody>
                    <a:bodyPr lIns="6120" rIns="6120" tIns="6120" bIns="6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gridSpan="5">
                  <a:txBody>
                    <a:bodyPr lIns="6120" rIns="6120" tIns="6120" bIns="6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 gridSpan="2" row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74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,60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rowSpan="3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,45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7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,85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,2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7,06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rowSpan="4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,20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,5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,43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7,3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6,7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44400">
                <a:tc gridSpan="2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otal for All Reg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6,2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37,55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83,84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1143000" y="1071720"/>
            <a:ext cx="69292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行标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o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714240" y="1143000"/>
          <a:ext cx="7572600" cy="4187880"/>
        </p:xfrm>
        <a:graphic>
          <a:graphicData uri="http://schemas.openxmlformats.org/drawingml/2006/table">
            <a:tbl>
              <a:tblPr/>
              <a:tblGrid>
                <a:gridCol w="2427480"/>
                <a:gridCol w="2314440"/>
                <a:gridCol w="1274760"/>
                <a:gridCol w="1555920"/>
              </a:tblGrid>
              <a:tr h="328680">
                <a:tc gridSpan="4"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gridSpan="4"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2" rowSpan="2"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200"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200"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47480"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1447920" y="1294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多页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egion: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ivision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Divis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rt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_page_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de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 and 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1071720" y="287280"/>
          <a:ext cx="6095880" cy="525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nergy Expenditures for Each Region and All Reg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62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1071720" y="930240"/>
          <a:ext cx="6095880" cy="1581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: Northeast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85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0,20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71720" y="2706840"/>
          <a:ext cx="6095880" cy="1581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: West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43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7,34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1071720" y="4430880"/>
          <a:ext cx="6095880" cy="22129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Reg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6,29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7,55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制表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作图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1143000" y="857160"/>
            <a:ext cx="6929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重相应调查数据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_null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f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hen set ResDat.customer_response nobs=cou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symput('num',left(put(count,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)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orma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icture pctfmt low-high='009.9 %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 data=ResDat.customer_respons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factor1-factor4 custom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 factor1='Co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2='Performance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3='Reliability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4='Sales Staff'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n='Count'*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 pctn&lt;customer&gt;='Percent'*f=pctfmt9.)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1143000" y="9997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'Customer Survey Results: Spring 1996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3 'Factors Influencing the Decision to Buy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nonumb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 data=ResDat.customer_respons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source1-source3 custom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 source1='TV/Radio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ource2='Newspaper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ource3='Word of Mouth'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n='Count'*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 pctn&lt;customer&gt;='Percent'*f=pctfmt9.)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'Source of Company Name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 "Number of Respondents: &amp;num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formdlim=' '  numb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1523880" y="928800"/>
          <a:ext cx="6096240" cy="6969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2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Survey Results: Spring 199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32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32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actors Influencing the Decision to Bu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1714680"/>
          <a:ext cx="6096240" cy="17334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.5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liabilit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5.0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ales Staff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.0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523880" y="3513240"/>
          <a:ext cx="6096240" cy="23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1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ource of Company 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1547640" y="4021200"/>
          <a:ext cx="6096240" cy="1387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7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V/Radio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spaper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7.5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7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ord of Mouth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1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523880" y="5513400"/>
          <a:ext cx="6096240" cy="23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1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umber of Respondents: 120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114300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重选择调查数据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$timefm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-9 a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9 a.m. to noon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3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oon to 1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4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-4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5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4-6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6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-10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7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0 p.m. to 2 a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*** Data Entry Error ***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$pgmfm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Don't Listen"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ock and Top 40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ountry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4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5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Jazz, Classical, and Easy Listening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7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ews/ Information /Talk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8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Other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114300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*** Data Entry Error ***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radi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adio_transposed(rename=(col1=Choice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imespa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sten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1-time7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time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ic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pgm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adio_transposed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 choic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of Da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hoic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hoice of Radio Progra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umber of Listen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istening Preferences on Weekday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3"/>
          <p:cNvSpPr/>
          <p:nvPr/>
        </p:nvSpPr>
        <p:spPr>
          <a:xfrm>
            <a:off x="2860200" y="12142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istening Preferences on Weekday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42960" y="1914480"/>
          <a:ext cx="7858080" cy="2998800"/>
        </p:xfrm>
        <a:graphic>
          <a:graphicData uri="http://schemas.openxmlformats.org/drawingml/2006/table">
            <a:tbl>
              <a:tblPr/>
              <a:tblGrid>
                <a:gridCol w="1122480"/>
                <a:gridCol w="1122120"/>
                <a:gridCol w="1122480"/>
                <a:gridCol w="1123920"/>
                <a:gridCol w="1122480"/>
                <a:gridCol w="1122120"/>
                <a:gridCol w="1122480"/>
              </a:tblGrid>
              <a:tr h="313200">
                <a:tc rowSpan="3"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6"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oice of Radio Program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on't Liste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ck and Top 40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ry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azz, Classical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nd Easy Listening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s/ Informatio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/Talk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87440">
                <a:tc>
                  <a:txBody>
                    <a:bodyPr lIns="65160" rIns="651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ime of Day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24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3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4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78240">
                <a:tc>
                  <a:txBody>
                    <a:bodyPr lIns="65160" rIns="651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*** Data Entry Error ***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523520" y="12193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百分比统计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ctfmt low-high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009 %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Fundraiser Sale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undrai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am classrm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team all)*sal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r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lassroo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(su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 /rt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floa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3"/>
          <p:cNvSpPr/>
          <p:nvPr/>
        </p:nvSpPr>
        <p:spPr>
          <a:xfrm>
            <a:off x="4009320" y="8571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undraiser Sa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28800" y="1428840"/>
          <a:ext cx="7215120" cy="3354120"/>
        </p:xfrm>
        <a:graphic>
          <a:graphicData uri="http://schemas.openxmlformats.org/drawingml/2006/table">
            <a:tbl>
              <a:tblPr/>
              <a:tblGrid>
                <a:gridCol w="720720"/>
                <a:gridCol w="722160"/>
                <a:gridCol w="720720"/>
                <a:gridCol w="722520"/>
                <a:gridCol w="720720"/>
                <a:gridCol w="722160"/>
                <a:gridCol w="722160"/>
                <a:gridCol w="720720"/>
                <a:gridCol w="722520"/>
                <a:gridCol w="720720"/>
              </a:tblGrid>
              <a:tr h="3769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8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l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w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p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l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w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p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a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6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3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7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LU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GREE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6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2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3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7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1523880" y="5370480"/>
          <a:ext cx="6096240" cy="263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umber of Respondents: 120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499760" y="100008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的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html.htm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eight=bold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just=center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le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just=left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siz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ywo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ll sum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idth=wide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y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l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Total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region all)*(division all*[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background=yellow]]),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type all)*(expenditures*f=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0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/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background=red]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misst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labe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Missing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eight=light]]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labe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Region by Division by Type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style=italic]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1071720" y="214200"/>
          <a:ext cx="6095880" cy="525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nergy 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62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1285920" y="814320"/>
          <a:ext cx="5857920" cy="6043680"/>
        </p:xfrm>
        <a:graphic>
          <a:graphicData uri="http://schemas.openxmlformats.org/drawingml/2006/table">
            <a:tbl>
              <a:tblPr/>
              <a:tblGrid>
                <a:gridCol w="1171440"/>
                <a:gridCol w="1171800"/>
                <a:gridCol w="1171440"/>
                <a:gridCol w="1171440"/>
                <a:gridCol w="1171800"/>
              </a:tblGrid>
              <a:tr h="300600">
                <a:tc gridSpan="2" rowSpan="4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 by Division by Typ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0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rowSpan="3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orthea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4,45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85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0,20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7,06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0600">
                <a:tc rowSpan="4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West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0,20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5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43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7,34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6,78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0600">
                <a:tc rowSpan="6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0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4,45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0,20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5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6,29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7,55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83,84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38" name="矩形 5"/>
          <p:cNvSpPr/>
          <p:nvPr/>
        </p:nvSpPr>
        <p:spPr>
          <a:xfrm>
            <a:off x="2941560" y="7000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umber of Respondents: 120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制表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制作汇总报表展现数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制表过程既有频数统计和常用描述统计的计算功能，又有很强的用表格展现数据的功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作图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形是展现数据的重要方法，图形的形象直观是数据报表无法替代的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GRAP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具有强大的作图功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SAS/GRAP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软件可以展现图形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散点图及连线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地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P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三维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 GRAPHIC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幻灯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XT SLIDES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章介绍制作图形的两个基本过程：作图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和图表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作图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高精度散点图及连线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作图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650600" y="200628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ANNOTAT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nnotate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GOUT=&l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MAGEMAP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UNIFORM&gt;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LO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横轴变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行在前面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竖轴变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在后面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1612800" y="3137040"/>
          <a:ext cx="6991560" cy="155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137040"/>
                    <a:ext cx="699156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YMBO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600200" y="2145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图中线和符号的特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1612800" y="3149640"/>
          <a:ext cx="5191200" cy="23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149640"/>
                    <a:ext cx="519120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XI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87600" y="2184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XI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图形的轴的表现形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612800" y="3200400"/>
          <a:ext cx="67042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200400"/>
                    <a:ext cx="67042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简单泡沫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1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" descr="gplot"/>
          <p:cNvPicPr/>
          <p:nvPr/>
        </p:nvPicPr>
        <p:blipFill>
          <a:blip r:embed="rId1"/>
          <a:stretch/>
        </p:blipFill>
        <p:spPr>
          <a:xfrm>
            <a:off x="1714680" y="1357200"/>
            <a:ext cx="527652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1523520" y="1142640"/>
            <a:ext cx="723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泡沫的大小和标签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2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um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7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lab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i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1" descr="gplot1"/>
          <p:cNvPicPr/>
          <p:nvPr/>
        </p:nvPicPr>
        <p:blipFill>
          <a:blip r:embed="rId1"/>
          <a:stretch/>
        </p:blipFill>
        <p:spPr>
          <a:xfrm>
            <a:off x="1762200" y="135720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制表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&lt;DESCENDING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NOTSORTED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LEV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=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element-nam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| &lt;PARENT&gt;&g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[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attribute-specifica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]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LABEL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-1='description-1'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-n='description-n'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=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element-nam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| &lt;PARENT&gt;&g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[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attribute-specifica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]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age-expressio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ow-expressio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olumn-expression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-op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analysis-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523520" y="13716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.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右侧加一垂直轴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jobs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j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en=dollars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3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599840" y="107928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um ye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9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lab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i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en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0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0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1" descr="gplot2"/>
          <p:cNvPicPr/>
          <p:nvPr/>
        </p:nvPicPr>
        <p:blipFill>
          <a:blip r:embed="rId1"/>
          <a:stretch/>
        </p:blipFill>
        <p:spPr>
          <a:xfrm>
            <a:off x="1905120" y="12812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785520" y="213840"/>
            <a:ext cx="6643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连接图形的观测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reset=global gunit=pct border cback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ors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title=swissb ftext=swiss htitle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 htext=4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1 'Dow Jones Yearly Highs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1 h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 j=l ' Source: 1997 World Almanac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j=r 'GR21N05 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1 color=red  interpol=join value=dot 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 data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lot high*year / haxi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955 to 1995 by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xi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o 6000 by 1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re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000 3000 5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vre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vref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xis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text=re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ui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gplot3"/>
          <p:cNvPicPr/>
          <p:nvPr/>
        </p:nvPicPr>
        <p:blipFill>
          <a:blip r:embed="rId1"/>
          <a:stretch/>
        </p:blipFill>
        <p:spPr>
          <a:xfrm>
            <a:off x="1619280" y="12812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1447920" y="1219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4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1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叠加图形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ow Jones Yearly Highs and Low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l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ource: 1997 World Almanac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6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pol=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marker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pol=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600200" y="110448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ymbol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top center insid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har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igh*year low*year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verl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r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vr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gplot4"/>
          <p:cNvPicPr/>
          <p:nvPr/>
        </p:nvPicPr>
        <p:blipFill>
          <a:blip r:embed="rId1"/>
          <a:stretch/>
        </p:blipFill>
        <p:spPr>
          <a:xfrm>
            <a:off x="1785960" y="121428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285920" y="85680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填充图形下面的区域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reset=global gunit=pct border cback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ors=(blue red) ctext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title=swissb ftext=swiss htitle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 htext=4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1 'Dow Jones Yearly Highs and Lows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1 h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 j=l ' Source: 1997 World Almanac' j=r 'GR21N07 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1 interpol=joi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xis1 order=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955 to 1995 by 5) offset=(2,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j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n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xis2 order=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o 6000 by 1000) offset=(0,0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j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n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128592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接上页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 data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lot low*year high*year / overl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axis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xis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xis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rea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ui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98" name="Object 2"/>
          <p:cNvGraphicFramePr/>
          <p:nvPr/>
        </p:nvGraphicFramePr>
        <p:xfrm>
          <a:off x="1562040" y="2286000"/>
          <a:ext cx="6826320" cy="30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286000"/>
                    <a:ext cx="68263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gplot5"/>
          <p:cNvPicPr/>
          <p:nvPr/>
        </p:nvPicPr>
        <p:blipFill>
          <a:blip r:embed="rId1"/>
          <a:stretch/>
        </p:blipFill>
        <p:spPr>
          <a:xfrm>
            <a:off x="2000160" y="14288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1"/>
          <p:cNvSpPr/>
          <p:nvPr/>
        </p:nvSpPr>
        <p:spPr>
          <a:xfrm>
            <a:off x="1571760" y="857160"/>
            <a:ext cx="6429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2.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同刻度值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verage Monthly Temperature for Minneapoli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Source: 1984 American Expres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          Appointment Book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21N09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p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eed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t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p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A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EB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A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P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A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UN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U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UG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P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OC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OV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C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1357200" y="1000080"/>
            <a:ext cx="607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gre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ust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Centigrad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grees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ustif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f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ahrenhei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pl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minntemp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2*month 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2*month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gplot6"/>
          <p:cNvPicPr/>
          <p:nvPr/>
        </p:nvPicPr>
        <p:blipFill>
          <a:blip r:embed="rId1"/>
          <a:stretch/>
        </p:blipFill>
        <p:spPr>
          <a:xfrm>
            <a:off x="1571760" y="135720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1"/>
          <p:cNvSpPr/>
          <p:nvPr/>
        </p:nvSpPr>
        <p:spPr>
          <a:xfrm>
            <a:off x="1143000" y="1000080"/>
            <a:ext cx="66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回归结果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从锐思数据库下载股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006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月持有期收益：股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收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持有期收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月收益，选择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006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股票并下载生成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s_sas.Monret_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计算超额收益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600603_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_sas.Monret_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00603=Monret-MonRfR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m=Mretmc-MonRfR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回归与作图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600603_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600603=r_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  l95=l  u95=u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m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兴业房产股票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1"/>
          <p:cNvSpPr/>
          <p:nvPr/>
        </p:nvSpPr>
        <p:spPr>
          <a:xfrm>
            <a:off x="1357200" y="671400"/>
            <a:ext cx="5500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1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_ou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data(keep=y_value pt_type r_m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ou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_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Observation Typ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var(</a:t>
            </a:r>
            <a:r>
              <a:rPr b="1" lang="pt-BR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600603  p  l u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label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ua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Predicted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Lower Limi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Upper Limi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_value=regvar(i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_type=varlabel(i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1"/>
          <p:cNvSpPr/>
          <p:nvPr/>
        </p:nvSpPr>
        <p:spPr>
          <a:xfrm>
            <a:off x="1357200" y="928800"/>
            <a:ext cx="64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接上页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pl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gdat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_value*r_m=pt_typ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green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0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r600603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MSUN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实际值和预测值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MSUN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带有上、下置信限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" descr="reg"/>
          <p:cNvPicPr/>
          <p:nvPr/>
        </p:nvPicPr>
        <p:blipFill>
          <a:blip r:embed="rId1"/>
          <a:stretch/>
        </p:blipFill>
        <p:spPr>
          <a:xfrm>
            <a:off x="1714680" y="1285920"/>
            <a:ext cx="5495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图表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71360" y="185688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高精度图表。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制作二维或三维的柱状图和饼图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句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CHA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&lt;ANNOTATE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nnotate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GOUT=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&g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IMAGEMAP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LOCK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BAR | HBAR3D | VBAR | VBAR3D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IE | PIE3D | DON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A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现的是数据的汇总信息，即在某种分类下分析变量的某些统计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12189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图形类别及相关统计量数值的表示方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2" name="Object 2"/>
          <p:cNvGraphicFramePr/>
          <p:nvPr/>
        </p:nvGraphicFramePr>
        <p:xfrm>
          <a:off x="708120" y="2000160"/>
          <a:ext cx="804060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000160"/>
                    <a:ext cx="80406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TAB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&l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ge-expressi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w-expressi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lumn-expression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-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没有一个缺省的报表格式，所有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输出报表时，必须先对报表的进行布局设计。报表布局设计要用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非常复杂，这里我们通过例子来说明一些选项的使用方法 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分类变量及类别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类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也称为作图变量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根据它的值将数据分成若干类，然后分别对柱或角来表示分析变量在某一类中的汇总结果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分类变量确定类别的方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6" name="Object 2"/>
          <p:cNvGraphicFramePr/>
          <p:nvPr/>
        </p:nvGraphicFramePr>
        <p:xfrm>
          <a:off x="1638360" y="3772080"/>
          <a:ext cx="718164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3772080"/>
                    <a:ext cx="718164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428840" y="1214280"/>
            <a:ext cx="7238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还提供不同的选项允许按不同的要求进行分类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不提供分析变量时，作图时使用的缺省统计量是频数，指明分析变量时使用的缺省统计量是总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为了控制柱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饼的角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排列顺序和用数值变量分类时类的个数。可以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与分类变量有关的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与分类变量有关的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9" name="Object 2"/>
          <p:cNvGraphicFramePr/>
          <p:nvPr/>
        </p:nvGraphicFramePr>
        <p:xfrm>
          <a:off x="1428840" y="4000680"/>
          <a:ext cx="705492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000680"/>
                    <a:ext cx="7054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1642680" y="114300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类变量选项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v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/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10000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 / mindpoint=’BJ’ ‘SH’ ‘GZ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择分析变量和统计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14280" y="2057400"/>
            <a:ext cx="73584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择分析变量时，缺省使用每个类的观测频数为输出统计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择分析变量和统计量的选项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VAR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分析变量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YPE=FREQ|CFREQ|PERCENT|CPERCENT|MEAN|SU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别设定统计量为频数、累积频数、百分比、累积百分比、均值或总和。没有规定分析变量时，缺省统计量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分析变量时，缺省统计量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统计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必须规定分析变量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071720" y="4857840"/>
            <a:ext cx="6929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分析变量和统计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city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sal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0008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2.2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总和统计量柱形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242424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98" name="Picture 1" descr="1st"/>
          <p:cNvPicPr/>
          <p:nvPr/>
        </p:nvPicPr>
        <p:blipFill>
          <a:blip r:embed="rId1"/>
          <a:stretch/>
        </p:blipFill>
        <p:spPr>
          <a:xfrm>
            <a:off x="4714920" y="3049560"/>
            <a:ext cx="39290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928800" y="9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柱形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verage Sales by Departmen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2 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Quarter: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middle left outsid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otec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000080" y="11426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uarter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om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'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'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ea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d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ydne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tlanta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quart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headi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1" name="Picture 1" descr="2nd"/>
          <p:cNvPicPr/>
          <p:nvPr/>
        </p:nvPicPr>
        <p:blipFill>
          <a:blip r:embed="rId1"/>
          <a:stretch/>
        </p:blipFill>
        <p:spPr>
          <a:xfrm>
            <a:off x="4714920" y="2714760"/>
            <a:ext cx="418464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Box 3"/>
          <p:cNvSpPr/>
          <p:nvPr/>
        </p:nvSpPr>
        <p:spPr>
          <a:xfrm>
            <a:off x="1071720" y="11430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总和统计量柱形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red blue gree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tal Sal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3(a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l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3(b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bar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[IMAGE]"/>
          <p:cNvPicPr/>
          <p:nvPr/>
        </p:nvPicPr>
        <p:blipFill>
          <a:blip r:embed="rId1"/>
          <a:stretch/>
        </p:blipFill>
        <p:spPr>
          <a:xfrm>
            <a:off x="2643120" y="142920"/>
            <a:ext cx="4334040" cy="31050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3" descr="[IMAGE]"/>
          <p:cNvPicPr/>
          <p:nvPr/>
        </p:nvPicPr>
        <p:blipFill>
          <a:blip r:embed="rId2"/>
          <a:stretch/>
        </p:blipFill>
        <p:spPr>
          <a:xfrm>
            <a:off x="2643120" y="3286080"/>
            <a:ext cx="43340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1213920" y="642600"/>
            <a:ext cx="7239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2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子组垂直柱形图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red green blue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ha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 by Sit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4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r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56840" y="1213920"/>
            <a:ext cx="7572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二维报表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fm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orthea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outh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idwe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Wes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fm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ew England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iddle Atlantic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ountain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acific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usetyp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esidential Customers‘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Business Customers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143000" y="57132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ip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cya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i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quarter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oman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bar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pc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fr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r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7" name="Picture 1" descr="5th"/>
          <p:cNvPicPr/>
          <p:nvPr/>
        </p:nvPicPr>
        <p:blipFill>
          <a:blip r:embed="rId1"/>
          <a:stretch/>
        </p:blipFill>
        <p:spPr>
          <a:xfrm>
            <a:off x="4049640" y="2643120"/>
            <a:ext cx="462780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3"/>
          <p:cNvSpPr/>
          <p:nvPr/>
        </p:nvSpPr>
        <p:spPr>
          <a:xfrm>
            <a:off x="1357200" y="785880"/>
            <a:ext cx="578664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控制水平柱形图中点和统计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itness Program Participan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5(a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umber of Peop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ome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e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ya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fi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p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6tha"/>
          <p:cNvPicPr/>
          <p:nvPr/>
        </p:nvPicPr>
        <p:blipFill>
          <a:blip r:embed="rId1"/>
          <a:stretch/>
        </p:blipFill>
        <p:spPr>
          <a:xfrm>
            <a:off x="1857240" y="1357200"/>
            <a:ext cx="5248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3"/>
          <p:cNvSpPr/>
          <p:nvPr/>
        </p:nvSpPr>
        <p:spPr>
          <a:xfrm>
            <a:off x="1357200" y="857160"/>
            <a:ext cx="614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程序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5(b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umber of Peop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oup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bar3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/ midpoints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labe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tal in Group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roup=ag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s=axis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xis=axis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end=legend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line=bla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6thb"/>
          <p:cNvPicPr/>
          <p:nvPr/>
        </p:nvPicPr>
        <p:blipFill>
          <a:blip r:embed="rId1"/>
          <a:stretch/>
        </p:blipFill>
        <p:spPr>
          <a:xfrm>
            <a:off x="1785960" y="1214280"/>
            <a:ext cx="5248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071360" y="1142640"/>
            <a:ext cx="73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.2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总和统计量饼图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8(a)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8(b)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e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xpl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ari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3" name="Picture 4" descr="[IMAGE]"/>
          <p:cNvPicPr/>
          <p:nvPr/>
        </p:nvPicPr>
        <p:blipFill>
          <a:blip r:embed="rId1"/>
          <a:stretch/>
        </p:blipFill>
        <p:spPr>
          <a:xfrm>
            <a:off x="5786280" y="1785960"/>
            <a:ext cx="3027600" cy="21607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[IMAGE]"/>
          <p:cNvPicPr/>
          <p:nvPr/>
        </p:nvPicPr>
        <p:blipFill>
          <a:blip r:embed="rId2"/>
          <a:stretch/>
        </p:blipFill>
        <p:spPr>
          <a:xfrm>
            <a:off x="4419720" y="4178160"/>
            <a:ext cx="30272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1143000" y="856800"/>
            <a:ext cx="69292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3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圆环图或饼图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es by Site and Departme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9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cr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1143000" y="107172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页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n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nut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ust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Quart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head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gchart2"/>
          <p:cNvPicPr/>
          <p:nvPr/>
        </p:nvPicPr>
        <p:blipFill>
          <a:blip r:embed="rId1"/>
          <a:stretch/>
        </p:blipFill>
        <p:spPr>
          <a:xfrm>
            <a:off x="2071800" y="14288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72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type*expenditures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928800" y="1000080"/>
          <a:ext cx="7929360" cy="4576680"/>
        </p:xfrm>
        <a:graphic>
          <a:graphicData uri="http://schemas.openxmlformats.org/drawingml/2006/table">
            <a:tbl>
              <a:tblPr/>
              <a:tblGrid>
                <a:gridCol w="2536560"/>
                <a:gridCol w="2421000"/>
                <a:gridCol w="1543320"/>
                <a:gridCol w="1428480"/>
              </a:tblGrid>
              <a:tr h="500760">
                <a:tc gridSpan="4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2" rowSpan="4"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82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3800"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9:25:43Z</dcterms:modified>
  <cp:revision>473</cp:revision>
  <dc:subject/>
  <dc:title>第1章 SAS软件入门</dc:title>
</cp:coreProperties>
</file>