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04C-4867-43E9-93D7-7D4B4F9FA4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A8E-68B5-4304-9087-DB2E7744E341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38B-F285-43DA-B196-1093CC28B15B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892-ECE6-4BF2-A730-B7442A2B4A3D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8888-F149-4C30-AEE4-978E67F0E2E0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4493-F345-4352-B573-4086D687B66F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88B-918F-48AA-BF05-7B73C33D40DF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8B3-8C67-4A34-AD69-1AAC8D3B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59A-809C-43C1-ADCA-C3BFCAC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7FBCE-41D9-469E-81F3-F50A7D7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87375-A831-4764-81CD-CD282541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1F39-6957-436F-BAA1-826C8AE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AC54A-801B-4834-93A2-6184C56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1171D-03A3-4B4B-B9AE-563D681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C89A8-28C9-4FBD-A4A8-185FB8A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69AED-9310-4C70-AD0E-57CEF84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0DC2-E86B-46C0-86C2-4EC176A1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7844C-3283-4EAE-81BF-81C05C7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D5449-D5B9-488B-87EE-AC7E0E19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E50-5F23-4DB7-9485-2F7250D3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BF8AA-6B1A-4BA4-84A4-C1D523C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7E878-D079-49B2-A429-61529C07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529FD-8A04-41EC-A486-4DD9B54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31F0A-B683-4496-88E4-C0221CB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7EA73-390D-45A8-B952-5159EB2A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C1AED-12F7-49E5-8DC3-27BEBF9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4C0D2-E600-4D23-B6C5-E6F02E8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0B805-76ED-4831-B0B7-22C21673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8DAF0-E699-498A-A91C-5FDBD2D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549C0-C7AF-4B7D-BA85-649F3DD0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DD2-A72B-4B27-9D8F-AEF5FA8D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A22F5-B19B-4179-9066-87BCDB16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30C1F-1127-4ADB-85A3-6FA0140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8B09C-2E10-4209-99C3-868B405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DBB21-5AD3-4325-9293-85D3C45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ACAE-D554-4083-BAF3-C70168F5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DBFAC-ECF9-42D7-95DA-44DD0BF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32CB-F038-4745-83A4-4D26077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B83EC-9739-4876-B409-4957ACE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A1BC2-D2B5-4FB3-A53A-21952D30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A95DC-F655-44B0-8EFE-F1ED71A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C42F-2A92-4DF8-B2D6-45C0A674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04584-DBE6-42B7-91A7-461DFE2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542F7-E3C9-453B-91F0-4F46EE1F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FB370-EF29-4EB7-9C45-41F60C5E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878B2-0E58-4AB1-89DA-CC82B41A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ACC3-72D5-49C5-8EAB-E99DD626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F765F-B05A-4AD8-944B-DADE73D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315AF-8247-4AB3-AA3C-E9E88219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A5AC7-B0E2-4B0B-A9F1-1C9E9A0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0372B-27EB-4094-920F-79641E13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7F789-3F50-415D-BAD5-7907FBA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751-9616-4D34-AE1F-0863925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09AFA-1F7D-460B-B871-C2261FE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EFEC2-A3B7-4742-A535-6DA890F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6F712-CBA5-4780-9B18-7C0D335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46D0C-7235-4A9A-9230-D93B2A61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791DA-70F4-4CA4-86DE-3F758ABE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49AA5-DB03-4868-BD59-D2DC7286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C0C13-19D6-45A0-AED7-2BB419BD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F8C4D-7452-46B2-BDCB-FF0C0E2E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7FC84-317F-4CF0-BF49-D514D80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6FB01-19DD-455E-BD25-50DCE16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D37-E713-4F47-9324-85D78CC0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86CBA-F579-4A02-9F78-5C965457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43110-7A74-4B1E-BFC2-377C477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B9CAE-DC90-49F8-A65A-4D30BED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BB04C-350C-467A-AE43-883349E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58272-9DB7-4F0C-85C9-DA9B7F23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65431-11D0-43BA-ACD5-EBD1E43B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08C6-41A6-4349-8304-E35A45A7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EAAE2-A114-4798-8BD2-80526EAC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5BAEB-60D8-45B6-A2F7-3A8C8D0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ABF12-718F-442C-AC1D-E15519E9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197-5463-43A2-81F6-0B354E84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9641E-1C81-49C4-A8E0-E359F6A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8F70A-122C-4E66-9995-8A85381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BD196-8F83-4FF5-AB21-3E93683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CFD37-A9D0-423C-8C43-36906BD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75D86-62CC-41EF-8EFD-008008D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303BB-281D-47D8-A6D5-0CE16F9D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F9151-FF53-4FF3-9A83-3248B1D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5044A-A2BB-45DA-8EA4-2706A15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65912-E263-4B62-91F8-BA2FADED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0CC-D871-4193-8679-A6911820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64EE-C921-46E1-92A7-4B6FB1E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9B65-9B77-4369-875C-9C03FD4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401-8EE3-4E32-B80B-3A9644AB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3499-EEFA-4E7A-9DB2-F5B7D1B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8F1-19C5-4673-A3DC-4DE982E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A069-09AD-48D0-A834-395F9CBB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85C6-320A-4257-A6AD-1ECDAB40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FB99-160F-4770-8D22-1D2AF0CD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8A69-8E2A-4427-AF01-7621712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279F-1C16-4E72-AA11-012C7E7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8BBA-77ED-4651-8AFD-39BACFCE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4DC8-F920-4ED3-AC66-7A1B39B5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63F3-9FE6-4C1F-BB39-E25C4FC6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8F5-B114-4747-9846-6C2DFC3D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9A14-5EC7-4EB2-A2DA-7EC8A51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9DE1-782E-44B9-8783-8598B90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2609-8738-4CD6-96A1-2E3C9FB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D297-DE9F-42E3-813D-E3983B1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7C22-475F-4811-8352-CF3C5F5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065E-66F1-4E09-BCBD-DC0B46EE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EE2A-D982-4D70-9246-A408290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E6B4-CBD6-49B0-A84E-509C7A4A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3AD4-A455-47DC-924A-ACD34457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5F37-4918-4562-9CF3-303E9E9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C73-A643-4C4A-BEFB-73984937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9FE3-1011-47F1-9518-2219005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E608-A925-45AC-AA45-B2CAE92D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C2FD-5D96-4F87-9A5B-2663219B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2C2D-E9CB-46D6-8F47-F26486D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2286-DD7B-4B3E-AEEE-B426BCA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1021-6AF8-411A-AE8E-6A6FFFE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AA13-62D5-4705-B1B7-BB73D67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70B7-0070-437A-BC93-958C0B0B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6849-0623-4981-A16B-F2B2F59C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297B-C92B-420E-9597-14223D76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C74-439F-4B90-AF85-4DA6493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3498-8B47-4F2C-BDE0-94897A9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231D-F5C4-42D7-A295-874ABDC6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A3F99-1ECB-4C2E-A3C0-19D01AAF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6CB4A-0B41-4ADC-83A6-5BBFB74B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4115-3506-497D-AC14-EE8CBC41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0D8A-6D09-4F38-8C3A-539D337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83E6-0727-4B50-B4C4-A32910B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1088-A2EC-42A2-A8FE-46A244B5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67305-4D19-45B3-871F-4AC2812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3DDF-12F5-4C51-9A58-C64CFE8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A0E-9BD8-4358-8654-CF9455E7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9AFB-C9F8-4DAF-A7E6-627D8414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46B3-FC6D-414C-8E39-95594C3C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DAF0E-D109-42E1-96C5-CD320DD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D3DA-13E8-429E-B9B2-0945642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0330-2386-4047-AA1D-3C5D6547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A194-C64A-42C8-9595-AC872F6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E1D4-B748-4753-A90B-A99D861A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969E1-837B-4D4B-8440-F9F68031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A9FC-92D0-4BE8-BAA3-0EE5DB7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75E1-C3FC-4D8C-84CF-A87A1C0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242-6686-429A-B90D-77D6B9B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4177-CD8F-4C0E-873E-436AB90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D94A-D9B2-460B-9297-5ACF8ABA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B5F4-5221-4D44-A313-D555E70F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F3A6-B1D6-441A-93AB-12E84526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6640-9707-40AB-8D0C-F06652A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1BD5-1D02-4176-B28A-374F19F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150B-ED68-425D-B07F-D4C663F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7DFD-7490-4F27-B308-69A3F9C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5F59-425B-4CDB-9340-784BD5E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710FB-3257-4EAF-AEC0-7671471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87C-64FE-416E-82CD-E6A3B0A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8EE0-AF21-4646-95FC-B3C39BC8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545B-7F7A-42C2-84FC-5189445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C28D2-369B-4C8C-BD21-825F2E2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1A03-B432-43E8-B40D-6E52072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B36EA-3BBA-4DD8-9360-61ED20F0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7FF82-AC4A-419F-80C5-F6980FAC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F7AA3-7A43-46C8-A555-0A92762D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0AB0A-9F4A-4694-A715-43F83A47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2FBA-7672-4862-9A41-02FDD82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1722-5C49-4CB4-9D73-92279A3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D43-9F2C-4755-83FE-9FA401B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B35A-A6D6-4BDC-9F1B-84BB7EC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E7B5-4F39-48CF-81F9-8C5608B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F0005-EBA3-4CA0-A8CA-59949A4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4271-C3DB-4E54-A763-D25ABDF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7C10-CC0F-45A4-B616-D3BCD9E9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F47F0-E3AA-4633-9D18-3733849E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17D5-3E85-40FF-BC96-A6A9794A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11A2D-4F44-4470-9BE3-A21FAA67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8B931-46F8-4431-AF3B-8675074B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132EE-AB64-426E-97F3-7662415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2E7-4006-454E-87F6-95AC3D3218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608-D6F9-4DAB-AE07-61F05FE4D5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B81-4F55-4AB7-BD91-E1CD7B36A2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0CA-78BA-4A14-9755-8135032998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A8D-BD7B-4DF9-9B01-767262BD54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59A-6622-4D29-82BC-8F2AFB5676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8964-E628-479D-BE7D-E5E993C40D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BB23-DA37-432C-8C96-641F75B9B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4523-CA40-494E-B14B-14EBD6FF5B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7CF-C94A-4E41-8934-212C7E3770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353A-6FA7-436F-B256-6BCFB3E619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7F0-2CF7-4964-8E07-BE297D0A29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B98-FF42-447C-BEA4-053B8A9EA1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61840" y="392832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Q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讲义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285560" y="1856880"/>
            <a:ext cx="6972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条件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表达式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比较算符和逻辑算符还有一些等价形式，具体参见教材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所有算符前面加一个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t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算符，可以得到相反的选择条件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条件较复杂时，可以将表达式用括号括起来，以突出逻辑关系、增强可读性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714680" y="2286000"/>
          <a:ext cx="5857560" cy="1584360"/>
        </p:xfrm>
        <a:graphic>
          <a:graphicData uri="http://schemas.openxmlformats.org/drawingml/2006/table">
            <a:tbl>
              <a:tblPr/>
              <a:tblGrid>
                <a:gridCol w="2757240"/>
                <a:gridCol w="3100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常用算符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^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gt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gt;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逻辑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|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amp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^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条件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y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ll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s null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contain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xist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ke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ween-an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071360" y="185688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几个重要条件算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符合选项之一；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+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etween-an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一定范围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ik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：部分或全部匹配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代替任意数量的字符；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代替一个字符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between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sex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or (sex=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&lt;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%h%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_h%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GROUP BY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ORDER BY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8440" y="192852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与汇总函数结合使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汇总函数按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进行分组汇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默认整个表为一组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没有汇总函数，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纯分组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der by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果排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sex, count(sex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vg(h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ex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572080" y="1817640"/>
          <a:ext cx="3143160" cy="268308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汇总函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vg, mea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均值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ount, freq, 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非缺失值个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x, mi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最大、最小值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求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var, st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方差、标准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s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修正平方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异系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HAVING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28440" y="192852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VING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筛选组数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V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组设定条件，进行检索筛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汇总函数后运行，可以引用汇总函数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的区别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观测设定条件，进行检索筛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汇总函数前运行，不可以引用汇总函数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, avg(h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av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213920" y="1785600"/>
            <a:ext cx="6829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te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表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a.comcd, b.stkcd, b.lstknm,   a.csrciccd1, count(a.comc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 a left join resdat.lstkinfo b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a.Stkcd=b.stkc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estdt&g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1jan1985'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查询语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终止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综合练习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57160" y="18568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名字首字母不是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学生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年龄分组统计平均体重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g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、每组人数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平均体重大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组，列示年龄、平均体重、每组人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年龄倒序排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程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, avg(w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w, count(*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not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B%'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av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w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二、多表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57160" y="192852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ROM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后面直接加一个表名，实现从单个表中检索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涉及多个表，常使用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连接或子查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连接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从多个表中选取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数据来自不同的表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子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通过表与表之间的联系选取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选择一个表的数据时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需要参照其他表的信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4643280" y="2217600"/>
          <a:ext cx="4000680" cy="3997440"/>
        </p:xfrm>
        <a:graphic>
          <a:graphicData uri="http://schemas.openxmlformats.org/drawingml/2006/table">
            <a:tbl>
              <a:tblPr/>
              <a:tblGrid>
                <a:gridCol w="500400"/>
                <a:gridCol w="642600"/>
                <a:gridCol w="1357560"/>
                <a:gridCol w="1500120"/>
              </a:tblGrid>
              <a:tr h="3070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多表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连接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交叉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ROSS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内部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INNER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外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LEFT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RIGHT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FULL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自然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ATURAL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不相关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相关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EXIST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AN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AL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合并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并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UN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差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ERSEC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国队和美国队打乒乓球比赛，队员分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水平，每个水平的球员都要和对手同一水平的队员打一场比赛，基础表数据如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TextBox 5"/>
          <p:cNvSpPr/>
          <p:nvPr/>
        </p:nvSpPr>
        <p:spPr>
          <a:xfrm>
            <a:off x="1143000" y="2571840"/>
            <a:ext cx="23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hina Player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level  chin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        c0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1        c0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   c03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3        c04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357800" y="2571840"/>
            <a:ext cx="3456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USA player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level   us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1     u00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u0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u0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3     u03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4     u04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0" name="矩形 6"/>
          <p:cNvSpPr/>
          <p:nvPr/>
        </p:nvSpPr>
        <p:spPr>
          <a:xfrm>
            <a:off x="1273680" y="785880"/>
            <a:ext cx="195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基础表数据：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交叉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143000" y="192852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连接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JO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连接 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基本的连接，笛卡尔积形式，所有可能组合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cross join resdat.us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, resdat.us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观测行数很多，这种连接会产生巨大的数据结果，且绝大部分没有意义，可以用其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选择相应的子集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内部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143000" y="18190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两表中匹配连接条件的行：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ner jo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条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inner jo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usa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查询时经常遇到两个表有相同列，为了引用清楚，在列前加表名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书写和阅读方便，可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中设定表的别名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关键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ner, a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选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仍然可以使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der by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等子句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等价于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5" name="Picture 4" descr="[Inner join diagram]"/>
          <p:cNvPicPr/>
          <p:nvPr/>
        </p:nvPicPr>
        <p:blipFill>
          <a:blip r:embed="rId1"/>
          <a:stretch/>
        </p:blipFill>
        <p:spPr>
          <a:xfrm>
            <a:off x="6000840" y="1000080"/>
            <a:ext cx="9460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概念和标准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言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语句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汇总函数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ROUP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AVING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多表查询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JOI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连接、子查询、合并查询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与更新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外部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85520" y="1928880"/>
            <a:ext cx="77151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内部连接的行以及部分不匹配连接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EFT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右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RIGHT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右边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FULL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两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right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full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8" name="Picture 4" descr="[Left outer join diagram]"/>
          <p:cNvPicPr/>
          <p:nvPr/>
        </p:nvPicPr>
        <p:blipFill>
          <a:blip r:embed="rId1"/>
          <a:stretch/>
        </p:blipFill>
        <p:spPr>
          <a:xfrm>
            <a:off x="1285920" y="3357720"/>
            <a:ext cx="792000" cy="5378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[Right outer join diagram]"/>
          <p:cNvPicPr/>
          <p:nvPr/>
        </p:nvPicPr>
        <p:blipFill>
          <a:blip r:embed="rId2"/>
          <a:stretch/>
        </p:blipFill>
        <p:spPr>
          <a:xfrm>
            <a:off x="3500280" y="3357720"/>
            <a:ext cx="743040" cy="5047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4" descr="[Full outer join diagram]"/>
          <p:cNvPicPr/>
          <p:nvPr/>
        </p:nvPicPr>
        <p:blipFill>
          <a:blip r:embed="rId3"/>
          <a:stretch/>
        </p:blipFill>
        <p:spPr>
          <a:xfrm>
            <a:off x="5786280" y="3357720"/>
            <a:ext cx="743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571680" y="214200"/>
          <a:ext cx="3261960" cy="2446560"/>
        </p:xfrm>
        <a:graphic>
          <a:graphicData uri="http://schemas.openxmlformats.org/drawingml/2006/table">
            <a:tbl>
              <a:tblPr/>
              <a:tblGrid>
                <a:gridCol w="815760"/>
                <a:gridCol w="816120"/>
                <a:gridCol w="814320"/>
                <a:gridCol w="81576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2" name="矩形 4"/>
          <p:cNvSpPr/>
          <p:nvPr/>
        </p:nvSpPr>
        <p:spPr>
          <a:xfrm>
            <a:off x="969840" y="2714760"/>
            <a:ext cx="22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左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EFT JOI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4929120" y="214200"/>
          <a:ext cx="3429000" cy="244656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4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5218560" y="2714760"/>
            <a:ext cx="24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右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RIGHT JOI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2286000" y="3214800"/>
          <a:ext cx="4071960" cy="285408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360"/>
                <a:gridCol w="101772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7" name="Rectangle 2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3261240" y="62150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完全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FULL JOIN)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MERG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很多情况下可以产生相同结果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所有行匹配且无重复值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=inner 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行匹配且无重复值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=full 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区别在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重复值的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位置顺序合并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具体值连接，可以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所有组合，并可以选择其子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之前不需要排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进行不等值连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总的来说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更灵活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见下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856800" y="1285920"/>
            <a:ext cx="5072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  只对相同水平的运动员进行连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, resdat.us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hina.level=usa.lev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1833480" y="4286160"/>
          <a:ext cx="5167440" cy="2190960"/>
        </p:xfrm>
        <a:graphic>
          <a:graphicData uri="http://schemas.openxmlformats.org/drawingml/2006/table">
            <a:tbl>
              <a:tblPr/>
              <a:tblGrid>
                <a:gridCol w="1292400"/>
                <a:gridCol w="1290600"/>
                <a:gridCol w="1292040"/>
                <a:gridCol w="1292400"/>
              </a:tblGrid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33" name="TextBox 4"/>
          <p:cNvSpPr/>
          <p:nvPr/>
        </p:nvSpPr>
        <p:spPr>
          <a:xfrm>
            <a:off x="1000080" y="3786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34" name="Picture 1" descr="[Inner join diagram]"/>
          <p:cNvPicPr/>
          <p:nvPr/>
        </p:nvPicPr>
        <p:blipFill>
          <a:blip r:embed="rId1"/>
          <a:stretch/>
        </p:blipFill>
        <p:spPr>
          <a:xfrm>
            <a:off x="6000840" y="1357200"/>
            <a:ext cx="2313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综合练习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71388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的原则匹配中美两队队员，分别选择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队所有队员的匹配情况；美国队所有队员的匹配情况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中美两队成功匹配的队员；中美两队所有队员的匹配情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程序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righ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inner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full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分别如何实现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队内部按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原则匹配？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美国队员比中国队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低的原则匹配？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a lef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&gt;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查询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简单子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个查询语句中，用到了另一个查询的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子查询（不相关子查询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独立于外部查询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返回的结果要与该查询外的算符相对应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是比较算符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子查询只能返回一个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是条件算符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子查询可以返回多个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&lt;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ax(level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查询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混合子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混合子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用到外部查询传输进来的值，该子查询运行后再给外部查询返回结果；可以返回单值或多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yrret a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stkcd=b.stkcd)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5'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date&lt;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'31dec2005'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实子查询可以拆分成两个单独的查询，学习创建表之后可以实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合并查询（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）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合并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两个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匹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查询结果进行并、差、交运算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横向连接不同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算符是竖直的连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+ 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算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selec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UNION: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多个查询中所有的非重复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XCEPT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只属于第一个查询、不属于第二个查询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SECT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两个查询共同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OUTER UNION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对多个查询结果直接连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3" name="Picture 4" descr="[UNION diagram]"/>
          <p:cNvPicPr/>
          <p:nvPr/>
        </p:nvPicPr>
        <p:blipFill>
          <a:blip r:embed="rId1"/>
          <a:stretch/>
        </p:blipFill>
        <p:spPr>
          <a:xfrm>
            <a:off x="5929200" y="3214800"/>
            <a:ext cx="428760" cy="630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4" descr="[EXCEPT diagram]"/>
          <p:cNvPicPr/>
          <p:nvPr/>
        </p:nvPicPr>
        <p:blipFill>
          <a:blip r:embed="rId2"/>
          <a:stretch/>
        </p:blipFill>
        <p:spPr>
          <a:xfrm>
            <a:off x="7286760" y="3857760"/>
            <a:ext cx="428400" cy="6300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4" descr="[INTERSECT diagram]"/>
          <p:cNvPicPr/>
          <p:nvPr/>
        </p:nvPicPr>
        <p:blipFill>
          <a:blip r:embed="rId3"/>
          <a:stretch/>
        </p:blipFill>
        <p:spPr>
          <a:xfrm>
            <a:off x="5715000" y="4500720"/>
            <a:ext cx="455760" cy="6714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" descr="[OUTER UNION diagram]"/>
          <p:cNvPicPr/>
          <p:nvPr/>
        </p:nvPicPr>
        <p:blipFill>
          <a:blip r:embed="rId4"/>
          <a:stretch/>
        </p:blipFill>
        <p:spPr>
          <a:xfrm>
            <a:off x="6643800" y="5081760"/>
            <a:ext cx="504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4"/>
          <p:cNvSpPr/>
          <p:nvPr/>
        </p:nvSpPr>
        <p:spPr>
          <a:xfrm>
            <a:off x="857160" y="1240560"/>
            <a:ext cx="4714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以下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E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算符例子都基于下面两个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able 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  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-----------------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 on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3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  Thre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JOI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的横向连接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连接是竖直的连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3786120" y="2000160"/>
            <a:ext cx="309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able 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  z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-----------------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 on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  fou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786280" y="1143000"/>
            <a:ext cx="2928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y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hre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z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fou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由多个查询产生非重复观测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UNIO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1" name="Picture 4" descr="[UNION diagram]"/>
          <p:cNvPicPr/>
          <p:nvPr/>
        </p:nvPicPr>
        <p:blipFill>
          <a:blip r:embed="rId1"/>
          <a:stretch/>
        </p:blipFill>
        <p:spPr>
          <a:xfrm>
            <a:off x="6929280" y="1643040"/>
            <a:ext cx="505080" cy="74304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5"/>
          <p:cNvSpPr/>
          <p:nvPr/>
        </p:nvSpPr>
        <p:spPr>
          <a:xfrm>
            <a:off x="1264680" y="2718000"/>
            <a:ext cx="271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UNION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5003640" y="2637000"/>
          <a:ext cx="2913120" cy="3017520"/>
        </p:xfrm>
        <a:graphic>
          <a:graphicData uri="http://schemas.openxmlformats.org/drawingml/2006/table">
            <a:tbl>
              <a:tblPr/>
              <a:tblGrid>
                <a:gridCol w="291312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UNION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  four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SQL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概念和标准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SQL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言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642960" y="128592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英文全称是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ructured Query Language,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即“结构化查询语言”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是关系数据库操作的国际标准语言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928800" y="2500200"/>
          <a:ext cx="7143480" cy="3786480"/>
        </p:xfrm>
        <a:graphic>
          <a:graphicData uri="http://schemas.openxmlformats.org/drawingml/2006/table">
            <a:tbl>
              <a:tblPr/>
              <a:tblGrid>
                <a:gridCol w="1311120"/>
                <a:gridCol w="1339920"/>
                <a:gridCol w="2114640"/>
                <a:gridCol w="2377800"/>
              </a:tblGrid>
              <a:tr h="379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语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7800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定义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D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EA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创建表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LT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修改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7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ROP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删除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操作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M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查询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LEC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查询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更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插入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UPDA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更新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删除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控制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C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GRA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授权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8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VOK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取消授权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8072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产生只属于第一个查询的观测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EXCEP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5" name="Picture 4" descr="[EXCEPT diagram]"/>
          <p:cNvPicPr/>
          <p:nvPr/>
        </p:nvPicPr>
        <p:blipFill>
          <a:blip r:embed="rId1"/>
          <a:stretch/>
        </p:blipFill>
        <p:spPr>
          <a:xfrm>
            <a:off x="7143840" y="1785960"/>
            <a:ext cx="504720" cy="74304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5"/>
          <p:cNvSpPr/>
          <p:nvPr/>
        </p:nvSpPr>
        <p:spPr>
          <a:xfrm>
            <a:off x="1406160" y="2610000"/>
            <a:ext cx="28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EXCEPT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cep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076720" y="2924280"/>
          <a:ext cx="2952720" cy="192060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EXCEPT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21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从多个查询中产生公共部分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INTERS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9" name="Picture 4" descr="[INTERSECT diagram]"/>
          <p:cNvPicPr/>
          <p:nvPr/>
        </p:nvPicPr>
        <p:blipFill>
          <a:blip r:embed="rId1"/>
          <a:stretch/>
        </p:blipFill>
        <p:spPr>
          <a:xfrm>
            <a:off x="7000920" y="1785960"/>
            <a:ext cx="504720" cy="74304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5"/>
          <p:cNvSpPr/>
          <p:nvPr/>
        </p:nvSpPr>
        <p:spPr>
          <a:xfrm>
            <a:off x="977040" y="264672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INTERSECT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sec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76720" y="2708280"/>
          <a:ext cx="2976840" cy="2286000"/>
        </p:xfrm>
        <a:graphic>
          <a:graphicData uri="http://schemas.openxmlformats.org/drawingml/2006/table">
            <a:tbl>
              <a:tblPr/>
              <a:tblGrid>
                <a:gridCol w="29768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INTERSECT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   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直接连接查询结果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OUTER UNIO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3" name="Picture 4" descr="[OUTER UNION diagram]"/>
          <p:cNvPicPr/>
          <p:nvPr/>
        </p:nvPicPr>
        <p:blipFill>
          <a:blip r:embed="rId1"/>
          <a:stretch/>
        </p:blipFill>
        <p:spPr>
          <a:xfrm>
            <a:off x="7358040" y="1357200"/>
            <a:ext cx="504720" cy="99072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5"/>
          <p:cNvSpPr/>
          <p:nvPr/>
        </p:nvSpPr>
        <p:spPr>
          <a:xfrm>
            <a:off x="1050480" y="2427480"/>
            <a:ext cx="335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OUTER UNION 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                 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4788000" y="2492280"/>
          <a:ext cx="3311280" cy="350532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35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OUTER UNION 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                x  z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1  one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2  two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4  four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三、创建与更新表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785880" y="1928880"/>
            <a:ext cx="792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表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列定义方式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列名、类型、长度、格式、标签）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cod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, nam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,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at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nu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ate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ata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从查询结果创建表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 AS + SEL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新表包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所选择的列，且保持原来的列属性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 selec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* from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785880" y="1196640"/>
            <a:ext cx="792936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表过渡，将子查询拆分成两个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拆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a join a b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755280" y="108576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表名后，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(rename=(age=age1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表中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set 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列名赋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VALUES +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列的位置赋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il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age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sex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heigh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uc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785520" y="192888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宋体"/>
              </a:rPr>
              <a:t>还可以对表进行以下操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宋体"/>
              </a:rPr>
              <a:t>更新观测、删除观测；增加列、修改列、删除列；删除表 等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在这些功能上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 SQL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步相比，没什么优势，因此不做赘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 SQL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还包括视图功能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对视图（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iews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）的各种操作与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Table)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基本相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差别在于：视图不储存数据，只是储存一个查询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在使用该视图时调用该查询并展现结果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功能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43000" y="214308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汇总统计表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从表和视图中检索数据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合并表和视图中的数据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建立表、视图和索引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、添加、提出表中的数据列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表中的数据值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的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7238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继承了标准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其功能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继承了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、函数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和通用的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与其他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一些区别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检索数据的同时会在输出窗口输出数据，使用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OPRIN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可以阻止该项输出。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持续运行直至遇到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步或其它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。因此，不用在每个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前重复书写“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不起作用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213920" y="1571760"/>
            <a:ext cx="6929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tes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表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a.comcd, a.lcomchnm, b.stkcd, b.lstknm,         a.csrciccd1, count(a.comcd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info a left join resdat.lstkinfo b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a. stkcd=b.stkc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estdt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'1jan1985'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查询语句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终止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、查询语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047240" y="2042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最主要、最常用的工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来识别、检索和操作表中数据，使用子句可以设定查询条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常用子句及其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固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顺序：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的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源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名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 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条件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roup by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标志（变量）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aving  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针对组的选择条件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排序标志（变量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只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是必须的，其他子句都是可选的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600200" y="185688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列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特定列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个列名用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隔；按照语句中顺序显示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所有列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*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重复观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select distinct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多个列，只删除所有变量取值都相同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name, age, 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*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285560" y="1856880"/>
            <a:ext cx="6972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新列值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为列分配别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指定列属性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weight/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hratio format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新计算的列：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lculated +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只能在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中设定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lculate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列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age, weight/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hratio format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/calculated whratio)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hwratio format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.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25T02:36:54Z</dcterms:modified>
  <cp:revision>487</cp:revision>
  <dc:subject/>
  <dc:title>第1章 SAS软件入门</dc:title>
</cp:coreProperties>
</file>