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60D2-6E1E-46A6-87A5-1C75185B8A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97D5-D154-49F1-9089-483BFF531D4F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970-A686-45D2-B966-1A26B84C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DAA-83C7-409C-9A64-5E3BCA87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58480-329A-4110-AA44-871F0AA3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10877-571F-4B14-A9D4-B5ECBBE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50B36-B5FB-4C3F-B889-492B760E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C2684-486A-45DB-94B1-C4233AC9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FD31C-8346-4581-8397-A3D72D89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E1308-8BAC-426C-9BB1-CB47D11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73482-66CC-44E3-BE50-3ECC4CE9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C3E50-5B99-4060-B708-08C27F39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15196-03AC-46AB-B1F8-969206D2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4C404-CCDF-4E5D-9947-2EFA3EB9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CDB-ADB9-49C5-BE56-9E09B7F7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DE9DF-21ED-48A1-A60F-E4D0977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72C39-C081-4EE4-923C-C869A81A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F39AB-EBDC-4C63-A5F7-BFD40656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10DFC-0B8E-4C61-ABD9-A6157C1B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20DC9-B073-4810-9A57-4128ADE7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770C7-1A0C-4F5F-A64B-029C17F3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09BCE-F37F-4AC9-AEC7-FB42A93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716C3-4B03-4FA1-BC5A-6706550F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8BD9A-E7F6-4C4E-A4A3-E33E5F84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3F0C6-6671-4C31-9309-CB3E45B2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333-56A4-46B2-9D0D-FC8A268D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F4605-8417-4896-A095-03AD4FE3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4FF7D-DD62-4EC8-A8CE-7E6EEC74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CA196-BFE8-4CC4-9C4F-CA32F60D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5BF1B-BEEC-4184-9AB8-ADB15FCE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6B491-5EE4-491A-BABA-B51E3CD9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F55FB-351E-4AAE-A66D-F27AFBAE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00E5B-B7DD-473A-98D4-6B578217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41E06-A1B6-454D-BE4F-91414E3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F791B-27BD-400E-98C1-57F3E0BD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37D76-0CD3-4FA3-9033-13E1AAC0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9B62-A5E2-4D52-903F-18F96F46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3AE0C-4C92-4B3F-BC41-98626915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B130F-9FD9-44F5-8066-6C851B1A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0A1DB-4957-4627-977A-12A68264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CA514-5267-4D1D-8249-A452F5F9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FE497-77AB-4C71-BEDC-E263218D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C5D1F-A549-4D1F-B134-0AA3F8A2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FF9B1-E761-4A28-98EE-AFA6D47F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8E740-6551-441C-9196-E437D726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A1DEB-CA68-4FA4-ABB8-5A1B1082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16821-3249-40AE-99DD-F4F9D849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AF08-F181-4716-99B3-8F4D8576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C1FD2-53A3-43D9-A186-B1644513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C5FBB-6673-43C7-9B4B-325CEF8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19B81-5A09-4BFB-86D4-C0F0DB7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ADB8C-9892-4273-B870-99CF290D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0223D-E83C-4864-9C20-79F878AA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0CE39-F3B6-4B5E-A6D5-26348633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F999E-8A14-40FC-B135-4C660C5A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48F1C-618F-458D-89A5-177DFAF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59E69-3628-47D8-8CA5-449B6E34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22C31-DD9F-4DC8-A394-63AE39F7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52A5-6D17-4635-99CB-FC96096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B0658-AF81-465F-AC5F-853DC08D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325EB-1506-4F1E-9540-E19D295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624B0-0033-4809-8A0C-659F0A2A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D6DFE-B8E8-4724-94AC-3AB2032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3C5C1-8B75-489A-9E08-E6CC7888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D4F6C-B860-480C-9E99-B4947D83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38A0A-E372-4236-AB9F-5A76A161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7D15-15DD-44B1-A9DE-E4E785C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0570-4AD5-411E-92DC-DE17A073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F61-6D24-4AD9-8D26-DBD8A30B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893E-889C-4356-A930-607B5C3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8AB-2650-4E4C-BC6C-5ECE226F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0869-0FF9-4F0A-97FC-ACD5560F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F30-E045-48B2-807E-FE1FD5E9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3B1A-6DA4-4ECA-A13F-74CE0C5A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93DB-E0CB-4DD3-BEB4-0442BEF9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51A8-9D9A-499E-B911-10574587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303F-BCC7-421C-9429-CB7FE6A5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F049-4812-4933-9C25-5AA05D89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4C0A-CDAD-455D-A201-7C34D31A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8924-4D8C-4726-B535-6202607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9C29-2B4F-4673-BF9D-C035F288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951-851F-4F7E-A2C9-A7EC3C2C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64D5-62EC-49B0-8BA7-F8C833B9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65F1-72D3-452E-BA22-26CDCB0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90A3-DA8B-445E-9924-BD9C3650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A9F8B-0C83-4756-B494-6CE090B4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EDDB-C7CC-499A-847E-A898EB05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4B59-4D24-40A4-BF8D-93921F34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A0DC-7C3E-411E-9F62-5536A372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5AB7-7140-4552-8693-7E397267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28C2-5310-4F4C-BEFB-95E275CD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44CC6-DAF5-4007-BA16-CF945767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3D9-7EA3-48C5-B276-12B7DF0E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B9EB-6922-4481-A566-FF5A06CF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1E59-F43D-4D15-A16F-B2D30454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0290-F81F-4133-B4D1-39B3DC6F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A09F4-4555-4E83-B23E-6768EAEE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E74F-CF6F-4397-B9E4-995A6465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1DC7C-2C10-4968-9ACE-87814AF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D6825-4ED4-40CC-9342-884909B2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4BBAB-38EA-44FB-99F3-EF6236E9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4B65-D818-44F8-8558-19631D67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DE140-8B51-43B5-B25C-0E4D1996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AF4-6EDB-4D0E-8138-8DDFB493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C44FE-31E7-4CF9-8834-6F879461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C848-4783-4DFA-BCA5-5ECD1819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91D46-90A8-430A-B447-102481F2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C40A1-C042-4509-8ABB-A57E6802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49E9C-06BE-4F40-8BED-58BF75BF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D206-D0ED-49D9-9641-89F01480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2C31-4949-4476-B7B1-1B2BB922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EE9E-24AC-453F-869D-E81CEAC5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4A600-E008-4C24-8FD5-2284B5E4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3D537-8E6C-42C8-9F4B-6DAAFA0B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D3F-19CA-4947-8582-A0961D6E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3C156-1368-4943-BD3B-8032D090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62BB-7D3D-4702-8CD1-2F0FD1F6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9C62F-C4A4-4FE3-A042-E0842508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3535A-940B-49F4-8C3B-9C2C09E8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F03E-0341-4E5F-A7F0-84BBB9D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AAD24-5548-40FD-9235-BD19A6EB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A910-F214-485C-9C27-8D1825D5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A533-0DF4-4E4B-B455-7114AFEA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9354D-1C1F-433B-AA4A-2456BEC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6A3CD-D2D4-4884-8307-D816576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FEF-0D83-42A3-9359-F325AFA1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B532-7BAA-4F1C-80AF-857E5AE1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0874-C0E5-4FE5-9DD5-74801F64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3A59C-0A49-4F7A-B1FC-85D01A32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5818-9BAC-49C6-B2C4-5207571F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6D94-DAA4-4B71-9867-D22A6038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CD17-7FA1-41C7-8E64-D8DDCB83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C6FF0-2AF8-4CE0-8B45-1BE445F8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E865A-652D-4727-B022-5D19677E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6C5F5-89C3-463F-A81E-1240C16C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2E4BF-DD6C-49A6-839A-D813614F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5B6-04FD-4DFB-B7EE-80F96A67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E62EC-4A8E-405D-BCFD-8D159EF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50265-0158-44D0-AC63-57C13F6C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E6B74-139C-4ECE-8C29-B6537783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B0E78-6A6D-4DE3-B915-FA5CF670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CC344-6FB0-4B3D-917C-DF802D8A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A5D4A-13E3-4ED5-BACF-DE5FCFEA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B6ADA-DBB0-488D-A912-0FE023EF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E16EC-F186-445F-9A24-C2219F9F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438A4-8932-4894-AB1B-26BF1CC8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53E23-4AE4-495D-94AC-47325011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113-70E3-4947-98FA-071DBA2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CB1C-D9D0-4940-B569-9C1956C3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A2EAF-758A-4508-AF88-69C9E6EE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D8890-431B-4F85-AEE1-6098E05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A3ADC-1672-4036-B248-9DF3266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378D8-9710-4BD6-B20D-1CF9CBA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DFAFF-B91C-4E6C-8AEB-203F909B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FC6D0-5DC1-41A7-89A4-AE8C1F5C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D7C3E-47B7-479A-9B15-B59F5BFC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2EC73-74F8-4206-A1EF-CFDF45D7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6A78E-1F9C-408A-BD22-52DE42DD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597D-C357-419F-9650-DA216BF96D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3C97-53CD-439C-A2CE-B3F5E8F2A4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F4D3-5DFB-4C7C-BF80-89EF4A90D8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0B68-4A10-4F9D-8A0D-3FC79FCB70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2C84-FF44-4DE5-A022-A394C536AA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27F8-C009-4ECC-AA0D-E741009E4D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B167-0126-4DF2-A309-1AC95B6A17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9648-A949-408A-8136-26A6090DF2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88C0-3D04-46DE-A609-D5D5320242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7235-54FA-45F8-8AD2-90D34B4BCF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66AF-0DDE-4FA2-A844-A4CEEDFDCA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7B10-A9BD-41E4-A109-0C3BD8B865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7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通用语句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TITL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文件和其它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标题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每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规定一级标题，最多可规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级标题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&gt;&lt;'text'|"text"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紧跟在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后面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不能有空格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数字，用来规定标题的级别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e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标题的内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标题的内容一直有效，但可以重新规定或取消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128592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只规定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级标题的内容时，中间标题为空白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his is the 1th title lin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this is the 5th title lin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所有标题内容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级及以后的所有标题内容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56800" y="71424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OOTNOT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87240" y="182844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每一页的底部输出一些脚注行。最多可产生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脚注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&gt;&lt;'text'|"text"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紧跟在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后面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不能有空格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数字，用来规定脚注的行号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e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脚注行的内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的脚注行内容将输出在所有过程的输出页上，但可以重新规定或取消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1428840" y="15714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2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脚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‘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清华大学金融系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所有已规定的脚注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及以后的所有脚注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RUN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6643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被执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CANCEL&gt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ANCE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让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结束当前步的执行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将输出一个信息说明这一步没有执行。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ANEC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不能阻止包含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执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1357200" y="1285560"/>
            <a:ext cx="6858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能省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情况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sing proc mean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height w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UN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不能省略省略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UN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sing proc plo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*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第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读第二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之前执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如果省略第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在它读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LO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后执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这时第二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覆盖第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，也就是两个过程的输出都包含了标题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USING PROC PLOT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所以，这种情况下，第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不能省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5"/>
          <p:cNvSpPr/>
          <p:nvPr/>
        </p:nvSpPr>
        <p:spPr>
          <a:xfrm>
            <a:off x="3635280" y="1989000"/>
            <a:ext cx="4896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using proc plot                                     17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MEANS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过程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变量            最小值          最大值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--------------------------------------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Age         11.0000000      16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Height      51.3000000      72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eight      50.5000000     150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--------------------------------------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-612720" y="1989000"/>
            <a:ext cx="48956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using proc means                            16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MEANS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过程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变量            最小值          最大值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--------------------------------------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Age         11.0000000      16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Height      51.3000000      72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eight      50.5000000     150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--------------------------------------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1116000" y="1413000"/>
            <a:ext cx="331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不省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4859280" y="1413000"/>
            <a:ext cx="331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省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1428840" y="171468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NCEL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 X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注意数据集中没有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anc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当发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有错误不能运行这一段序时，使用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NC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结束当前步的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IBNAM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定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逻辑库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把一个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(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库标记名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和一个目录名联系起来，使用户可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使用库标记来指示这个目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1428480" y="1294920"/>
            <a:ext cx="733428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libref &lt;engigne&gt; &lt;'SAS-data-library'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Access=Readonly|Temp&gt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libref Clea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libref |_ All_ Li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三种格式反映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三种用法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22" name="Object 2"/>
          <p:cNvGraphicFramePr/>
          <p:nvPr/>
        </p:nvGraphicFramePr>
        <p:xfrm>
          <a:off x="1785960" y="3857760"/>
          <a:ext cx="6407280" cy="235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857760"/>
                    <a:ext cx="64072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500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全局通用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步通用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75722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18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不同引擎的逻辑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SDB1 tape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SAS- data-librar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一个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TAP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引擎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SDB2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SAS- data-librar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版本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V6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引擎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SDB3 ODBC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‘ SAS- data-library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版本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ODBC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引擎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19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不同引擎的逻辑库数据集的转换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v6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v6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20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对已经存在的逻辑库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联系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引擎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SDB3 ODB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1676520" y="12189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物理地址联系两个库标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1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2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脱离与库标记的联系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bref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列出逻辑库的属性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逻辑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属性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a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所有逻辑库的属性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4"/>
          <p:cNvSpPr/>
          <p:nvPr/>
        </p:nvSpPr>
        <p:spPr>
          <a:xfrm>
            <a:off x="1285920" y="1857240"/>
            <a:ext cx="68403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7.2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多个物理地址指定一个逻辑库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libnam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new ('d:\ resdat' 'd:\resstk'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7.2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多个不同的逻辑库组成一个逻辑库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libnam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new (resdat resstk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ILENAM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14280" y="1857240"/>
            <a:ext cx="71438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文件标记与外部文件的全名或输出设备联系起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CLUD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调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前，要先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来定义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户可以把一个文件标记同单个外部文件建立联系，也可以很多外部文件建立联系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标记和文件名字之间的联系只保持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会话期间，或下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再定义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格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333080" y="1428480"/>
            <a:ext cx="7239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建立文件标记与外部文件的联系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fileref &lt;device-type&gt;'external-file'&lt;host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清除文件标记与外部文件的联系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|_ALL_CLEA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建立文件标记与某个输出设备的联系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device-type&lt;host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出外部文件的属性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|_ALL_LI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其它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CATALOG' catalog'&lt;catalog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FTP'external-file'&lt;ftp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SOCKET' external- file'&lt;tcpip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SOCKET': portno' SERVER &lt;tcpip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3836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663200" y="19047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部分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设备类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DEVICE-TYP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34" name="Object 2"/>
          <p:cNvGraphicFramePr/>
          <p:nvPr/>
        </p:nvGraphicFramePr>
        <p:xfrm>
          <a:off x="1676520" y="2298600"/>
          <a:ext cx="5127480" cy="13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8600"/>
                    <a:ext cx="51274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Object 3"/>
          <p:cNvGraphicFramePr/>
          <p:nvPr/>
        </p:nvGraphicFramePr>
        <p:xfrm>
          <a:off x="3071880" y="4286160"/>
          <a:ext cx="2293920" cy="184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4286160"/>
                    <a:ext cx="229392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00200" y="8380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黑体"/>
                <a:ea typeface="黑体"/>
              </a:rPr>
              <a:t>7.29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外部文件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elinfo "'d:\resdat\delinfo.txt'"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elinfo(label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信息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|delist information'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kcd $6.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knm $12.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dt yymmdd10.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listdt yymmdd10.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chflg $1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 $1.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kcd $6.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knm $12.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dt yymmdd10.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listdt yymmdd10.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1476360" y="1341360"/>
            <a:ext cx="69850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xchflg $1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tktype $1.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tkcd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|stock code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stknm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最新股票名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|latest stock name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stdt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股票上市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|list date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delistdt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退市日期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|delist date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exchflg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交易所标识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|exchange flag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stktype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股票类型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|stock type'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infile delinfo delimiter='09'x missover dsd firstobs=2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input stkcd $6. lstknm $12. lstdt yymmdd10. delistdt ~ yymmdd10. exchflg  stktype 1.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中，用文件标记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delinf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识别外部文件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(d:\resdat\delinfo.txt)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，读取其中的数据行，创建一个临时数据集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delinfo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1447560" y="1447560"/>
            <a:ext cx="6933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逻辑库的所有文件传送到一个压缩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ResDa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c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r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m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at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逻辑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下的所有数据集传送到压缩文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恢复将传送压缩为一个逻辑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_0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_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cim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library=ResDat_0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恢复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P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生成的传送压缩文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原来的形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MISSING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612800" y="206964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数值数据缺失值的代表字符。它通常出现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，但其使用范围是全局性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character-1&lt;... character-n&gt;,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ac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缺失值代表字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全局通用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57160" y="2142720"/>
            <a:ext cx="74296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局通用语句是可以用在任何地方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这些语句既可以用在数据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），也可以用在过程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甚至还可以单独使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4800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71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有缺失值数据时必须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itne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s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 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$ age weigh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ang 23 7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u R 6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an R 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‘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’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被调查人不知道，’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’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被调查人拒绝回答问题。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指示在输入数据行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是缺失值而不是无效的数据值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4500720" y="3573360"/>
          <a:ext cx="2447640" cy="1492200"/>
        </p:xfrm>
        <a:graphic>
          <a:graphicData uri="http://schemas.openxmlformats.org/drawingml/2006/table">
            <a:tbl>
              <a:tblPr/>
              <a:tblGrid>
                <a:gridCol w="768240"/>
                <a:gridCol w="839880"/>
                <a:gridCol w="839520"/>
              </a:tblGrid>
              <a:tr h="311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ag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weigh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Hu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6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Tia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             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PTION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71360" y="1714320"/>
            <a:ext cx="70102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临时改变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的选项设置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改变后的选项设置在以后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会话或作业中保持有效，直到再次改变它们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改变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可以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或用显示管理命令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option-1 &lt;...option-n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要改变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运行调试好程序时常用的系统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 NODATE NONOTES NOSOURC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运行调试好的大型程序时，为了抑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的输出，用上面的系统选项就可以解决问题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1285920" y="2000160"/>
            <a:ext cx="72388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过程步通用语句可以分为两类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程信息语句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属性语句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642960" y="92880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过程步通用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57160" y="17143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用于规定将要运行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程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程是已经写好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程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46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调用打印输出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age heigh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打印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CLAS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ME, A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IGH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观测值，并以性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4"/>
          <p:cNvSpPr/>
          <p:nvPr/>
        </p:nvSpPr>
        <p:spPr>
          <a:xfrm>
            <a:off x="1763640" y="511200"/>
            <a:ext cx="78850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------------------------------------------- Sex=F --------------------------------------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Name       Age    Height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 Alice       13     56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2    Barbara     13     65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3    Carol       14     62.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4    Jane        12     59.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5    Janet       15     62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6    Joyce       11     51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7    Judy        14     64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8    Louise      12     56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9    Mary        15     66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------------------------------------------- Sex=M ---------------------------------------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Name       Age    Height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0    Alfred      14     69.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1    Henry       14     63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2    James       12     57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3    Jeffrey     13     62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4    John        12     59.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5    Philip      16     72.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6    Robert      12     64.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7    Ronald      15     67.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8    Thomas      11     57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9    William     15     66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格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23888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program &lt;options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要运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过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规定过程的选项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PTIO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通用选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过程特定选项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选项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56" name="Object 2"/>
          <p:cNvGraphicFramePr/>
          <p:nvPr/>
        </p:nvGraphicFramePr>
        <p:xfrm>
          <a:off x="1928880" y="5214960"/>
          <a:ext cx="5429160" cy="9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5214960"/>
                    <a:ext cx="54291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23888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列表过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打印输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观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求均值过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xd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PR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校正平方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S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结果保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小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图过程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hpc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vpc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 规定按横竖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50:3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比例作图 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VAR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要分析的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要分析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5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weight  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4"/>
          <p:cNvSpPr/>
          <p:nvPr/>
        </p:nvSpPr>
        <p:spPr>
          <a:xfrm>
            <a:off x="1042920" y="2421000"/>
            <a:ext cx="73454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MEANS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过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变量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         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均值            标准偏差          最小值          最大值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-------------------------------------------------------------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eight    19     100.0263158      22.7739335      50.5000000     150.00000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Height    19      62.3368421       5.1270752        51.3000000      72.00000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----------------------------------------------------------------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MODE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23888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ODEL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语句规定过程需要的统计模型。</a:t>
            </a: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ependents=indepndenteffects/&lt;options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pendent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模型中的因变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pndenteffect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模型中的自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不同过程的特定选项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5" name=""/>
          <p:cNvGraphicFramePr/>
          <p:nvPr/>
        </p:nvGraphicFramePr>
        <p:xfrm>
          <a:off x="1285920" y="1357200"/>
          <a:ext cx="6786360" cy="5761080"/>
        </p:xfrm>
        <a:graphic>
          <a:graphicData uri="http://schemas.openxmlformats.org/drawingml/2006/table">
            <a:tbl>
              <a:tblPr/>
              <a:tblGrid>
                <a:gridCol w="1982880"/>
                <a:gridCol w="4803480"/>
              </a:tblGrid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用途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注释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发布显示管理命令或文本编辑命令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发布主机操作系统命令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输出打印的标题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otnot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输出打印的脚注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u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运行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程序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sa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终止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作业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ilenam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标记一个外部文件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ibnam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逻辑库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Includ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调用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和数据行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Ru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结束由加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号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INCLUDE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要求从键盘输入的源语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Lis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在当前会话中的输入行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issing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缺失值字符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让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日志跳到新的一页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让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日志跳过规定的行数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Option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系统选项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Goption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图形设备和各种选项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Rectangle 1"/>
          <p:cNvSpPr/>
          <p:nvPr/>
        </p:nvSpPr>
        <p:spPr>
          <a:xfrm>
            <a:off x="2643120" y="929160"/>
            <a:ext cx="3571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表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7.1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全局通用语句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模型设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y=x1-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y1 y2=a b c d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5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回归分析过程模型设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class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height=weight/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p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out1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p  l95=l  u95=u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D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7238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规定用于识别观测的变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规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于识别观测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替代观测序号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例中，打印列表输出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时，用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的值来识别观测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5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规定数据集转置后的观测值识别变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运用上述程序段，查看输出结果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WHERE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6840" y="16426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语句选择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数据集中的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here-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法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步中的用法类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与其它选项的生效顺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OBS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BS=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观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M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删除观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^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M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CLASS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14280" y="1785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语句规定分类变量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过程对分类变量的不同值分别进行分析处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 /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;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s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规定分析数据集中的分类变量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1371600" y="1218960"/>
            <a:ext cx="723888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 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w_m h_m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窗口输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ex  Obs  Variable   N    Mean         Std Dev       Minimum      Maximu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F    9     Weight    9     90.1111111    19.3839137    50.5000000    112.5000000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eight     9     60.5888889     5.0183275     51.3000000    66.5000000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M   10   Weight   10    108.9500000   22.7271864    83.0000000     150.0000000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eight   10      63.9100000    4.9379370     57.3000000      72.0000000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--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1447920" y="114300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 heigh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_m h_m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：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ex=F 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                                  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Variable     N        Mean         Std Dev         Minimum         Maximum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Weight       9      90.1111111      19.3839137      50.5000000     112.5000000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eight       9      60.5888889       5.0183275      51.3000000      66.5000000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 Sex=M 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Variable     N        Mean         Std Dev         Minimum         Maximum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Weight      10     108.9500000      22.7271864      83.0000000     150.0000000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eight      10      63.9100000       4.9379370      57.3000000      72.0000000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BY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13920" y="14284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语句规定分组处理变量。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语句时，数据集必须先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变量排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li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规定变量列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60020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分开打印输出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注释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571400" y="2143080"/>
            <a:ext cx="6257880" cy="11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注释语句可以放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的任何地方作为程序的说明，或者介绍整个程序的步骤或算法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UTPU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43000" y="1685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规定过程产生的输出数据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&lt;OUT=sas-data-set&gt; &lt;keyword=names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输出的数据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=name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输出数据集中与关键词相联系的输出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6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应用举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height weigh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out_m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h_m w_m 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例中，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计算变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EIGHT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的均值统计量。关键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AN=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规定输出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_M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中的变量为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_M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_M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_M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_M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分别表示变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EIGHT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的均值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QUI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5920" y="1571760"/>
            <a:ext cx="72388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QUIT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来结束一个交互式过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ResDat.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irst Plo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*d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econd Plo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ORMAT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71720" y="17143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规定变量的输出格式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格式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步中的格式相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应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ORMA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的规则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PR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步中的输出格式只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过程中有效，原来的输出格式仍保留在数据集中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同时使用几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时，最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ORMA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可以使用的输出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系统的输出格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FORM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过程自定义的输出格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928800" y="1785600"/>
            <a:ext cx="750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定义的输出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$sexfmt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M' = 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le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F ' =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male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$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sexfm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FORM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程定义的输出格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XMFT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来规定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X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输出格式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1619280" y="1557360"/>
            <a:ext cx="554364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Name        Sex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Alice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Barbara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3    Carol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4    Jane 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    Janet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6    Joyce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7    Judy 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    Louise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9    Mary 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0    Alfred     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1    Henry      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2    James      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……     ……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239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变量的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000002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yymmdd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 stk000002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ate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 stk000002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ATTRIB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28480" y="1714320"/>
            <a:ext cx="7010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变量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属性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格式相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属性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以及由该过程产生的输出数据集中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参考的例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ttr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ample variabl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ttr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olida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mmddyy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worddat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ttr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y1-day7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ay of week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week1-week4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week of month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l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comma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sale’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ABE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71360" y="1785600"/>
            <a:ext cx="7538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变量的标签。语句格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格式相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出现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的任意地方，并只在该过程中有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图形时坐标轴使用变量标签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000002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收盘价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日期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3" descr=""/>
          <p:cNvPicPr/>
          <p:nvPr/>
        </p:nvPicPr>
        <p:blipFill>
          <a:blip r:embed="rId1"/>
          <a:stretch/>
        </p:blipFill>
        <p:spPr>
          <a:xfrm>
            <a:off x="100008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1428840" y="135684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语句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一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 messag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信息的长度可任意，但不能包含分号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最后的分号表示信息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二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message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间的信息可以包含分号，但这种形式的注释不能嵌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99760" y="17143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1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注释语句应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000002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前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观测，不输出观测序号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clp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股票行情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000002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对数据集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esDat.stk000002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means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clpr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oppr hipr lopr clpr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均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1523880" y="1904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2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标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开头，记录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信息的注释形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-------------------------------------------------------*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Begin Estimation for Grunfeld's Investment Models ----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 See SAS/ETS User's Guide, Version 5 Edition,     -----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 pages                                           ------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-------------------------------------------------------*/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13880" y="85716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74280" y="1428480"/>
            <a:ext cx="7239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运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时，发布主机操作系统命令。</a:t>
            </a: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'command'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omman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主机操作系统的命令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kdir d:\ResDat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1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d:\ResDat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1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会话期间用主机操作系统命令创建一个目录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:\ResDat1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注意：键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EXI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命令退出操作系统返回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会话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19T06:23:24Z</dcterms:modified>
  <cp:revision>596</cp:revision>
  <dc:subject/>
  <dc:title>第1章 SAS软件入门</dc:title>
</cp:coreProperties>
</file>