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1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115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106.xml" ContentType="application/vnd.openxmlformats-officedocument.presentationml.slide+xml"/>
  <Override PartName="/ppt/slides/slide61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114.xml" ContentType="application/vnd.openxmlformats-officedocument.presentationml.slide+xml"/>
  <Override PartName="/ppt/slides/slide89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  <p:sldId id="280" r:id="rId43"/>
    <p:sldId id="281" r:id="rId44"/>
    <p:sldId id="282" r:id="rId45"/>
    <p:sldId id="283" r:id="rId46"/>
    <p:sldId id="284" r:id="rId47"/>
    <p:sldId id="285" r:id="rId48"/>
    <p:sldId id="286" r:id="rId49"/>
    <p:sldId id="287" r:id="rId50"/>
    <p:sldId id="288" r:id="rId51"/>
    <p:sldId id="289" r:id="rId52"/>
    <p:sldId id="290" r:id="rId53"/>
    <p:sldId id="291" r:id="rId54"/>
    <p:sldId id="292" r:id="rId55"/>
    <p:sldId id="293" r:id="rId56"/>
    <p:sldId id="294" r:id="rId57"/>
    <p:sldId id="295" r:id="rId58"/>
    <p:sldId id="296" r:id="rId59"/>
    <p:sldId id="297" r:id="rId60"/>
    <p:sldId id="298" r:id="rId61"/>
    <p:sldId id="299" r:id="rId62"/>
    <p:sldId id="300" r:id="rId63"/>
    <p:sldId id="301" r:id="rId64"/>
    <p:sldId id="302" r:id="rId65"/>
    <p:sldId id="303" r:id="rId66"/>
    <p:sldId id="304" r:id="rId67"/>
    <p:sldId id="305" r:id="rId68"/>
    <p:sldId id="306" r:id="rId69"/>
    <p:sldId id="307" r:id="rId70"/>
    <p:sldId id="308" r:id="rId71"/>
    <p:sldId id="309" r:id="rId72"/>
    <p:sldId id="310" r:id="rId73"/>
    <p:sldId id="311" r:id="rId74"/>
    <p:sldId id="312" r:id="rId75"/>
    <p:sldId id="313" r:id="rId76"/>
    <p:sldId id="314" r:id="rId77"/>
    <p:sldId id="315" r:id="rId78"/>
    <p:sldId id="316" r:id="rId79"/>
    <p:sldId id="317" r:id="rId80"/>
    <p:sldId id="318" r:id="rId81"/>
    <p:sldId id="319" r:id="rId82"/>
    <p:sldId id="320" r:id="rId83"/>
    <p:sldId id="321" r:id="rId84"/>
    <p:sldId id="322" r:id="rId85"/>
    <p:sldId id="323" r:id="rId86"/>
    <p:sldId id="324" r:id="rId87"/>
    <p:sldId id="325" r:id="rId88"/>
    <p:sldId id="326" r:id="rId89"/>
    <p:sldId id="327" r:id="rId90"/>
    <p:sldId id="328" r:id="rId91"/>
    <p:sldId id="329" r:id="rId92"/>
    <p:sldId id="330" r:id="rId93"/>
    <p:sldId id="331" r:id="rId94"/>
    <p:sldId id="332" r:id="rId95"/>
    <p:sldId id="333" r:id="rId96"/>
    <p:sldId id="334" r:id="rId97"/>
    <p:sldId id="335" r:id="rId98"/>
    <p:sldId id="336" r:id="rId99"/>
    <p:sldId id="337" r:id="rId100"/>
    <p:sldId id="338" r:id="rId101"/>
    <p:sldId id="339" r:id="rId102"/>
    <p:sldId id="340" r:id="rId103"/>
    <p:sldId id="341" r:id="rId104"/>
    <p:sldId id="342" r:id="rId105"/>
    <p:sldId id="343" r:id="rId106"/>
    <p:sldId id="344" r:id="rId107"/>
    <p:sldId id="345" r:id="rId108"/>
    <p:sldId id="346" r:id="rId109"/>
    <p:sldId id="347" r:id="rId110"/>
    <p:sldId id="348" r:id="rId111"/>
    <p:sldId id="349" r:id="rId112"/>
    <p:sldId id="350" r:id="rId113"/>
    <p:sldId id="351" r:id="rId114"/>
    <p:sldId id="352" r:id="rId115"/>
    <p:sldId id="353" r:id="rId116"/>
    <p:sldId id="354" r:id="rId117"/>
    <p:sldId id="355" r:id="rId118"/>
    <p:sldId id="356" r:id="rId119"/>
    <p:sldId id="357" r:id="rId120"/>
    <p:sldId id="358" r:id="rId121"/>
    <p:sldId id="359" r:id="rId122"/>
    <p:sldId id="360" r:id="rId123"/>
    <p:sldId id="361" r:id="rId124"/>
    <p:sldId id="362" r:id="rId125"/>
    <p:sldId id="363" r:id="rId126"/>
    <p:sldId id="364" r:id="rId127"/>
    <p:sldId id="365" r:id="rId128"/>
    <p:sldId id="366" r:id="rId129"/>
    <p:sldId id="367" r:id="rId130"/>
    <p:sldId id="368" r:id="rId131"/>
    <p:sldId id="369" r:id="rId132"/>
    <p:sldId id="370" r:id="rId1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slide" Target="slides/slide25.xml"/><Relationship Id="rId44" Type="http://schemas.openxmlformats.org/officeDocument/2006/relationships/slide" Target="slides/slide26.xml"/><Relationship Id="rId45" Type="http://schemas.openxmlformats.org/officeDocument/2006/relationships/slide" Target="slides/slide27.xml"/><Relationship Id="rId46" Type="http://schemas.openxmlformats.org/officeDocument/2006/relationships/slide" Target="slides/slide28.xml"/><Relationship Id="rId47" Type="http://schemas.openxmlformats.org/officeDocument/2006/relationships/slide" Target="slides/slide29.xml"/><Relationship Id="rId48" Type="http://schemas.openxmlformats.org/officeDocument/2006/relationships/slide" Target="slides/slide30.xml"/><Relationship Id="rId49" Type="http://schemas.openxmlformats.org/officeDocument/2006/relationships/slide" Target="slides/slide31.xml"/><Relationship Id="rId50" Type="http://schemas.openxmlformats.org/officeDocument/2006/relationships/slide" Target="slides/slide32.xml"/><Relationship Id="rId51" Type="http://schemas.openxmlformats.org/officeDocument/2006/relationships/slide" Target="slides/slide33.xml"/><Relationship Id="rId52" Type="http://schemas.openxmlformats.org/officeDocument/2006/relationships/slide" Target="slides/slide34.xml"/><Relationship Id="rId53" Type="http://schemas.openxmlformats.org/officeDocument/2006/relationships/slide" Target="slides/slide35.xml"/><Relationship Id="rId54" Type="http://schemas.openxmlformats.org/officeDocument/2006/relationships/slide" Target="slides/slide36.xml"/><Relationship Id="rId55" Type="http://schemas.openxmlformats.org/officeDocument/2006/relationships/slide" Target="slides/slide37.xml"/><Relationship Id="rId56" Type="http://schemas.openxmlformats.org/officeDocument/2006/relationships/slide" Target="slides/slide38.xml"/><Relationship Id="rId57" Type="http://schemas.openxmlformats.org/officeDocument/2006/relationships/slide" Target="slides/slide39.xml"/><Relationship Id="rId58" Type="http://schemas.openxmlformats.org/officeDocument/2006/relationships/slide" Target="slides/slide40.xml"/><Relationship Id="rId59" Type="http://schemas.openxmlformats.org/officeDocument/2006/relationships/slide" Target="slides/slide41.xml"/><Relationship Id="rId60" Type="http://schemas.openxmlformats.org/officeDocument/2006/relationships/slide" Target="slides/slide42.xml"/><Relationship Id="rId61" Type="http://schemas.openxmlformats.org/officeDocument/2006/relationships/slide" Target="slides/slide43.xml"/><Relationship Id="rId62" Type="http://schemas.openxmlformats.org/officeDocument/2006/relationships/slide" Target="slides/slide44.xml"/><Relationship Id="rId63" Type="http://schemas.openxmlformats.org/officeDocument/2006/relationships/slide" Target="slides/slide45.xml"/><Relationship Id="rId64" Type="http://schemas.openxmlformats.org/officeDocument/2006/relationships/slide" Target="slides/slide46.xml"/><Relationship Id="rId65" Type="http://schemas.openxmlformats.org/officeDocument/2006/relationships/slide" Target="slides/slide47.xml"/><Relationship Id="rId66" Type="http://schemas.openxmlformats.org/officeDocument/2006/relationships/slide" Target="slides/slide48.xml"/><Relationship Id="rId67" Type="http://schemas.openxmlformats.org/officeDocument/2006/relationships/slide" Target="slides/slide49.xml"/><Relationship Id="rId68" Type="http://schemas.openxmlformats.org/officeDocument/2006/relationships/slide" Target="slides/slide50.xml"/><Relationship Id="rId69" Type="http://schemas.openxmlformats.org/officeDocument/2006/relationships/slide" Target="slides/slide51.xml"/><Relationship Id="rId70" Type="http://schemas.openxmlformats.org/officeDocument/2006/relationships/slide" Target="slides/slide52.xml"/><Relationship Id="rId71" Type="http://schemas.openxmlformats.org/officeDocument/2006/relationships/slide" Target="slides/slide53.xml"/><Relationship Id="rId72" Type="http://schemas.openxmlformats.org/officeDocument/2006/relationships/slide" Target="slides/slide54.xml"/><Relationship Id="rId73" Type="http://schemas.openxmlformats.org/officeDocument/2006/relationships/slide" Target="slides/slide55.xml"/><Relationship Id="rId74" Type="http://schemas.openxmlformats.org/officeDocument/2006/relationships/slide" Target="slides/slide56.xml"/><Relationship Id="rId75" Type="http://schemas.openxmlformats.org/officeDocument/2006/relationships/slide" Target="slides/slide57.xml"/><Relationship Id="rId76" Type="http://schemas.openxmlformats.org/officeDocument/2006/relationships/slide" Target="slides/slide58.xml"/><Relationship Id="rId77" Type="http://schemas.openxmlformats.org/officeDocument/2006/relationships/slide" Target="slides/slide59.xml"/><Relationship Id="rId78" Type="http://schemas.openxmlformats.org/officeDocument/2006/relationships/slide" Target="slides/slide60.xml"/><Relationship Id="rId79" Type="http://schemas.openxmlformats.org/officeDocument/2006/relationships/slide" Target="slides/slide61.xml"/><Relationship Id="rId80" Type="http://schemas.openxmlformats.org/officeDocument/2006/relationships/slide" Target="slides/slide62.xml"/><Relationship Id="rId81" Type="http://schemas.openxmlformats.org/officeDocument/2006/relationships/slide" Target="slides/slide63.xml"/><Relationship Id="rId82" Type="http://schemas.openxmlformats.org/officeDocument/2006/relationships/slide" Target="slides/slide64.xml"/><Relationship Id="rId83" Type="http://schemas.openxmlformats.org/officeDocument/2006/relationships/slide" Target="slides/slide65.xml"/><Relationship Id="rId84" Type="http://schemas.openxmlformats.org/officeDocument/2006/relationships/slide" Target="slides/slide66.xml"/><Relationship Id="rId85" Type="http://schemas.openxmlformats.org/officeDocument/2006/relationships/slide" Target="slides/slide67.xml"/><Relationship Id="rId86" Type="http://schemas.openxmlformats.org/officeDocument/2006/relationships/slide" Target="slides/slide68.xml"/><Relationship Id="rId87" Type="http://schemas.openxmlformats.org/officeDocument/2006/relationships/slide" Target="slides/slide69.xml"/><Relationship Id="rId88" Type="http://schemas.openxmlformats.org/officeDocument/2006/relationships/slide" Target="slides/slide70.xml"/><Relationship Id="rId89" Type="http://schemas.openxmlformats.org/officeDocument/2006/relationships/slide" Target="slides/slide71.xml"/><Relationship Id="rId90" Type="http://schemas.openxmlformats.org/officeDocument/2006/relationships/slide" Target="slides/slide72.xml"/><Relationship Id="rId91" Type="http://schemas.openxmlformats.org/officeDocument/2006/relationships/slide" Target="slides/slide73.xml"/><Relationship Id="rId92" Type="http://schemas.openxmlformats.org/officeDocument/2006/relationships/slide" Target="slides/slide74.xml"/><Relationship Id="rId93" Type="http://schemas.openxmlformats.org/officeDocument/2006/relationships/slide" Target="slides/slide75.xml"/><Relationship Id="rId94" Type="http://schemas.openxmlformats.org/officeDocument/2006/relationships/slide" Target="slides/slide76.xml"/><Relationship Id="rId95" Type="http://schemas.openxmlformats.org/officeDocument/2006/relationships/slide" Target="slides/slide77.xml"/><Relationship Id="rId96" Type="http://schemas.openxmlformats.org/officeDocument/2006/relationships/slide" Target="slides/slide78.xml"/><Relationship Id="rId97" Type="http://schemas.openxmlformats.org/officeDocument/2006/relationships/slide" Target="slides/slide79.xml"/><Relationship Id="rId98" Type="http://schemas.openxmlformats.org/officeDocument/2006/relationships/slide" Target="slides/slide80.xml"/><Relationship Id="rId99" Type="http://schemas.openxmlformats.org/officeDocument/2006/relationships/slide" Target="slides/slide81.xml"/><Relationship Id="rId100" Type="http://schemas.openxmlformats.org/officeDocument/2006/relationships/slide" Target="slides/slide82.xml"/><Relationship Id="rId101" Type="http://schemas.openxmlformats.org/officeDocument/2006/relationships/slide" Target="slides/slide83.xml"/><Relationship Id="rId102" Type="http://schemas.openxmlformats.org/officeDocument/2006/relationships/slide" Target="slides/slide84.xml"/><Relationship Id="rId103" Type="http://schemas.openxmlformats.org/officeDocument/2006/relationships/slide" Target="slides/slide85.xml"/><Relationship Id="rId104" Type="http://schemas.openxmlformats.org/officeDocument/2006/relationships/slide" Target="slides/slide86.xml"/><Relationship Id="rId105" Type="http://schemas.openxmlformats.org/officeDocument/2006/relationships/slide" Target="slides/slide87.xml"/><Relationship Id="rId106" Type="http://schemas.openxmlformats.org/officeDocument/2006/relationships/slide" Target="slides/slide88.xml"/><Relationship Id="rId107" Type="http://schemas.openxmlformats.org/officeDocument/2006/relationships/slide" Target="slides/slide89.xml"/><Relationship Id="rId108" Type="http://schemas.openxmlformats.org/officeDocument/2006/relationships/slide" Target="slides/slide90.xml"/><Relationship Id="rId109" Type="http://schemas.openxmlformats.org/officeDocument/2006/relationships/slide" Target="slides/slide91.xml"/><Relationship Id="rId110" Type="http://schemas.openxmlformats.org/officeDocument/2006/relationships/slide" Target="slides/slide92.xml"/><Relationship Id="rId111" Type="http://schemas.openxmlformats.org/officeDocument/2006/relationships/slide" Target="slides/slide93.xml"/><Relationship Id="rId112" Type="http://schemas.openxmlformats.org/officeDocument/2006/relationships/slide" Target="slides/slide94.xml"/><Relationship Id="rId113" Type="http://schemas.openxmlformats.org/officeDocument/2006/relationships/slide" Target="slides/slide95.xml"/><Relationship Id="rId114" Type="http://schemas.openxmlformats.org/officeDocument/2006/relationships/slide" Target="slides/slide96.xml"/><Relationship Id="rId115" Type="http://schemas.openxmlformats.org/officeDocument/2006/relationships/slide" Target="slides/slide97.xml"/><Relationship Id="rId116" Type="http://schemas.openxmlformats.org/officeDocument/2006/relationships/slide" Target="slides/slide98.xml"/><Relationship Id="rId117" Type="http://schemas.openxmlformats.org/officeDocument/2006/relationships/slide" Target="slides/slide99.xml"/><Relationship Id="rId118" Type="http://schemas.openxmlformats.org/officeDocument/2006/relationships/slide" Target="slides/slide100.xml"/><Relationship Id="rId119" Type="http://schemas.openxmlformats.org/officeDocument/2006/relationships/slide" Target="slides/slide101.xml"/><Relationship Id="rId120" Type="http://schemas.openxmlformats.org/officeDocument/2006/relationships/slide" Target="slides/slide102.xml"/><Relationship Id="rId121" Type="http://schemas.openxmlformats.org/officeDocument/2006/relationships/slide" Target="slides/slide103.xml"/><Relationship Id="rId122" Type="http://schemas.openxmlformats.org/officeDocument/2006/relationships/slide" Target="slides/slide104.xml"/><Relationship Id="rId123" Type="http://schemas.openxmlformats.org/officeDocument/2006/relationships/slide" Target="slides/slide105.xml"/><Relationship Id="rId124" Type="http://schemas.openxmlformats.org/officeDocument/2006/relationships/slide" Target="slides/slide106.xml"/><Relationship Id="rId125" Type="http://schemas.openxmlformats.org/officeDocument/2006/relationships/slide" Target="slides/slide107.xml"/><Relationship Id="rId126" Type="http://schemas.openxmlformats.org/officeDocument/2006/relationships/slide" Target="slides/slide108.xml"/><Relationship Id="rId127" Type="http://schemas.openxmlformats.org/officeDocument/2006/relationships/slide" Target="slides/slide109.xml"/><Relationship Id="rId128" Type="http://schemas.openxmlformats.org/officeDocument/2006/relationships/slide" Target="slides/slide110.xml"/><Relationship Id="rId129" Type="http://schemas.openxmlformats.org/officeDocument/2006/relationships/slide" Target="slides/slide111.xml"/><Relationship Id="rId130" Type="http://schemas.openxmlformats.org/officeDocument/2006/relationships/slide" Target="slides/slide112.xml"/><Relationship Id="rId131" Type="http://schemas.openxmlformats.org/officeDocument/2006/relationships/slide" Target="slides/slide113.xml"/><Relationship Id="rId132" Type="http://schemas.openxmlformats.org/officeDocument/2006/relationships/slide" Target="slides/slide114.xml"/><Relationship Id="rId133" Type="http://schemas.openxmlformats.org/officeDocument/2006/relationships/slide" Target="slides/slide115.xml"/><Relationship Id="rId1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move the slide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6DC3D-1698-49BF-B60B-3AF1B6101AD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08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0424A-D8A0-45D4-AF27-AAACEB49A670}" type="slidenum">
              <a:rPr b="0" lang="zh-CN" sz="12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DC12-57D9-4236-B99C-C0A974DC3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DC5A-FF2B-434C-8DD4-08B8E2F46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F44651-129D-4863-8EF0-7AA939A63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2E3165-5F93-4FA7-BF9C-68D06B269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996462-19AC-4718-970D-4C218C2E6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AAFA96-78B9-4A38-A2CF-A4D9C5631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1F1775-6A64-4BE3-AF42-9699798E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72B11F-2D1A-4D08-A468-8134EE2EC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F4A448-6863-4042-9FCB-D390602A8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0E266E-E8BD-4D5F-A6A5-FD7A3FD8A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0D54F9-A2F8-4E76-93ED-F691962B1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4BAF4D-25EB-47F9-AB61-B0B77B39D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40E2-3ADC-4E5F-A302-FAB08A786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C2CFDA-4BA6-4CA1-B761-799776C5F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7B7345-EDAC-413B-A943-77C3D7290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814862-D1E2-4711-8714-AE8EDBAC1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3AC770-E9BC-47AB-AA14-5A40A9FD0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D975A9-AC5D-4D6D-8712-C59F89F05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5907A2-FA48-4591-BEC2-659FD271B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5891F2-0201-47A6-8702-1C73E4444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ABED2D-9220-4441-8D45-2F4DBF9D7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C3CBE5-112D-41AB-9A26-BB5BF09FE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B18F10-7319-448C-9F21-686893D75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A4F7-BC01-4210-917D-502C85210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D1B396-6EEA-4A26-8555-BD718B9F9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9B72C7-B0A0-48C1-85E3-D068BFFCC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7D8A02-022A-4577-86FF-543098882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A5BAC9-5F44-4999-A78D-2FE65C20F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7C5E34-9634-4583-B99C-747F56424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E90AC3-D8AF-4862-A849-20395C883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3D3BFE-7EA4-4DD4-8DC8-0A9096835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AAAAA8-5344-412C-88AB-22DEDDBD1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F248CE-BD79-411E-91E0-B20FE4616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B93F55-3A34-482B-B8D3-3D756CBEE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6E5EA-29F5-41AA-8DBE-C67E0C8F2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C6B31A-B869-4ED0-AB6D-6B6D5919F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B4DE79-4CE8-4D0E-A147-7E7950F83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335F3C-9CA9-47A5-ACD7-9388BDAD4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8B2589-E1E9-48A4-BC74-6BEE23CB6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B78850-A95B-4753-8E7C-7652997CB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E26AEB-D735-460D-BE68-3E10A6EF9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F49B0B-D64A-4F5C-9074-546B30C4B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71700C-1932-4B07-A276-513C52E08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8D9C11-0BFD-4D58-BA1D-40380698A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EDC631-E7D7-4C2D-919F-8D17B6C3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DC49F-B5F8-48E0-AB42-519435077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016141-B075-4348-B14A-4EB6601A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274129-909D-405E-A20B-7219376C3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5C1B1F-9E82-4663-8F0E-4BB4972B6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96E4E1-3F6A-4AE1-8A39-E28FC0F5E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072C9C-A241-4B7F-8E58-69D87C3F6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77924A-49C6-4E16-A46D-E18EDBA36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AF7F3C-7CB6-49D8-BCAA-42B02F54A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30FBA2-69C4-471D-8D2A-A38F56077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EBBE32-86D9-4B1C-92E0-F087796C1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72EB42-3E4C-4AA4-8913-AA1F3A842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490CA-DFF6-4593-A2BF-EF056DC46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074427-C21C-4E37-94A8-5922CEB8F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285B34-7260-4C17-AA3B-CB4A2D4E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A90BF1-288C-4058-B736-EE460F64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DDC19E-F722-44F0-BCFE-25299EE14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67E37F-BA34-4DB9-83F8-8036C6D3F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1BC8E0-C44A-4A87-8678-A8FDBAA97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8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9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6A34D4-7116-4D28-A064-9EF0DF6FA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CB029-E64A-4AB6-94CE-587B00962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55E7A-5942-4F1A-B24C-6A36BEFBF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6189A-B14C-422A-BB6A-F824327E9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3942C-0450-4F71-B866-351CFA20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1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2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F772-D084-4FFE-AF86-2F40AE0A1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9D16C-4E88-4386-822D-AE3650CB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338CC-1464-4C63-9A33-808EDDCDA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2B865-6A01-4D41-ADB9-3BE754CE1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0FB81-A6D2-45ED-B568-A70381624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C1B99-9857-4EA9-A343-2B78D834A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35FC4-B8EE-4769-B3A4-1D515188E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7D866-7597-4F0D-9B4B-EACE9BEE6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3A345-1F9B-4B00-823A-8928B119C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583F6-CCA6-41F9-A057-792BA1511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1686D-132A-4D08-8405-394BB04B2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55AA-E768-4855-B12D-F2C306C75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B1756-3726-41AC-B508-E9CD547CE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8AA18-C85E-4C11-A271-1A3A90D6A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0421B-231A-43C0-BD3B-1D5C900F6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7DF80-D1B9-4D82-92F9-445E1D909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6E224-C71E-44DB-A50A-F493D70B2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D60D5-6EEF-4A3A-BC0F-30BBE9C4E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6C255-F59D-4672-BCD2-E36FDB1C5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C7126-5232-46CD-805C-7A3295F20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A3C03-A658-4300-B253-D59424F44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20DF0-C34A-4AE5-AAF0-9F87D4776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5835-A796-4F3B-8AF6-D609CCADC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BAEF6-2BE5-4D6D-B8BF-3AEA1E856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B3643-AE5F-4E04-941F-0DD3A7F96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D2E02-37F2-4B81-BCDD-C8956A3EA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26DC2-7E5B-4813-8EF8-E1EFCFF68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C2CC8-10A4-4FE1-BD3F-8868EB67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B4E8D-6664-46E0-90F0-37D4877D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5EBE8-467B-4AC2-B781-1A1AFF530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AF292-9BEC-47F5-BFC0-F4F2D0ED3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CBF2E-D1D4-4A82-82E9-71C6B9768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2B072-1A82-453D-8A9F-25AC30162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975A-7889-4CDC-BD43-F3B1878F9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18481E-8F9C-44D5-909F-5C4CD9A6C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D77436-2399-464E-96AC-D680727E7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8F4A1-0F6E-4A70-BB34-9DDA1C2D7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D7E583-829C-4BF1-9692-CAA384A8D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1E9873-62AE-4481-82BA-080A3A9A8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175372-4A9C-4AAE-BE31-632DF169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B233DE-9FA1-4BF4-B3FF-76F7E547B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FDD039-7D30-44B6-BF4F-29248665D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9B28B6-E2C6-4FE5-A5C9-1BB97CC57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895409-6E09-48A4-BA44-694D30E7A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9A57-7EFB-4DA2-9D7C-7DD12EE7C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13289-6504-480E-9E04-32C47EE85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F73039-AB44-4E57-A284-1793DF67E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E8CFA1-B91F-454F-A5D7-BCCBDF318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E05372-A9F8-4B8D-A42B-386B51C64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BF19F9-91D8-47A1-9213-3AC680492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96BB5D-8295-4924-921E-FB48C0D77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AA90C8-B7D2-4691-BA5D-7BA241ACE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12C5CD-B30A-42B7-96C3-2C559747C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4DF1F-21D4-4E26-88FD-35E936AB0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E2A528-6A96-43CC-A678-1EC07141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7534-82E7-40AB-9B7C-864FC0ECB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31A28C-F7B6-4EC5-81AA-FDA520441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3DA7D3-5162-48A7-886D-53F18349C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8FCED9-40D9-45C3-9E6C-62A572C34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8D13FF-E4BC-4E94-93DE-42A5E5F1D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BDF0AC-966A-441C-8A47-6DFC75A3E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1BA7F7-9164-4FBF-AB59-F8AA4E9D7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95C173-58CB-40C0-A66A-CB6E0F18A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EDE7DA-1DED-4184-B28A-A706369C0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890B9-012B-448D-9DB5-78B810CAE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554DC6-04D6-43B8-B94F-4FF7E0D9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FE5A-85AC-4220-9B23-6462FF5BA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4BF4AE-DC5C-4808-9304-41AD12B9D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CF9B6C-89AF-4948-9DFC-59125D8D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6C92D8-B446-4520-A95F-47A3D2E5B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20F8CE-928E-448B-B859-9BF34C545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9CBC1D-EB77-43CB-B8C8-7650C9BD2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391331-B24E-4575-82F3-3C14C4748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2E4C72-5741-47E1-AFE4-56E319324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35663C-36F8-4140-B0F5-232F941D7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9BB406-1EF5-44C1-B552-90D159B19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6F2CDF-DACD-49C5-813E-C792892B8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ABB8-B53E-46E4-B1A0-06279EA3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4F8B93-CE65-4765-B36C-92A7A96F1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DCDE78-1FFD-4C57-8B1D-604109C97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9DA041-60EA-4E74-984F-D7A121357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6FEDD1-5EF1-4080-A16C-513D0A7B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5C76A8-BD04-4CB4-AA36-F82F421CD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A4CA89-37B3-4093-8B53-135FAD8B2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0BF257-EFBE-4CE5-B72A-B04567CF5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90CDE6-7BA4-42B7-BA48-32F4B8568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9B8EBC-3687-4F2A-AB8F-808DE0900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2DC464-78AE-43F9-84C0-8BA790B8B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resset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7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505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506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507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dt" idx="28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ftr" idx="29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 type="sldNum" idx="30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DBD00-F661-4E52-AFB6-3F23659CFB7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550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551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dt" idx="31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 type="ftr" idx="32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 type="sldNum" idx="33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C7203-3F7D-452E-AEE3-72233E281F2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593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594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595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 type="dt" idx="34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 type="ftr" idx="35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 type="sldNum" idx="36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7AB9B-8E52-445E-B791-F00960E9889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637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638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639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 type="dt" idx="37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 type="ftr" idx="38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 type="sldNum" idx="39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713A4-0EB0-4B86-BECE-F7F41CE0C50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0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681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682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683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722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723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763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764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765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27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pSp>
        <p:nvGrpSpPr>
          <p:cNvPr id="45" name="Group 15"/>
          <p:cNvGrpSpPr/>
          <p:nvPr/>
        </p:nvGrpSpPr>
        <p:grpSpPr>
          <a:xfrm>
            <a:off x="152280" y="380880"/>
            <a:ext cx="6838920" cy="3365640"/>
            <a:chOff x="152280" y="380880"/>
            <a:chExt cx="6838920" cy="3365640"/>
          </a:xfrm>
        </p:grpSpPr>
        <p:sp>
          <p:nvSpPr>
            <p:cNvPr id="46" name="Freeform 16"/>
            <p:cNvSpPr/>
            <p:nvPr/>
          </p:nvSpPr>
          <p:spPr>
            <a:xfrm>
              <a:off x="277560" y="530280"/>
              <a:ext cx="2011680" cy="3076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47" name="Freeform 17"/>
            <p:cNvSpPr/>
            <p:nvPr/>
          </p:nvSpPr>
          <p:spPr>
            <a:xfrm>
              <a:off x="214200" y="824040"/>
              <a:ext cx="54000" cy="442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48" name="Freeform 18"/>
            <p:cNvSpPr/>
            <p:nvPr/>
          </p:nvSpPr>
          <p:spPr>
            <a:xfrm>
              <a:off x="701640" y="1019160"/>
              <a:ext cx="61920" cy="50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49" name="Freeform 19"/>
            <p:cNvSpPr/>
            <p:nvPr/>
          </p:nvSpPr>
          <p:spPr>
            <a:xfrm>
              <a:off x="1942920" y="1108080"/>
              <a:ext cx="155520" cy="1173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0" name="Freeform 20"/>
            <p:cNvSpPr/>
            <p:nvPr/>
          </p:nvSpPr>
          <p:spPr>
            <a:xfrm>
              <a:off x="1190520" y="1717560"/>
              <a:ext cx="250920" cy="133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1" name="Freeform 21"/>
            <p:cNvSpPr/>
            <p:nvPr/>
          </p:nvSpPr>
          <p:spPr>
            <a:xfrm>
              <a:off x="1396800" y="1819440"/>
              <a:ext cx="157320" cy="64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1563480" y="1860480"/>
              <a:ext cx="6048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3" name="Freeform 23"/>
            <p:cNvSpPr/>
            <p:nvPr/>
          </p:nvSpPr>
          <p:spPr>
            <a:xfrm>
              <a:off x="1652400" y="1865160"/>
              <a:ext cx="19080" cy="39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4" name="Freeform 24"/>
            <p:cNvSpPr/>
            <p:nvPr/>
          </p:nvSpPr>
          <p:spPr>
            <a:xfrm>
              <a:off x="1361880" y="522360"/>
              <a:ext cx="285840" cy="139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5" name="Freeform 25"/>
            <p:cNvSpPr/>
            <p:nvPr/>
          </p:nvSpPr>
          <p:spPr>
            <a:xfrm>
              <a:off x="1488960" y="457200"/>
              <a:ext cx="231840" cy="95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6" name="Freeform 26"/>
            <p:cNvSpPr/>
            <p:nvPr/>
          </p:nvSpPr>
          <p:spPr>
            <a:xfrm>
              <a:off x="1814400" y="568440"/>
              <a:ext cx="370080" cy="301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7" name="Freeform 27"/>
            <p:cNvSpPr/>
            <p:nvPr/>
          </p:nvSpPr>
          <p:spPr>
            <a:xfrm>
              <a:off x="1811160" y="438120"/>
              <a:ext cx="69840" cy="58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8" name="Freeform 28"/>
            <p:cNvSpPr/>
            <p:nvPr/>
          </p:nvSpPr>
          <p:spPr>
            <a:xfrm>
              <a:off x="1677960" y="549360"/>
              <a:ext cx="102960" cy="666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9" name="Freeform 29"/>
            <p:cNvSpPr/>
            <p:nvPr/>
          </p:nvSpPr>
          <p:spPr>
            <a:xfrm>
              <a:off x="1785960" y="561960"/>
              <a:ext cx="85680" cy="396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0" name="Freeform 30"/>
            <p:cNvSpPr/>
            <p:nvPr/>
          </p:nvSpPr>
          <p:spPr>
            <a:xfrm>
              <a:off x="1739880" y="504720"/>
              <a:ext cx="101520" cy="54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1" name="Freeform 31"/>
            <p:cNvSpPr/>
            <p:nvPr/>
          </p:nvSpPr>
          <p:spPr>
            <a:xfrm>
              <a:off x="1697040" y="453960"/>
              <a:ext cx="6984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2" name="Freeform 32"/>
            <p:cNvSpPr/>
            <p:nvPr/>
          </p:nvSpPr>
          <p:spPr>
            <a:xfrm>
              <a:off x="1877760" y="458640"/>
              <a:ext cx="181080" cy="122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3" name="Freeform 33"/>
            <p:cNvSpPr/>
            <p:nvPr/>
          </p:nvSpPr>
          <p:spPr>
            <a:xfrm>
              <a:off x="152280" y="847800"/>
              <a:ext cx="396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4" name="Freeform 34"/>
            <p:cNvSpPr/>
            <p:nvPr/>
          </p:nvSpPr>
          <p:spPr>
            <a:xfrm>
              <a:off x="1353960" y="1658880"/>
              <a:ext cx="25560" cy="19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5" name="Freeform 35"/>
            <p:cNvSpPr/>
            <p:nvPr/>
          </p:nvSpPr>
          <p:spPr>
            <a:xfrm>
              <a:off x="1358640" y="1698480"/>
              <a:ext cx="25560" cy="19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6" name="Freeform 36"/>
            <p:cNvSpPr/>
            <p:nvPr/>
          </p:nvSpPr>
          <p:spPr>
            <a:xfrm>
              <a:off x="1682640" y="1908360"/>
              <a:ext cx="23760" cy="18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7" name="Freeform 37"/>
            <p:cNvSpPr/>
            <p:nvPr/>
          </p:nvSpPr>
          <p:spPr>
            <a:xfrm>
              <a:off x="1879560" y="1139760"/>
              <a:ext cx="6012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8" name="Freeform 38"/>
            <p:cNvSpPr/>
            <p:nvPr/>
          </p:nvSpPr>
          <p:spPr>
            <a:xfrm>
              <a:off x="1720800" y="814320"/>
              <a:ext cx="6012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9" name="Freeform 39"/>
            <p:cNvSpPr/>
            <p:nvPr/>
          </p:nvSpPr>
          <p:spPr>
            <a:xfrm>
              <a:off x="1823760" y="530280"/>
              <a:ext cx="61920" cy="28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0" name="Freeform 40"/>
            <p:cNvSpPr/>
            <p:nvPr/>
          </p:nvSpPr>
          <p:spPr>
            <a:xfrm>
              <a:off x="1923840" y="701640"/>
              <a:ext cx="6048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1" name="Freeform 41"/>
            <p:cNvSpPr/>
            <p:nvPr/>
          </p:nvSpPr>
          <p:spPr>
            <a:xfrm>
              <a:off x="1949400" y="380880"/>
              <a:ext cx="1104840" cy="5493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2" name="Freeform 42"/>
            <p:cNvSpPr/>
            <p:nvPr/>
          </p:nvSpPr>
          <p:spPr>
            <a:xfrm>
              <a:off x="2287440" y="673200"/>
              <a:ext cx="6192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3" name="Freeform 43"/>
            <p:cNvSpPr/>
            <p:nvPr/>
          </p:nvSpPr>
          <p:spPr>
            <a:xfrm>
              <a:off x="2736720" y="777960"/>
              <a:ext cx="203400" cy="85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4" name="Freeform 44"/>
            <p:cNvSpPr/>
            <p:nvPr/>
          </p:nvSpPr>
          <p:spPr>
            <a:xfrm>
              <a:off x="2896920" y="519120"/>
              <a:ext cx="6192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5" name="Freeform 45"/>
            <p:cNvSpPr/>
            <p:nvPr/>
          </p:nvSpPr>
          <p:spPr>
            <a:xfrm>
              <a:off x="3324240" y="468360"/>
              <a:ext cx="245880" cy="100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6" name="Freeform 46"/>
            <p:cNvSpPr/>
            <p:nvPr/>
          </p:nvSpPr>
          <p:spPr>
            <a:xfrm>
              <a:off x="3477960" y="520560"/>
              <a:ext cx="76320" cy="334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7" name="Freeform 47"/>
            <p:cNvSpPr/>
            <p:nvPr/>
          </p:nvSpPr>
          <p:spPr>
            <a:xfrm>
              <a:off x="3014640" y="952560"/>
              <a:ext cx="172800" cy="209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8" name="Freeform 48"/>
            <p:cNvSpPr/>
            <p:nvPr/>
          </p:nvSpPr>
          <p:spPr>
            <a:xfrm>
              <a:off x="2928960" y="1028880"/>
              <a:ext cx="109440" cy="107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9" name="Freeform 49"/>
            <p:cNvSpPr/>
            <p:nvPr/>
          </p:nvSpPr>
          <p:spPr>
            <a:xfrm>
              <a:off x="5605200" y="2843280"/>
              <a:ext cx="752760" cy="785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0" name="Freeform 50"/>
            <p:cNvSpPr/>
            <p:nvPr/>
          </p:nvSpPr>
          <p:spPr>
            <a:xfrm>
              <a:off x="5838840" y="2428920"/>
              <a:ext cx="506160" cy="3333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1" name="Freeform 51"/>
            <p:cNvSpPr/>
            <p:nvPr/>
          </p:nvSpPr>
          <p:spPr>
            <a:xfrm>
              <a:off x="5852880" y="2432160"/>
              <a:ext cx="493920" cy="334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2" name="Freeform 52"/>
            <p:cNvSpPr/>
            <p:nvPr/>
          </p:nvSpPr>
          <p:spPr>
            <a:xfrm>
              <a:off x="6218280" y="3654360"/>
              <a:ext cx="71280" cy="92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3" name="Freeform 53"/>
            <p:cNvSpPr/>
            <p:nvPr/>
          </p:nvSpPr>
          <p:spPr>
            <a:xfrm>
              <a:off x="6433920" y="3511440"/>
              <a:ext cx="260640" cy="135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4" name="Freeform 54"/>
            <p:cNvSpPr/>
            <p:nvPr/>
          </p:nvSpPr>
          <p:spPr>
            <a:xfrm>
              <a:off x="6703920" y="3432240"/>
              <a:ext cx="165240" cy="146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5" name="Freeform 55"/>
            <p:cNvSpPr/>
            <p:nvPr/>
          </p:nvSpPr>
          <p:spPr>
            <a:xfrm>
              <a:off x="6791400" y="3367080"/>
              <a:ext cx="58680" cy="41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6" name="Freeform 56"/>
            <p:cNvSpPr/>
            <p:nvPr/>
          </p:nvSpPr>
          <p:spPr>
            <a:xfrm>
              <a:off x="4056120" y="2595600"/>
              <a:ext cx="195120" cy="318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7" name="Freeform 57"/>
            <p:cNvSpPr/>
            <p:nvPr/>
          </p:nvSpPr>
          <p:spPr>
            <a:xfrm>
              <a:off x="4900680" y="2100240"/>
              <a:ext cx="77760" cy="96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8" name="Freeform 58"/>
            <p:cNvSpPr/>
            <p:nvPr/>
          </p:nvSpPr>
          <p:spPr>
            <a:xfrm>
              <a:off x="5429160" y="2205000"/>
              <a:ext cx="176040" cy="290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9" name="Freeform 59"/>
            <p:cNvSpPr/>
            <p:nvPr/>
          </p:nvSpPr>
          <p:spPr>
            <a:xfrm>
              <a:off x="5279760" y="2114640"/>
              <a:ext cx="114480" cy="217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0" name="Freeform 60"/>
            <p:cNvSpPr/>
            <p:nvPr/>
          </p:nvSpPr>
          <p:spPr>
            <a:xfrm>
              <a:off x="5357880" y="2289240"/>
              <a:ext cx="63360" cy="208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1" name="Freeform 61"/>
            <p:cNvSpPr/>
            <p:nvPr/>
          </p:nvSpPr>
          <p:spPr>
            <a:xfrm>
              <a:off x="5429160" y="2506680"/>
              <a:ext cx="103320" cy="85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2" name="Freeform 62"/>
            <p:cNvSpPr/>
            <p:nvPr/>
          </p:nvSpPr>
          <p:spPr>
            <a:xfrm>
              <a:off x="5594400" y="2355840"/>
              <a:ext cx="131760" cy="185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3" name="Freeform 63"/>
            <p:cNvSpPr/>
            <p:nvPr/>
          </p:nvSpPr>
          <p:spPr>
            <a:xfrm>
              <a:off x="5549760" y="1692360"/>
              <a:ext cx="34920" cy="112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4" name="Freeform 64"/>
            <p:cNvSpPr/>
            <p:nvPr/>
          </p:nvSpPr>
          <p:spPr>
            <a:xfrm>
              <a:off x="5572080" y="1881360"/>
              <a:ext cx="96840" cy="1872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5" name="Freeform 65"/>
            <p:cNvSpPr/>
            <p:nvPr/>
          </p:nvSpPr>
          <p:spPr>
            <a:xfrm>
              <a:off x="5640120" y="2128680"/>
              <a:ext cx="101880" cy="125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6" name="Freeform 66"/>
            <p:cNvSpPr/>
            <p:nvPr/>
          </p:nvSpPr>
          <p:spPr>
            <a:xfrm>
              <a:off x="5761080" y="2352600"/>
              <a:ext cx="45720" cy="77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7" name="Freeform 67"/>
            <p:cNvSpPr/>
            <p:nvPr/>
          </p:nvSpPr>
          <p:spPr>
            <a:xfrm>
              <a:off x="5735520" y="2482920"/>
              <a:ext cx="28440" cy="27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8" name="Freeform 68"/>
            <p:cNvSpPr/>
            <p:nvPr/>
          </p:nvSpPr>
          <p:spPr>
            <a:xfrm>
              <a:off x="5778360" y="2467080"/>
              <a:ext cx="71640" cy="58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9" name="Freeform 69"/>
            <p:cNvSpPr/>
            <p:nvPr/>
          </p:nvSpPr>
          <p:spPr>
            <a:xfrm>
              <a:off x="5887800" y="2577960"/>
              <a:ext cx="38160" cy="52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0" name="Freeform 70"/>
            <p:cNvSpPr/>
            <p:nvPr/>
          </p:nvSpPr>
          <p:spPr>
            <a:xfrm>
              <a:off x="6311880" y="2511360"/>
              <a:ext cx="73080" cy="74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1" name="Freeform 71"/>
            <p:cNvSpPr/>
            <p:nvPr/>
          </p:nvSpPr>
          <p:spPr>
            <a:xfrm>
              <a:off x="5681520" y="2604960"/>
              <a:ext cx="73080" cy="79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2" name="Freeform 72"/>
            <p:cNvSpPr/>
            <p:nvPr/>
          </p:nvSpPr>
          <p:spPr>
            <a:xfrm>
              <a:off x="5603760" y="2635200"/>
              <a:ext cx="50760" cy="42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3" name="Freeform 73"/>
            <p:cNvSpPr/>
            <p:nvPr/>
          </p:nvSpPr>
          <p:spPr>
            <a:xfrm>
              <a:off x="5570280" y="2589120"/>
              <a:ext cx="38160" cy="493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4" name="Freeform 74"/>
            <p:cNvSpPr/>
            <p:nvPr/>
          </p:nvSpPr>
          <p:spPr>
            <a:xfrm>
              <a:off x="5624280" y="2606760"/>
              <a:ext cx="5400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5" name="Freeform 75"/>
            <p:cNvSpPr/>
            <p:nvPr/>
          </p:nvSpPr>
          <p:spPr>
            <a:xfrm>
              <a:off x="5546520" y="2079720"/>
              <a:ext cx="42840" cy="871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6" name="Freeform 76"/>
            <p:cNvSpPr/>
            <p:nvPr/>
          </p:nvSpPr>
          <p:spPr>
            <a:xfrm>
              <a:off x="5627520" y="2065320"/>
              <a:ext cx="30240" cy="874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7" name="Freeform 77"/>
            <p:cNvSpPr/>
            <p:nvPr/>
          </p:nvSpPr>
          <p:spPr>
            <a:xfrm>
              <a:off x="5662440" y="2038320"/>
              <a:ext cx="15840" cy="396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8" name="Freeform 78"/>
            <p:cNvSpPr/>
            <p:nvPr/>
          </p:nvSpPr>
          <p:spPr>
            <a:xfrm>
              <a:off x="5678280" y="2057400"/>
              <a:ext cx="33480" cy="763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9" name="Freeform 79"/>
            <p:cNvSpPr/>
            <p:nvPr/>
          </p:nvSpPr>
          <p:spPr>
            <a:xfrm>
              <a:off x="5251320" y="2166840"/>
              <a:ext cx="19080" cy="42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0" name="Freeform 80"/>
            <p:cNvSpPr/>
            <p:nvPr/>
          </p:nvSpPr>
          <p:spPr>
            <a:xfrm>
              <a:off x="5235480" y="2130480"/>
              <a:ext cx="1584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1" name="Freeform 81"/>
            <p:cNvSpPr/>
            <p:nvPr/>
          </p:nvSpPr>
          <p:spPr>
            <a:xfrm>
              <a:off x="5229000" y="2102040"/>
              <a:ext cx="19080" cy="21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2" name="Freeform 82"/>
            <p:cNvSpPr/>
            <p:nvPr/>
          </p:nvSpPr>
          <p:spPr>
            <a:xfrm>
              <a:off x="5209920" y="2038320"/>
              <a:ext cx="17640" cy="302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3" name="Freeform 83"/>
            <p:cNvSpPr/>
            <p:nvPr/>
          </p:nvSpPr>
          <p:spPr>
            <a:xfrm>
              <a:off x="5213160" y="2077920"/>
              <a:ext cx="25560" cy="20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4" name="Freeform 84"/>
            <p:cNvSpPr/>
            <p:nvPr/>
          </p:nvSpPr>
          <p:spPr>
            <a:xfrm>
              <a:off x="6540480" y="3067200"/>
              <a:ext cx="71280" cy="95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5" name="Freeform 85"/>
            <p:cNvSpPr/>
            <p:nvPr/>
          </p:nvSpPr>
          <p:spPr>
            <a:xfrm>
              <a:off x="6906960" y="2989440"/>
              <a:ext cx="84240" cy="72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6" name="Freeform 86"/>
            <p:cNvSpPr/>
            <p:nvPr/>
          </p:nvSpPr>
          <p:spPr>
            <a:xfrm>
              <a:off x="6653160" y="2949480"/>
              <a:ext cx="27000" cy="36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7" name="Freeform 87"/>
            <p:cNvSpPr/>
            <p:nvPr/>
          </p:nvSpPr>
          <p:spPr>
            <a:xfrm>
              <a:off x="6640560" y="2914560"/>
              <a:ext cx="31680" cy="27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8" name="Freeform 88"/>
            <p:cNvSpPr/>
            <p:nvPr/>
          </p:nvSpPr>
          <p:spPr>
            <a:xfrm>
              <a:off x="6397560" y="2606760"/>
              <a:ext cx="38160" cy="522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9" name="Freeform 89"/>
            <p:cNvSpPr/>
            <p:nvPr/>
          </p:nvSpPr>
          <p:spPr>
            <a:xfrm>
              <a:off x="6451560" y="2674800"/>
              <a:ext cx="41040" cy="52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0" name="Freeform 90"/>
            <p:cNvSpPr/>
            <p:nvPr/>
          </p:nvSpPr>
          <p:spPr>
            <a:xfrm>
              <a:off x="6494400" y="2774880"/>
              <a:ext cx="44280" cy="44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1" name="Freeform 91"/>
            <p:cNvSpPr/>
            <p:nvPr/>
          </p:nvSpPr>
          <p:spPr>
            <a:xfrm>
              <a:off x="6548400" y="2759040"/>
              <a:ext cx="44280" cy="41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2" name="Freeform 92"/>
            <p:cNvSpPr/>
            <p:nvPr/>
          </p:nvSpPr>
          <p:spPr>
            <a:xfrm>
              <a:off x="6532560" y="2701800"/>
              <a:ext cx="41040" cy="32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3" name="Freeform 93"/>
            <p:cNvSpPr/>
            <p:nvPr/>
          </p:nvSpPr>
          <p:spPr>
            <a:xfrm>
              <a:off x="6491160" y="2662200"/>
              <a:ext cx="41400" cy="55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4" name="Freeform 94"/>
            <p:cNvSpPr/>
            <p:nvPr/>
          </p:nvSpPr>
          <p:spPr>
            <a:xfrm>
              <a:off x="6440400" y="2637000"/>
              <a:ext cx="38160" cy="41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5" name="Freeform 95"/>
            <p:cNvSpPr/>
            <p:nvPr/>
          </p:nvSpPr>
          <p:spPr>
            <a:xfrm>
              <a:off x="6503760" y="2720880"/>
              <a:ext cx="38160" cy="41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6" name="Freeform 96"/>
            <p:cNvSpPr/>
            <p:nvPr/>
          </p:nvSpPr>
          <p:spPr>
            <a:xfrm>
              <a:off x="3948120" y="539640"/>
              <a:ext cx="223560" cy="171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7" name="Freeform 97"/>
            <p:cNvSpPr/>
            <p:nvPr/>
          </p:nvSpPr>
          <p:spPr>
            <a:xfrm>
              <a:off x="4081320" y="704880"/>
              <a:ext cx="63720" cy="19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8" name="Freeform 98"/>
            <p:cNvSpPr/>
            <p:nvPr/>
          </p:nvSpPr>
          <p:spPr>
            <a:xfrm>
              <a:off x="4406760" y="457200"/>
              <a:ext cx="66600" cy="44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9" name="Freeform 99"/>
            <p:cNvSpPr/>
            <p:nvPr/>
          </p:nvSpPr>
          <p:spPr>
            <a:xfrm>
              <a:off x="4454280" y="477720"/>
              <a:ext cx="79560" cy="32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0" name="Freeform 100"/>
            <p:cNvSpPr/>
            <p:nvPr/>
          </p:nvSpPr>
          <p:spPr>
            <a:xfrm>
              <a:off x="4540320" y="482760"/>
              <a:ext cx="79200" cy="50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1" name="Freeform 101"/>
            <p:cNvSpPr/>
            <p:nvPr/>
          </p:nvSpPr>
          <p:spPr>
            <a:xfrm>
              <a:off x="5094360" y="525600"/>
              <a:ext cx="139680" cy="48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2" name="Freeform 102"/>
            <p:cNvSpPr/>
            <p:nvPr/>
          </p:nvSpPr>
          <p:spPr>
            <a:xfrm>
              <a:off x="5236920" y="523800"/>
              <a:ext cx="7308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3" name="Freeform 103"/>
            <p:cNvSpPr/>
            <p:nvPr/>
          </p:nvSpPr>
          <p:spPr>
            <a:xfrm>
              <a:off x="5203800" y="569880"/>
              <a:ext cx="58680" cy="27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4" name="Freeform 104"/>
            <p:cNvSpPr/>
            <p:nvPr/>
          </p:nvSpPr>
          <p:spPr>
            <a:xfrm>
              <a:off x="5603760" y="925560"/>
              <a:ext cx="120600" cy="181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5" name="Freeform 105"/>
            <p:cNvSpPr/>
            <p:nvPr/>
          </p:nvSpPr>
          <p:spPr>
            <a:xfrm>
              <a:off x="5700600" y="1112760"/>
              <a:ext cx="87480" cy="123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6" name="Freeform 106"/>
            <p:cNvSpPr/>
            <p:nvPr/>
          </p:nvSpPr>
          <p:spPr>
            <a:xfrm>
              <a:off x="5643360" y="1239840"/>
              <a:ext cx="173160" cy="299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7" name="Freeform 107"/>
            <p:cNvSpPr/>
            <p:nvPr/>
          </p:nvSpPr>
          <p:spPr>
            <a:xfrm>
              <a:off x="3959280" y="439920"/>
              <a:ext cx="82440" cy="47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8" name="Freeform 108"/>
            <p:cNvSpPr/>
            <p:nvPr/>
          </p:nvSpPr>
          <p:spPr>
            <a:xfrm>
              <a:off x="3789360" y="453960"/>
              <a:ext cx="30240" cy="349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9" name="Freeform 109"/>
            <p:cNvSpPr/>
            <p:nvPr/>
          </p:nvSpPr>
          <p:spPr>
            <a:xfrm>
              <a:off x="3827520" y="452520"/>
              <a:ext cx="58680" cy="42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0" name="Freeform 110"/>
            <p:cNvSpPr/>
            <p:nvPr/>
          </p:nvSpPr>
          <p:spPr>
            <a:xfrm>
              <a:off x="3924360" y="438120"/>
              <a:ext cx="31680" cy="25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1" name="Freeform 111"/>
            <p:cNvSpPr/>
            <p:nvPr/>
          </p:nvSpPr>
          <p:spPr>
            <a:xfrm>
              <a:off x="3895560" y="466560"/>
              <a:ext cx="23760" cy="20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2" name="Freeform 112"/>
            <p:cNvSpPr/>
            <p:nvPr/>
          </p:nvSpPr>
          <p:spPr>
            <a:xfrm>
              <a:off x="5705280" y="492120"/>
              <a:ext cx="28800" cy="52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3" name="Freeform 113"/>
            <p:cNvSpPr/>
            <p:nvPr/>
          </p:nvSpPr>
          <p:spPr>
            <a:xfrm>
              <a:off x="4302000" y="2797200"/>
              <a:ext cx="49320" cy="28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4" name="Freeform 114"/>
            <p:cNvSpPr/>
            <p:nvPr/>
          </p:nvSpPr>
          <p:spPr>
            <a:xfrm>
              <a:off x="4365360" y="2786040"/>
              <a:ext cx="162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5" name="Freeform 115"/>
            <p:cNvSpPr/>
            <p:nvPr/>
          </p:nvSpPr>
          <p:spPr>
            <a:xfrm>
              <a:off x="4259160" y="2541600"/>
              <a:ext cx="144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6" name="Freeform 116"/>
            <p:cNvSpPr/>
            <p:nvPr/>
          </p:nvSpPr>
          <p:spPr>
            <a:xfrm>
              <a:off x="4354560" y="2425680"/>
              <a:ext cx="17280" cy="302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7" name="Freeform 117"/>
            <p:cNvSpPr/>
            <p:nvPr/>
          </p:nvSpPr>
          <p:spPr>
            <a:xfrm>
              <a:off x="4316400" y="2424240"/>
              <a:ext cx="17280" cy="29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8" name="Freeform 118"/>
            <p:cNvSpPr/>
            <p:nvPr/>
          </p:nvSpPr>
          <p:spPr>
            <a:xfrm>
              <a:off x="4298760" y="2459160"/>
              <a:ext cx="1584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9" name="Freeform 119"/>
            <p:cNvSpPr/>
            <p:nvPr/>
          </p:nvSpPr>
          <p:spPr>
            <a:xfrm>
              <a:off x="4259160" y="2513160"/>
              <a:ext cx="144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0" name="Freeform 120"/>
            <p:cNvSpPr/>
            <p:nvPr/>
          </p:nvSpPr>
          <p:spPr>
            <a:xfrm>
              <a:off x="4289400" y="2492280"/>
              <a:ext cx="1584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1" name="Freeform 121"/>
            <p:cNvSpPr/>
            <p:nvPr/>
          </p:nvSpPr>
          <p:spPr>
            <a:xfrm>
              <a:off x="3125520" y="923760"/>
              <a:ext cx="16200" cy="241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2" name="Freeform 122"/>
            <p:cNvSpPr/>
            <p:nvPr/>
          </p:nvSpPr>
          <p:spPr>
            <a:xfrm>
              <a:off x="3028680" y="870120"/>
              <a:ext cx="162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3" name="Freeform 123"/>
            <p:cNvSpPr/>
            <p:nvPr/>
          </p:nvSpPr>
          <p:spPr>
            <a:xfrm>
              <a:off x="2651040" y="525600"/>
              <a:ext cx="3270240" cy="2609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pic>
        <p:nvPicPr>
          <p:cNvPr id="154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4"/>
          </p:nvPr>
        </p:nvSpPr>
        <p:spPr>
          <a:xfrm>
            <a:off x="304920" y="6476760"/>
            <a:ext cx="21333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5"/>
          </p:nvPr>
        </p:nvSpPr>
        <p:spPr>
          <a:xfrm>
            <a:off x="6705720" y="6477120"/>
            <a:ext cx="2286000" cy="2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resset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6"/>
          </p:nvPr>
        </p:nvSpPr>
        <p:spPr>
          <a:xfrm>
            <a:off x="3657240" y="647676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A6F3C-E090-4D96-BFC9-2302C2EE879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98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7"/>
          </p:nvPr>
        </p:nvSpPr>
        <p:spPr>
          <a:xfrm>
            <a:off x="499680" y="6428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12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8"/>
          </p:nvPr>
        </p:nvSpPr>
        <p:spPr>
          <a:xfrm>
            <a:off x="3143160" y="6428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8E663-9771-402A-BDFB-E9A547224CD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9"/>
          </p:nvPr>
        </p:nvSpPr>
        <p:spPr>
          <a:xfrm>
            <a:off x="6571800" y="6428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resset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242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0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1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2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7D3A6-F789-4A8E-B435-17EED0E17DC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286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3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14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15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8A8FB-2683-421A-BDED-52BFBEA5CA6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330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16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17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18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2BD95-FE5C-4CBC-96A2-AE230798987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374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19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0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1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42698-BDE7-459A-AE23-4938C18C779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417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418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22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23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24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98945-42A2-45FF-8CCE-AC7FFD02821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461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462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25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26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27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49AF1-A636-4309-9233-DC83D6116B7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8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4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hyperlink" Target="ms-its:base.chm::/base.hlp/a000206074.htm" TargetMode="External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hyperlink" Target="http://www.resset.cn/" TargetMode="External"/><Relationship Id="rId2" Type="http://schemas.openxmlformats.org/officeDocument/2006/relationships/slideLayout" Target="../slideLayouts/slideLayout2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hyperlink" Target="ms-its:base.chm::/base.hlp/dsstmt_nobs.htm" TargetMode="External"/><Relationship Id="rId2" Type="http://schemas.openxmlformats.org/officeDocument/2006/relationships/hyperlink" Target="ms-its:base.chm::/base.hlp/dsstmt_point.htm" TargetMode="External"/><Relationship Id="rId3" Type="http://schemas.openxmlformats.org/officeDocument/2006/relationships/hyperlink" Target="ms-its:base.chm::/base.hlp/dsstmt_key.htm" TargetMode="External"/><Relationship Id="rId4" Type="http://schemas.openxmlformats.org/officeDocument/2006/relationships/hyperlink" Target="ms-its:base.chm::/base.hlp/dsstmt_moduniq.htm" TargetMode="External"/><Relationship Id="rId5" Type="http://schemas.openxmlformats.org/officeDocument/2006/relationships/slideLayout" Target="../slideLayouts/slideLayout2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6"/>
          <p:cNvSpPr/>
          <p:nvPr/>
        </p:nvSpPr>
        <p:spPr>
          <a:xfrm>
            <a:off x="3591360" y="3929760"/>
            <a:ext cx="23752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黑体"/>
                <a:ea typeface="黑体"/>
              </a:rPr>
              <a:t>清华大学经济管理学院   朱世武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11" name="Rectangle 6"/>
          <p:cNvSpPr/>
          <p:nvPr/>
        </p:nvSpPr>
        <p:spPr>
          <a:xfrm>
            <a:off x="3071880" y="4500720"/>
            <a:ext cx="3851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zhushw@sem.tsinghua.edu.cn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zhushw@resset.cn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12" name="Rectangle 7"/>
          <p:cNvSpPr/>
          <p:nvPr/>
        </p:nvSpPr>
        <p:spPr>
          <a:xfrm>
            <a:off x="3064680" y="5322600"/>
            <a:ext cx="61167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Zhu Shiwu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School of Economics and Management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, 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Tsinghua University </a:t>
            </a:r>
            <a:br>
              <a:rPr sz="1800"/>
            </a:b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258920" y="1341000"/>
            <a:ext cx="662472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7030a0"/>
                </a:solidFill>
                <a:latin typeface="Arial"/>
                <a:ea typeface="宋体"/>
              </a:rPr>
              <a:t>第</a:t>
            </a:r>
            <a:r>
              <a:rPr b="1" i="1" lang="en-US" sz="4400" spc="-1" strike="noStrike">
                <a:solidFill>
                  <a:srgbClr val="7030a0"/>
                </a:solidFill>
                <a:latin typeface="Arial"/>
                <a:ea typeface="宋体"/>
              </a:rPr>
              <a:t>4</a:t>
            </a:r>
            <a:r>
              <a:rPr b="1" i="1" lang="zh-CN" sz="4400" spc="-1" strike="noStrike">
                <a:solidFill>
                  <a:srgbClr val="7030a0"/>
                </a:solidFill>
                <a:latin typeface="Arial"/>
                <a:ea typeface="宋体"/>
              </a:rPr>
              <a:t>章 </a:t>
            </a:r>
            <a:r>
              <a:rPr b="1" i="1" lang="en-US" sz="4400" spc="-1" strike="noStrike">
                <a:solidFill>
                  <a:srgbClr val="7030a0"/>
                </a:solidFill>
                <a:latin typeface="Arial"/>
                <a:ea typeface="宋体"/>
              </a:rPr>
              <a:t>DATA</a:t>
            </a:r>
            <a:r>
              <a:rPr b="1" i="1" lang="zh-CN" sz="4400" spc="-1" strike="noStrike">
                <a:solidFill>
                  <a:srgbClr val="7030a0"/>
                </a:solidFill>
                <a:latin typeface="Arial"/>
                <a:ea typeface="宋体"/>
              </a:rPr>
              <a:t>数据集操作</a:t>
            </a:r>
            <a:endParaRPr b="1" i="1" lang="en-US" sz="4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/>
          </p:nvPr>
        </p:nvSpPr>
        <p:spPr>
          <a:xfrm>
            <a:off x="971280" y="1571400"/>
            <a:ext cx="71247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_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null_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一般和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PU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一起用。由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PU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输出结果，只输出到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LOG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窗口，不会产生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集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32" name="Text Box 2048"/>
          <p:cNvSpPr/>
          <p:nvPr/>
        </p:nvSpPr>
        <p:spPr>
          <a:xfrm>
            <a:off x="4214880" y="3071880"/>
            <a:ext cx="4392720" cy="2433960"/>
          </a:xfrm>
          <a:prstGeom prst="rect">
            <a:avLst/>
          </a:prstGeom>
          <a:noFill/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80   data _null_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81   x=exp(5)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82   y=log(10)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83   put x= y=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84   run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x=148.4131591 y=2.302585093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NOTE: “DATA 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语句”所用时间（总处理时间）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     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实际时间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0.03 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秒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CPU 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时间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0.00 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秒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33" name="TextBox 3"/>
          <p:cNvSpPr/>
          <p:nvPr/>
        </p:nvSpPr>
        <p:spPr>
          <a:xfrm>
            <a:off x="1116000" y="3143160"/>
            <a:ext cx="28083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  <a:ea typeface="黑体"/>
              </a:rPr>
              <a:t> 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黑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黑体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黑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黑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不产生数据集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_null_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  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=exp(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=log(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x= y=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TextBox 3"/>
          <p:cNvSpPr/>
          <p:nvPr/>
        </p:nvSpPr>
        <p:spPr>
          <a:xfrm>
            <a:off x="1357200" y="1000080"/>
            <a:ext cx="43578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wp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OL_OBS NEWP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ard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251.00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30.00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25.75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35.00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ock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wp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odif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ock point=tool_obs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ob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max_obs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_error_=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hen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u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ERROR occurred for TOOL_OBS='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ol_obs /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during DATA step iteration'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_n_ /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TOOL_OBS value may be out of range.'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error_=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to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CE=newp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042" name="TextBox 4"/>
          <p:cNvSpPr/>
          <p:nvPr/>
        </p:nvSpPr>
        <p:spPr>
          <a:xfrm>
            <a:off x="1357200" y="642960"/>
            <a:ext cx="41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4.50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通过观测序号修改数据集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TextBox 3"/>
          <p:cNvSpPr/>
          <p:nvPr/>
        </p:nvSpPr>
        <p:spPr>
          <a:xfrm>
            <a:off x="1214280" y="1428840"/>
            <a:ext cx="4071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4.51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通过索引修改数据集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ock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ddinv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odif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ock key=partno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OCK=instock+nwstock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_iorc_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he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plac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TextBox 4"/>
          <p:cNvSpPr/>
          <p:nvPr/>
        </p:nvSpPr>
        <p:spPr>
          <a:xfrm>
            <a:off x="1143000" y="1071720"/>
            <a:ext cx="53578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4.52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处理重复索引值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创建一个有重复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PARTNO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值的新修改数据集：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winv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TNO $ NWSTOCK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ar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89R 55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4J7 21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4J7 26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J66 2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N7 108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J66 4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D03 55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V1E 27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045" name="TextBox 5"/>
          <p:cNvSpPr/>
          <p:nvPr/>
        </p:nvSpPr>
        <p:spPr>
          <a:xfrm>
            <a:off x="4714920" y="1714680"/>
            <a:ext cx="3786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则下面程序会出错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ock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winv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odif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ock key=partno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OCK=instock+nwstock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可以使用选项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UNIQUE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来避免出错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ock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winv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odif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ock key=partno / unique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OCK=instock+nwstock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_iorc_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he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plac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TextBox 3"/>
          <p:cNvSpPr/>
          <p:nvPr/>
        </p:nvSpPr>
        <p:spPr>
          <a:xfrm>
            <a:off x="1000080" y="1357200"/>
            <a:ext cx="63579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4.53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修改，添加，删除变量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ock stock95 stock97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odif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ock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cdate&gt;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'01jan97'd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he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ut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ock97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mov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ock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l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cdate&lt;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'01jan96'd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he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ut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ock95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mov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ock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l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ce=price*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1.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pla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ock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2060"/>
                </a:solidFill>
                <a:latin typeface="Times New Roman"/>
                <a:ea typeface="宋体"/>
              </a:rPr>
              <a:t>数据集加密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48" name=""/>
          <p:cNvSpPr txBox="1"/>
          <p:nvPr/>
        </p:nvSpPr>
        <p:spPr>
          <a:xfrm>
            <a:off x="1143000" y="1714680"/>
            <a:ext cx="692928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集通常有三种密码：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read ,write, alter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。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对应权限分别如下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read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－读；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write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－写；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alter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－修改结构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应用举例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50" name=""/>
          <p:cNvSpPr txBox="1"/>
          <p:nvPr/>
        </p:nvSpPr>
        <p:spPr>
          <a:xfrm>
            <a:off x="1143000" y="1499760"/>
            <a:ext cx="692928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4.59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创建带密码数据集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demo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create dataset with password*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demo(read=read_ps  write=write_ps  alter=alter_ps)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read access*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content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demo(read=read_ps)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write access*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应用举例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52" name=""/>
          <p:cNvSpPr txBox="1"/>
          <p:nvPr/>
        </p:nvSpPr>
        <p:spPr>
          <a:xfrm>
            <a:off x="1143000" y="1499760"/>
            <a:ext cx="692928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/*</a:t>
            </a:r>
            <a:r>
              <a:rPr b="1" lang="zh-CN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接上文</a:t>
            </a:r>
            <a:r>
              <a:rPr b="1" lang="zh-CN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*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demo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modif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demo(write=write_ps)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alter access*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demo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demo(alter=alter_ps)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"/>
          <p:cNvSpPr txBox="1"/>
          <p:nvPr/>
        </p:nvSpPr>
        <p:spPr>
          <a:xfrm>
            <a:off x="1213920" y="785880"/>
            <a:ext cx="728676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例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4.60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比较带密码数据集操作时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set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与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modify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差别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write access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demo1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modif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dem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alter  access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demo2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demo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新创建的数据集不是原来的数据集时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modify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不可用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e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不需要密码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2060"/>
                </a:solidFill>
                <a:latin typeface="Times New Roman"/>
                <a:ea typeface="宋体"/>
              </a:rPr>
              <a:t>数据导出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55" name=""/>
          <p:cNvSpPr txBox="1"/>
          <p:nvPr/>
        </p:nvSpPr>
        <p:spPr>
          <a:xfrm>
            <a:off x="1143000" y="1714680"/>
            <a:ext cx="692928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菜单导出数据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第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1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章已经介绍了用菜单导出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PC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格式数据文件（以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EXCEL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表为例）为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集，本章不再赘述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 </a:t>
            </a: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过程步导出数据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57" name=""/>
          <p:cNvSpPr txBox="1"/>
          <p:nvPr/>
        </p:nvSpPr>
        <p:spPr>
          <a:xfrm>
            <a:off x="1143000" y="1714680"/>
            <a:ext cx="692928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过程步导出数据与第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3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章过程步导入数据方向相反，句法如下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PROC EXPORT DATA=LIB.MyDataSet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OUTFILE="filename" | TABLE="tablename"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&lt;DBMS=identifier&gt;&lt;REPLACE&gt;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1058" name=""/>
          <p:cNvGraphicFramePr/>
          <p:nvPr/>
        </p:nvGraphicFramePr>
        <p:xfrm>
          <a:off x="1571760" y="4286160"/>
          <a:ext cx="5715000" cy="2167200"/>
        </p:xfrm>
        <a:graphic>
          <a:graphicData uri="http://schemas.openxmlformats.org/drawingml/2006/table">
            <a:tbl>
              <a:tblPr/>
              <a:tblGrid>
                <a:gridCol w="1724040"/>
                <a:gridCol w="3990960"/>
              </a:tblGrid>
              <a:tr h="354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LIB.MyDataSet  </a:t>
                      </a:r>
                      <a:endParaRPr b="0" lang="en-US" sz="1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c2d69b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要导出的</a:t>
                      </a:r>
                      <a:r>
                        <a:rPr b="0" lang="en-US" sz="10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SAS</a:t>
                      </a:r>
                      <a:r>
                        <a:rPr b="0" lang="zh-CN" sz="10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数据集</a:t>
                      </a:r>
                      <a:endParaRPr b="0" lang="en-US" sz="1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c2d69b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OUTFILE =</a:t>
                      </a:r>
                      <a:endParaRPr b="0" lang="en-US" sz="1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规定导出的外部文件的地址及名称</a:t>
                      </a:r>
                      <a:endParaRPr b="0" lang="en-US" sz="1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TABLE = </a:t>
                      </a:r>
                      <a:endParaRPr b="0" lang="en-US" sz="1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规定外部数据文件中的表名</a:t>
                      </a:r>
                      <a:endParaRPr b="0" lang="en-US" sz="1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4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DBMS= </a:t>
                      </a:r>
                      <a:endParaRPr b="0" lang="en-US" sz="1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规定外部数据文件格式的标识名</a:t>
                      </a:r>
                      <a:endParaRPr b="0" lang="en-US" sz="1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0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REPLACE</a:t>
                      </a:r>
                      <a:endParaRPr b="0" lang="en-US" sz="1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c2d69b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规定替换已存在文件</a:t>
                      </a:r>
                      <a:endParaRPr b="0" lang="en-US" sz="1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c2d69b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9" name="矩形 4"/>
          <p:cNvSpPr/>
          <p:nvPr/>
        </p:nvSpPr>
        <p:spPr>
          <a:xfrm>
            <a:off x="1832400" y="38577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选项说明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/>
          </p:nvPr>
        </p:nvSpPr>
        <p:spPr>
          <a:xfrm>
            <a:off x="1219320" y="1752480"/>
            <a:ext cx="7238880" cy="11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_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last_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_last_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是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的一个自动变量，取值为最新创建的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集名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黑体"/>
              </a:rPr>
              <a:t> </a:t>
            </a: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35" name="TextBox 2"/>
          <p:cNvSpPr/>
          <p:nvPr/>
        </p:nvSpPr>
        <p:spPr>
          <a:xfrm>
            <a:off x="1643040" y="3143160"/>
            <a:ext cx="3714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黑体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黑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黑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查看最新创建的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SA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数据集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_last_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程序模板：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61" name="TextBox 3"/>
          <p:cNvSpPr/>
          <p:nvPr/>
        </p:nvSpPr>
        <p:spPr>
          <a:xfrm>
            <a:off x="1071720" y="1428840"/>
            <a:ext cx="6858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4.62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导出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EXCEL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数据表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pr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expor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sashelp.class 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*</a:t>
            </a: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要导出的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SAS</a:t>
            </a: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数据集</a:t>
            </a: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*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utfi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"d:\class.xls"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*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规定导出外部文件的地址及名称，可根据需要更改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*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bm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excel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pla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*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替换原有文档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*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eet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"excel"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*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输出工作表名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*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file=yes;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*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替换原来表格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*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4.63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导出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TXT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文本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pr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expor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sashelp.class 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*</a:t>
            </a: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要导出的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SAS</a:t>
            </a: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数据集</a:t>
            </a: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*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utfi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"d:\class.txt"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*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规定导出外部文件的地址及名称，可根据需要更改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*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bm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tab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pla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*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替换原有文档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*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tnames=yes;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*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加入变量名称，不加选择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no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99680" y="642960"/>
            <a:ext cx="69296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PUT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FILE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组合输出外部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TXT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文本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63" name=""/>
          <p:cNvSpPr txBox="1"/>
          <p:nvPr/>
        </p:nvSpPr>
        <p:spPr>
          <a:xfrm>
            <a:off x="1143000" y="1714680"/>
            <a:ext cx="6929280" cy="78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要求：用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PUT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和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FILE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写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程序，将数据集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resdat.class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直接输出为外部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TXT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文本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64" name="TextBox 3"/>
          <p:cNvSpPr/>
          <p:nvPr/>
        </p:nvSpPr>
        <p:spPr>
          <a:xfrm>
            <a:off x="1571760" y="2643120"/>
            <a:ext cx="450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sdat.class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i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d:\class.txt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me $ sex  $ age height weight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065" name="TextBox 4"/>
          <p:cNvSpPr/>
          <p:nvPr/>
        </p:nvSpPr>
        <p:spPr>
          <a:xfrm>
            <a:off x="1643040" y="421488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显示结果前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2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行为：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1066" name=""/>
          <p:cNvGraphicFramePr/>
          <p:nvPr/>
        </p:nvGraphicFramePr>
        <p:xfrm>
          <a:off x="1643040" y="4786200"/>
          <a:ext cx="5929200" cy="785880"/>
        </p:xfrm>
        <a:graphic>
          <a:graphicData uri="http://schemas.openxmlformats.org/drawingml/2006/table">
            <a:tbl>
              <a:tblPr/>
              <a:tblGrid>
                <a:gridCol w="5929200"/>
              </a:tblGrid>
              <a:tr h="785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fred    M     14.00     69.00    112.50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Alice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F     13.00     56.50     84.00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2d050"/>
                      </a:solidFill>
                    </a:lnT>
                    <a:lnB w="13680">
                      <a:solidFill>
                        <a:srgbClr val="92d05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"/>
          <p:cNvSpPr txBox="1"/>
          <p:nvPr/>
        </p:nvSpPr>
        <p:spPr>
          <a:xfrm>
            <a:off x="1071720" y="1000080"/>
            <a:ext cx="692928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变量过多时，在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PUT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中写出所有输出变量会很麻烦，下面使用自动变量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_All_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，看看输出的结果是不是符合要求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68" name="Rectangle 1"/>
          <p:cNvSpPr/>
          <p:nvPr/>
        </p:nvSpPr>
        <p:spPr>
          <a:xfrm>
            <a:off x="1071720" y="2286360"/>
            <a:ext cx="27144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不列出变量名方法一：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069" name="TextBox 4"/>
          <p:cNvSpPr/>
          <p:nvPr/>
        </p:nvSpPr>
        <p:spPr>
          <a:xfrm>
            <a:off x="1500120" y="2786040"/>
            <a:ext cx="3500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sdat.class;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i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d:\class1.txt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_all_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070" name="TextBox 6"/>
          <p:cNvSpPr/>
          <p:nvPr/>
        </p:nvSpPr>
        <p:spPr>
          <a:xfrm>
            <a:off x="1428840" y="421488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显示结果前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2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行为：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1071" name=""/>
          <p:cNvGraphicFramePr/>
          <p:nvPr/>
        </p:nvGraphicFramePr>
        <p:xfrm>
          <a:off x="1500120" y="4714920"/>
          <a:ext cx="5786640" cy="614160"/>
        </p:xfrm>
        <a:graphic>
          <a:graphicData uri="http://schemas.openxmlformats.org/drawingml/2006/table">
            <a:tbl>
              <a:tblPr/>
              <a:tblGrid>
                <a:gridCol w="5786640"/>
              </a:tblGrid>
              <a:tr h="614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=Alfred Sex=M Age=14 Height=69 Weight=112.5 _ERROR_=0 _N_=1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=Alice Sex=F Age=13 Height=56.5 Weight=84 _ERROR_=0 _N_=2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2d050"/>
                      </a:solidFill>
                    </a:lnT>
                    <a:lnB w="13680">
                      <a:solidFill>
                        <a:srgbClr val="92d05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Rectangle 1"/>
          <p:cNvSpPr/>
          <p:nvPr/>
        </p:nvSpPr>
        <p:spPr>
          <a:xfrm>
            <a:off x="1143000" y="1498680"/>
            <a:ext cx="678672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不列出变量名方法二：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既不需要在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put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语句后面一一输入数据集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class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中的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6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个变量名，输出结果又能满足要求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073" name="TextBox 4"/>
          <p:cNvSpPr/>
          <p:nvPr/>
        </p:nvSpPr>
        <p:spPr>
          <a:xfrm>
            <a:off x="1428840" y="2428920"/>
            <a:ext cx="4857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sdat.class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i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d:\class3.txt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_all_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(</a:t>
            </a:r>
            <a:r>
              <a:rPr b="0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$10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$1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10.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074" name="TextBox 10"/>
          <p:cNvSpPr/>
          <p:nvPr/>
        </p:nvSpPr>
        <p:spPr>
          <a:xfrm>
            <a:off x="1428840" y="392904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显示结果前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2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行为：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1075" name=""/>
          <p:cNvGraphicFramePr/>
          <p:nvPr/>
        </p:nvGraphicFramePr>
        <p:xfrm>
          <a:off x="1571760" y="4357800"/>
          <a:ext cx="5929200" cy="785880"/>
        </p:xfrm>
        <a:graphic>
          <a:graphicData uri="http://schemas.openxmlformats.org/drawingml/2006/table">
            <a:tbl>
              <a:tblPr/>
              <a:tblGrid>
                <a:gridCol w="5929200"/>
              </a:tblGrid>
              <a:tr h="785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fred    M     14.00     69.00    112.50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Alice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F     13.00     56.50     84.00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2d050"/>
                      </a:solidFill>
                    </a:lnT>
                    <a:lnB w="13680">
                      <a:solidFill>
                        <a:srgbClr val="92d05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6" name="TextBox 12"/>
          <p:cNvSpPr/>
          <p:nvPr/>
        </p:nvSpPr>
        <p:spPr>
          <a:xfrm>
            <a:off x="4357800" y="2428920"/>
            <a:ext cx="357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有意思的是在这种情况下，虽然也是用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_all_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，但是由于规定了格式，即使规定为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put (_all_)($10. $1. 5*10.2);_ERROR_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和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_N_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两项都不会显示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TextBox 3"/>
          <p:cNvSpPr/>
          <p:nvPr/>
        </p:nvSpPr>
        <p:spPr>
          <a:xfrm>
            <a:off x="1500120" y="714240"/>
            <a:ext cx="5857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输出外部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TXT</a:t>
            </a:r>
            <a:r>
              <a:rPr b="1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文本，第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1</a:t>
            </a:r>
            <a:r>
              <a:rPr b="1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行为变量名：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sdat.class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mat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 $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8.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x  $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1.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 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3.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ight 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4.1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ight 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5.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i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D:\class4.txt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_n_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he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u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name'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@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1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sex'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@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17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age'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@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2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height'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@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3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weight'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me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8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@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1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x @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17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ge @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2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eight @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3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eight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078" name="矩形 4"/>
          <p:cNvSpPr/>
          <p:nvPr/>
        </p:nvSpPr>
        <p:spPr>
          <a:xfrm>
            <a:off x="1893960" y="464328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显示结果前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3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行为：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1079" name=""/>
          <p:cNvGraphicFramePr/>
          <p:nvPr/>
        </p:nvGraphicFramePr>
        <p:xfrm>
          <a:off x="1571760" y="5072040"/>
          <a:ext cx="5572080" cy="731880"/>
        </p:xfrm>
        <a:graphic>
          <a:graphicData uri="http://schemas.openxmlformats.org/drawingml/2006/table">
            <a:tbl>
              <a:tblPr/>
              <a:tblGrid>
                <a:gridCol w="5572080"/>
              </a:tblGrid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       sex  age  height  weight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fred      M    14   69.0    112.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Alice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F     13    56.5     84.0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2d050"/>
                      </a:solidFill>
                    </a:lnT>
                    <a:lnB w="13680">
                      <a:solidFill>
                        <a:srgbClr val="92d05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0" name="矩形 6"/>
          <p:cNvSpPr/>
          <p:nvPr/>
        </p:nvSpPr>
        <p:spPr>
          <a:xfrm>
            <a:off x="650160" y="1170360"/>
            <a:ext cx="454680" cy="32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此段程序模板非常有用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WordArt 2"/>
          <p:cNvSpPr txBox="1"/>
          <p:nvPr/>
        </p:nvSpPr>
        <p:spPr>
          <a:xfrm>
            <a:off x="1214280" y="342900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4ab1e4"/>
                </a:solidFill>
                <a:effectLst>
                  <a:outerShdw dist="53966" dir="2700000" blurRad="0" rotWithShape="0">
                    <a:srgbClr val="080808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4ab1e4"/>
              </a:solidFill>
              <a:effectLst>
                <a:outerShdw dist="53966" dir="2700000" blurRad="0" rotWithShape="0">
                  <a:srgbClr val="080808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42960" y="714240"/>
            <a:ext cx="72388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一个</a:t>
            </a:r>
            <a:r>
              <a:rPr b="1" lang="en-US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DATA</a:t>
            </a: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下多个数据集名 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1285920" y="1928520"/>
            <a:ext cx="685800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4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.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8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观测子集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的形成。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FemaleSt  MaleSt 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lass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ex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F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ut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FemaleSt ; 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ut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MaleSt 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38" name="Rectangle 1035"/>
          <p:cNvSpPr/>
          <p:nvPr/>
        </p:nvSpPr>
        <p:spPr>
          <a:xfrm>
            <a:off x="1000080" y="45007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例中，根据条件产生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观测子集，名字分别为女同学信息数据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maleS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和男同学信息数据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leS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Box 2"/>
          <p:cNvSpPr/>
          <p:nvPr/>
        </p:nvSpPr>
        <p:spPr>
          <a:xfrm>
            <a:off x="1571760" y="1785960"/>
            <a:ext cx="4643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4.9 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变量子集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的形成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eight(keep=name height) weight (keep=name weight);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sDat.class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40" name="Rectangle 1026"/>
          <p:cNvSpPr/>
          <p:nvPr/>
        </p:nvSpPr>
        <p:spPr>
          <a:xfrm>
            <a:off x="642960" y="857160"/>
            <a:ext cx="7238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一个</a:t>
            </a:r>
            <a:r>
              <a:rPr b="1" lang="en-US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ATA</a:t>
            </a: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语句下多个数据集名 </a:t>
            </a:r>
            <a:endParaRPr b="0" lang="en-US" sz="3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41" name="Rectangle 1035"/>
          <p:cNvSpPr/>
          <p:nvPr/>
        </p:nvSpPr>
        <p:spPr>
          <a:xfrm>
            <a:off x="1214280" y="4286160"/>
            <a:ext cx="6858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</a:rPr>
              <a:t>例中，根据条件产生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</a:rPr>
              <a:t>个变量子集，名子分别为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height, weight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</a:rPr>
              <a:t>，每个数据集由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KEEP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</a:rPr>
              <a:t>语句保留两个变量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785520" y="857160"/>
            <a:ext cx="73911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2060"/>
                </a:solidFill>
                <a:latin typeface="Times New Roman"/>
                <a:ea typeface="宋体"/>
              </a:rPr>
              <a:t>数据行引导语句</a:t>
            </a:r>
            <a:r>
              <a:rPr b="1" lang="en-US" sz="3000" spc="-1" strike="noStrike">
                <a:solidFill>
                  <a:srgbClr val="002060"/>
                </a:solidFill>
                <a:latin typeface="Times New Roman"/>
                <a:ea typeface="宋体"/>
              </a:rPr>
              <a:t>CARDS</a:t>
            </a:r>
            <a:r>
              <a:rPr b="1" lang="zh-CN" sz="3000" spc="-1" strike="noStrike">
                <a:solidFill>
                  <a:srgbClr val="002060"/>
                </a:solidFill>
                <a:latin typeface="Times New Roman"/>
                <a:ea typeface="宋体"/>
              </a:rPr>
              <a:t>与</a:t>
            </a:r>
            <a:r>
              <a:rPr b="1" lang="en-US" sz="3000" spc="-1" strike="noStrike">
                <a:solidFill>
                  <a:srgbClr val="002060"/>
                </a:solidFill>
                <a:latin typeface="Times New Roman"/>
                <a:ea typeface="宋体"/>
              </a:rPr>
              <a:t>CARDS4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1447920" y="1904760"/>
            <a:ext cx="6248160" cy="18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ARD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或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ATALINE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告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下面跟着的是数据行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行之前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ARD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或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ATALINE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语句格式：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AR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ATALIN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[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行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]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4" name="TextBox 3"/>
          <p:cNvSpPr/>
          <p:nvPr/>
        </p:nvSpPr>
        <p:spPr>
          <a:xfrm>
            <a:off x="1785960" y="4071960"/>
            <a:ext cx="5929200" cy="15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4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.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10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数据行之前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RD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语句。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in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var1 var2 var3 $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car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 20 First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/>
          </p:nvPr>
        </p:nvSpPr>
        <p:spPr>
          <a:xfrm>
            <a:off x="1142640" y="1523880"/>
            <a:ext cx="75438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行中含有分号时，必须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ARDS 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或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ATALINES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语句格式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ards 4;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或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ATALINES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[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]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；；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6" name="TextBox 2"/>
          <p:cNvSpPr/>
          <p:nvPr/>
        </p:nvSpPr>
        <p:spPr>
          <a:xfrm>
            <a:off x="1643040" y="3571920"/>
            <a:ext cx="5429160" cy="20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4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.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11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数据行中含有分号时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RDS4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语句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in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var1$ var2$ var3 $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cards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  ;   B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   ;   )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;;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47" name="矩形 3"/>
          <p:cNvSpPr/>
          <p:nvPr/>
        </p:nvSpPr>
        <p:spPr>
          <a:xfrm>
            <a:off x="5429160" y="4357800"/>
            <a:ext cx="3000600" cy="1285920"/>
          </a:xfrm>
          <a:prstGeom prst="rect">
            <a:avLst/>
          </a:prstGeom>
          <a:solidFill>
            <a:srgbClr val="4ab1e4"/>
          </a:solidFill>
          <a:ln w="25560">
            <a:solidFill>
              <a:srgbClr val="348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s    var1    var2    var3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      A          ;       B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       (           ;       )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48" name="TextBox 4"/>
          <p:cNvSpPr/>
          <p:nvPr/>
        </p:nvSpPr>
        <p:spPr>
          <a:xfrm>
            <a:off x="5572080" y="392904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Times New Roman"/>
              </a:rPr>
              <a:t>结果如下：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856800" y="999720"/>
            <a:ext cx="7239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2060"/>
                </a:solidFill>
                <a:latin typeface="Times New Roman"/>
                <a:ea typeface="宋体"/>
              </a:rPr>
              <a:t>输出语句</a:t>
            </a:r>
            <a:r>
              <a:rPr b="1" lang="en-US" sz="3000" spc="-1" strike="noStrike">
                <a:solidFill>
                  <a:srgbClr val="002060"/>
                </a:solidFill>
                <a:latin typeface="Times New Roman"/>
                <a:ea typeface="宋体"/>
              </a:rPr>
              <a:t>PUT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1571760" y="2428560"/>
            <a:ext cx="59529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PU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语句输出信息到：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a59a5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O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窗口；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a59a5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UTPU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窗口；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a59a5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IL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规定的外部文件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/>
          </p:nvPr>
        </p:nvSpPr>
        <p:spPr>
          <a:xfrm>
            <a:off x="1499760" y="1571400"/>
            <a:ext cx="6769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简单方式：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PUT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 specification(s)&gt; &lt;@ | @@&gt;;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PUT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 pointer-control&gt;&lt;specification&gt;&lt;...specification &lt;@ | @@&gt;&gt;;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列方式：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PUT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variable&gt; &lt;$&gt; start-column &lt;-end-column&gt;&lt;.decimalplaces&gt; &lt;@ | @@&gt;;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格式化方式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: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PUT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variable&gt; &lt;$&gt; start-column &lt;-end-column&gt;&lt;.decimalplaces&gt; &lt;@ | @@&gt;;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PUT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&lt;pointer-control&gt; variable format.&lt;@ | @@&gt;;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PUT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pointer-control&gt; (variable-list) (format-list) &lt;@ | @@&gt;;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列表方式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: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PUT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pointer-control &gt; variable &lt;$&gt;&lt;@ | @@&gt;;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PUT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&lt;pointer-control &gt; &lt;n*&gt; 'character-string' &lt;@ | @@&gt;;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PUT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pointer-control&gt; variable &lt;: | ~&gt; format. &lt;@ | @@&gt;;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命名方式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: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PUT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&lt;pointer-control&gt; variable= &lt;format.&gt;&lt;@ | @@&gt;;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PUT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 variable= &lt;$&gt; start-column &lt;-end-column&gt;&lt;</a:t>
            </a:r>
            <a:r>
              <a:rPr b="1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.d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ecimalplaces&gt;&lt;@ | @@&gt;;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2" name="Text Box 1"/>
          <p:cNvSpPr/>
          <p:nvPr/>
        </p:nvSpPr>
        <p:spPr>
          <a:xfrm>
            <a:off x="1000080" y="1071720"/>
            <a:ext cx="244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语句格式</a:t>
            </a:r>
            <a:r>
              <a:rPr b="1" lang="zh-TW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71320" y="50004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选项说明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854" name=""/>
          <p:cNvGraphicFramePr/>
          <p:nvPr/>
        </p:nvGraphicFramePr>
        <p:xfrm>
          <a:off x="1714680" y="1428840"/>
          <a:ext cx="6286320" cy="4998960"/>
        </p:xfrm>
        <a:graphic>
          <a:graphicData uri="http://schemas.openxmlformats.org/drawingml/2006/table">
            <a:tbl>
              <a:tblPr/>
              <a:tblGrid>
                <a:gridCol w="2033280"/>
                <a:gridCol w="4253040"/>
              </a:tblGrid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黑体"/>
                        </a:rPr>
                        <a:t>specification(s)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变量及其格式的详细说明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黑体"/>
                        </a:rPr>
                        <a:t>variable-list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列出要读入数据值的变量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@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执行下一个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INPUT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语句时指针移到下一记录行，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要求一条记录必须对应一个数据行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@@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执行下一个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INPUT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语句时指针保持在当前记录行，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不要求一条记录对应一个数据行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$ 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定义字符型变量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黑体"/>
                        </a:rPr>
                        <a:t>start-column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规定变量值在记录行中的起始列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end-column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规定变量值在记录行中的终止列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decimalplaces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小数点位置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黑体"/>
                        </a:rPr>
                        <a:t>pointer-control 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移动输入指针到指定的行或列上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黑体"/>
                        </a:rPr>
                        <a:t>informat 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列出变量的输入格式；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黑体"/>
                        </a:rPr>
                        <a:t>informat-list -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列出变量列表对应的输入格式列表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decimals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规定小数部分的位数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5" name="TextBox 3"/>
          <p:cNvSpPr/>
          <p:nvPr/>
        </p:nvSpPr>
        <p:spPr>
          <a:xfrm>
            <a:off x="3214800" y="1071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80808"/>
                </a:solidFill>
                <a:latin typeface="Times New Roman"/>
              </a:rPr>
              <a:t>表</a:t>
            </a:r>
            <a:r>
              <a:rPr b="1" lang="en-US" sz="1400" spc="-1" strike="noStrike">
                <a:solidFill>
                  <a:srgbClr val="080808"/>
                </a:solidFill>
                <a:latin typeface="Times New Roman"/>
              </a:rPr>
              <a:t>4.1 </a:t>
            </a:r>
            <a:r>
              <a:rPr b="1" lang="zh-CN" sz="1400" spc="-1" strike="noStrike">
                <a:solidFill>
                  <a:srgbClr val="080808"/>
                </a:solidFill>
                <a:latin typeface="Times New Roman"/>
              </a:rPr>
              <a:t>变量及其格式说明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/>
          </p:nvPr>
        </p:nvSpPr>
        <p:spPr>
          <a:xfrm>
            <a:off x="1294920" y="1371240"/>
            <a:ext cx="723924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4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.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12</a:t>
            </a:r>
            <a:r>
              <a:rPr b="0" lang="zh-CN" sz="1800" spc="-1" strike="noStrike">
                <a:solidFill>
                  <a:srgbClr val="080808"/>
                </a:solidFill>
                <a:latin typeface="宋体"/>
                <a:ea typeface="宋体"/>
              </a:rPr>
              <a:t>用</a:t>
            </a:r>
            <a:r>
              <a:rPr b="0" lang="en-US" sz="1800" spc="-1" strike="noStrike">
                <a:solidFill>
                  <a:srgbClr val="080808"/>
                </a:solidFill>
                <a:latin typeface="宋体"/>
                <a:ea typeface="宋体"/>
              </a:rPr>
              <a:t>PUT</a:t>
            </a:r>
            <a:r>
              <a:rPr b="0" lang="zh-CN" sz="1800" spc="-1" strike="noStrike">
                <a:solidFill>
                  <a:srgbClr val="080808"/>
                </a:solidFill>
                <a:latin typeface="宋体"/>
                <a:ea typeface="宋体"/>
              </a:rPr>
              <a:t>语句产生的输出结果及其比较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。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_null_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3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*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_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 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在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log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窗口输出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132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个下划线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"_"*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*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1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  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在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log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窗口输出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100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个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1*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_null_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x  y  z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_infile_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;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输出最新的数据行到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SAS Log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窗口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 -5 9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 3 7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 2 8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7" name="Text Box 6"/>
          <p:cNvSpPr/>
          <p:nvPr/>
        </p:nvSpPr>
        <p:spPr>
          <a:xfrm>
            <a:off x="3786120" y="4429080"/>
            <a:ext cx="327672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窗口输出结果：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858" name=""/>
          <p:cNvGraphicFramePr/>
          <p:nvPr/>
        </p:nvGraphicFramePr>
        <p:xfrm>
          <a:off x="3929040" y="4929120"/>
          <a:ext cx="1928880" cy="1096920"/>
        </p:xfrm>
        <a:graphic>
          <a:graphicData uri="http://schemas.openxmlformats.org/drawingml/2006/table">
            <a:tbl>
              <a:tblPr/>
              <a:tblGrid>
                <a:gridCol w="1928880"/>
              </a:tblGrid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Times New Roman"/>
                          <a:ea typeface="楷体_GB2312"/>
                        </a:rPr>
                        <a:t>1   -5 9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Times New Roman"/>
                          <a:ea typeface="楷体_GB2312"/>
                        </a:rPr>
                        <a:t>0    3  7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Times New Roman"/>
                          <a:ea typeface="楷体_GB2312"/>
                        </a:rPr>
                        <a:t>10  2 8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2d050"/>
                      </a:solidFill>
                    </a:lnT>
                    <a:lnB w="13680">
                      <a:solidFill>
                        <a:srgbClr val="92d05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 Narrow"/>
                <a:ea typeface="宋体"/>
              </a:rPr>
              <a:t>本章内容提要</a:t>
            </a:r>
            <a:endParaRPr b="1" i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785880" y="1571760"/>
            <a:ext cx="750096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创建数据集语句</a:t>
            </a:r>
            <a:r>
              <a:rPr b="0" lang="en-US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DATA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行引导语句</a:t>
            </a:r>
            <a:r>
              <a:rPr b="0" lang="en-US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CARDS</a:t>
            </a:r>
            <a:r>
              <a:rPr b="0" lang="zh-CN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与</a:t>
            </a:r>
            <a:r>
              <a:rPr b="0" lang="en-US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CARDS4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输出语句</a:t>
            </a:r>
            <a:r>
              <a:rPr b="0" lang="da-DK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PUT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读入已存在</a:t>
            </a:r>
            <a:r>
              <a:rPr b="0" lang="en-US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集语句</a:t>
            </a:r>
            <a:r>
              <a:rPr b="0" lang="en-US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SET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横向合并数据语句</a:t>
            </a:r>
            <a:r>
              <a:rPr b="0" lang="en-US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MERGE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BY</a:t>
            </a:r>
            <a:r>
              <a:rPr b="0" lang="zh-CN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删除变量语句</a:t>
            </a:r>
            <a:r>
              <a:rPr b="0" lang="en-US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DROP</a:t>
            </a:r>
            <a:r>
              <a:rPr b="0" lang="zh-CN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与保留变量语句</a:t>
            </a:r>
            <a:r>
              <a:rPr b="0" lang="en-US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KEEP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更改变量名语句</a:t>
            </a:r>
            <a:r>
              <a:rPr b="0" lang="en-US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RENAME</a:t>
            </a:r>
            <a:r>
              <a:rPr b="0" lang="zh-CN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与保留数值语句</a:t>
            </a:r>
            <a:r>
              <a:rPr b="0" lang="en-US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RETAIN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输出外部文件语句</a:t>
            </a:r>
            <a:r>
              <a:rPr b="0" lang="en-US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FILE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定义外部数据文件语句</a:t>
            </a:r>
            <a:r>
              <a:rPr b="0" lang="en-US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INFILE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更新数据语句</a:t>
            </a:r>
            <a:r>
              <a:rPr b="0" lang="en-US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UPDATE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修改数据语句</a:t>
            </a:r>
            <a:r>
              <a:rPr b="0" lang="en-US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MODIFY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导出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TextBox 5"/>
          <p:cNvSpPr/>
          <p:nvPr/>
        </p:nvSpPr>
        <p:spPr>
          <a:xfrm>
            <a:off x="1785960" y="1571760"/>
            <a:ext cx="3000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_null_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x  y  z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_all_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ar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-5 9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3 7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2 8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860" name=""/>
          <p:cNvGraphicFramePr/>
          <p:nvPr/>
        </p:nvGraphicFramePr>
        <p:xfrm>
          <a:off x="1785960" y="4357800"/>
          <a:ext cx="5857920" cy="1360440"/>
        </p:xfrm>
        <a:graphic>
          <a:graphicData uri="http://schemas.openxmlformats.org/drawingml/2006/table">
            <a:tbl>
              <a:tblPr/>
              <a:tblGrid>
                <a:gridCol w="5857920"/>
              </a:tblGrid>
              <a:tr h="1360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x=1 y=-5 z=9 _ERROR_=0 _N_=1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x=0 y=3 z=7 _ERROR_=0 _N_=2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x=10 y=2 z=8 _ERROR_=0 _N_=3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2d050"/>
                      </a:solidFill>
                    </a:lnT>
                    <a:lnB w="13680">
                      <a:solidFill>
                        <a:srgbClr val="92d05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1" name="矩形 7"/>
          <p:cNvSpPr/>
          <p:nvPr/>
        </p:nvSpPr>
        <p:spPr>
          <a:xfrm>
            <a:off x="2162160" y="3929040"/>
            <a:ext cx="16650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窗口输出结果：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1028"/>
          <p:cNvSpPr/>
          <p:nvPr/>
        </p:nvSpPr>
        <p:spPr>
          <a:xfrm>
            <a:off x="1219320" y="1523880"/>
            <a:ext cx="6781680" cy="35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4.13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</a:rPr>
              <a:t>其它控制输出格式举例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Pro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sor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sashelp.class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u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class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x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_null_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lass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x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fi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name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@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x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last.sex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//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</a:rPr>
              <a:t>'This is the last of 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x $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_page_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476360" y="2133720"/>
            <a:ext cx="1584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第一页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64" name="Text Box 7"/>
          <p:cNvSpPr/>
          <p:nvPr/>
        </p:nvSpPr>
        <p:spPr>
          <a:xfrm>
            <a:off x="4500720" y="2060640"/>
            <a:ext cx="1584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第二页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65" name="Text Box 8"/>
          <p:cNvSpPr/>
          <p:nvPr/>
        </p:nvSpPr>
        <p:spPr>
          <a:xfrm>
            <a:off x="1403280" y="1557360"/>
            <a:ext cx="2881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</a:rPr>
              <a:t>输出窗口显示：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66" name="矩形 6"/>
          <p:cNvSpPr/>
          <p:nvPr/>
        </p:nvSpPr>
        <p:spPr>
          <a:xfrm>
            <a:off x="1285920" y="2428920"/>
            <a:ext cx="2786040" cy="3643200"/>
          </a:xfrm>
          <a:prstGeom prst="rect">
            <a:avLst/>
          </a:prstGeom>
          <a:solidFill>
            <a:srgbClr val="4ab1e4"/>
          </a:solidFill>
          <a:ln w="25560">
            <a:solidFill>
              <a:srgbClr val="348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Alice         F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Barbara    F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Carol        F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Jane         F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Janet        F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Joyce       F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Judy         F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Louise      F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Mary         F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This is the last of F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67" name="矩形 7"/>
          <p:cNvSpPr/>
          <p:nvPr/>
        </p:nvSpPr>
        <p:spPr>
          <a:xfrm>
            <a:off x="4429080" y="2428920"/>
            <a:ext cx="2928960" cy="3571920"/>
          </a:xfrm>
          <a:prstGeom prst="rect">
            <a:avLst/>
          </a:prstGeom>
          <a:solidFill>
            <a:srgbClr val="4ab1e4"/>
          </a:solidFill>
          <a:ln w="25560">
            <a:solidFill>
              <a:srgbClr val="348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Alfred       M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Henry       M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James      M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Jeffrey      M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John         M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Philip        M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Robert      M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Ronald      M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Thomas    M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William      M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This is the last of M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Text Box 4"/>
          <p:cNvSpPr/>
          <p:nvPr/>
        </p:nvSpPr>
        <p:spPr>
          <a:xfrm>
            <a:off x="1403280" y="1844640"/>
            <a:ext cx="6121440" cy="12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</a:rPr>
              <a:t>'Example of overprint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overpri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</a:rPr>
              <a:t>'-------------------------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69" name="Text Box 5"/>
          <p:cNvSpPr/>
          <p:nvPr/>
        </p:nvSpPr>
        <p:spPr>
          <a:xfrm>
            <a:off x="1403280" y="3429000"/>
            <a:ext cx="410544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窗口输出结果：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70" name="矩形 3"/>
          <p:cNvSpPr/>
          <p:nvPr/>
        </p:nvSpPr>
        <p:spPr>
          <a:xfrm>
            <a:off x="1643040" y="4000680"/>
            <a:ext cx="4286160" cy="571320"/>
          </a:xfrm>
          <a:prstGeom prst="rect">
            <a:avLst/>
          </a:prstGeom>
          <a:noFill/>
          <a:ln w="25560">
            <a:solidFill>
              <a:srgbClr val="348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Example of overprint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-------------------------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856800" y="64260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列方式输出 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356840" y="4857480"/>
            <a:ext cx="678204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LOG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窗口输出结果：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100.00   300.000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3" name="TextBox 3"/>
          <p:cNvSpPr/>
          <p:nvPr/>
        </p:nvSpPr>
        <p:spPr>
          <a:xfrm>
            <a:off x="1714680" y="2857680"/>
            <a:ext cx="4714560" cy="18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14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控制输出的列位置。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</a:rPr>
              <a:t>1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</a:rPr>
              <a:t>3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</a:rPr>
              <a:t>1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</a:rPr>
              <a:t>.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</a:rPr>
              <a:t>2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</a:rPr>
              <a:t>2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</a:rPr>
              <a:t>.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74" name="Rectangle 1027"/>
          <p:cNvSpPr/>
          <p:nvPr/>
        </p:nvSpPr>
        <p:spPr>
          <a:xfrm>
            <a:off x="1285920" y="1714680"/>
            <a:ext cx="678168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：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黑体"/>
              </a:rPr>
              <a:t>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黑体"/>
              </a:rPr>
              <a:t>PUT &lt;variable&gt; &lt;$&gt; start-column &lt;-end-column&gt;&lt;</a:t>
            </a: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黑体"/>
              </a:rPr>
              <a:t>.d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黑体"/>
              </a:rPr>
              <a:t>ecimalplaces&gt; &lt;@ | @@&gt;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856800" y="785520"/>
            <a:ext cx="7239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列表方式输出 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600200" y="198072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：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PUT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pointer-control &gt; variable &lt;$&gt;&lt;@ | @@&gt;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PUT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&lt;pointer-control &gt; &lt;n*&gt; 'character-string' &lt;@ | @@&gt;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PUT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pointer-control&gt; variable &lt;: | ~&gt; format. &lt;@ | @@&gt;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修饰符说明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n*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规定后面格式重复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n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次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: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规定后面格式输出变量值时去掉前后的空格。</a:t>
            </a:r>
            <a:r>
              <a:rPr b="0" lang="zh-CN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/>
          </p:nvPr>
        </p:nvSpPr>
        <p:spPr>
          <a:xfrm>
            <a:off x="1371600" y="4286160"/>
            <a:ext cx="7238880" cy="11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OG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窗口输出结果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34,569.24 18,969.06  3,592.19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8" name="TextBox 2"/>
          <p:cNvSpPr/>
          <p:nvPr/>
        </p:nvSpPr>
        <p:spPr>
          <a:xfrm>
            <a:off x="1785960" y="1571760"/>
            <a:ext cx="5286240" cy="20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4.15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应用举例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1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</a:rPr>
              <a:t>134569.23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2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</a:rPr>
              <a:t>18969.0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3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</a:rPr>
              <a:t>3592.19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_all_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(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1800" spc="-1" strike="noStrike">
                <a:solidFill>
                  <a:srgbClr val="008080"/>
                </a:solidFill>
                <a:latin typeface="Times New Roman"/>
              </a:rPr>
              <a:t>comma10.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928440" y="85716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格式化输出 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693432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：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PUT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variable&gt; &lt;$&gt; start-column &lt;-end-column&gt;&lt;.decimalplaces&gt; &lt;@ | @@&gt;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PUT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&lt;pointer-control&gt; variable format.&lt;@ | @@&gt;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PUT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ointer-control&gt; (variable-list) (format-list) &lt;@ | @@&gt;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/>
          </p:nvPr>
        </p:nvSpPr>
        <p:spPr>
          <a:xfrm>
            <a:off x="1714320" y="1785600"/>
            <a:ext cx="5616360" cy="29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4.16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应用举例。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name &amp; </a:t>
            </a:r>
            <a:r>
              <a:rPr b="0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$10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bldg $ room;   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变量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name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有空格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name @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2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(bldg room) (</a:t>
            </a:r>
            <a:r>
              <a:rPr b="0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$1.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"-"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3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;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从第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20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列开始输出第二、三个变量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GU BEIJING  J  125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OBERT US  C  233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Text Box 5"/>
          <p:cNvSpPr/>
          <p:nvPr/>
        </p:nvSpPr>
        <p:spPr>
          <a:xfrm>
            <a:off x="1763640" y="1484280"/>
            <a:ext cx="6048360" cy="39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窗口输出结果：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53   data a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54   input name &amp; $10. bldg $ room;      /*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变量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name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有空格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*/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55   put name @20 (bldg room) ($1."-", 3.); /*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从第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20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列开始输出第二、三个变量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*/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56   cards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GU BEIJING         J-125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ROBERT US          C-233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ff"/>
                </a:solidFill>
                <a:latin typeface="Times New Roman"/>
              </a:rPr>
              <a:t>NOTE: </a:t>
            </a:r>
            <a:r>
              <a:rPr b="0" lang="zh-CN" sz="1600" spc="-1" strike="noStrike">
                <a:solidFill>
                  <a:srgbClr val="0000ff"/>
                </a:solidFill>
                <a:latin typeface="Times New Roman"/>
              </a:rPr>
              <a:t>数据集 </a:t>
            </a:r>
            <a:r>
              <a:rPr b="0" lang="zh-CN" sz="1600" spc="-1" strike="noStrike">
                <a:solidFill>
                  <a:srgbClr val="0000ff"/>
                </a:solidFill>
                <a:latin typeface="Times New Roman"/>
              </a:rPr>
              <a:t>WORK.A </a:t>
            </a:r>
            <a:r>
              <a:rPr b="0" lang="zh-CN" sz="1600" spc="-1" strike="noStrike">
                <a:solidFill>
                  <a:srgbClr val="0000ff"/>
                </a:solidFill>
                <a:latin typeface="Times New Roman"/>
              </a:rPr>
              <a:t>有 </a:t>
            </a:r>
            <a:r>
              <a:rPr b="0" lang="zh-CN" sz="1600" spc="-1" strike="noStrike">
                <a:solidFill>
                  <a:srgbClr val="0000ff"/>
                </a:solidFill>
                <a:latin typeface="Times New Roman"/>
              </a:rPr>
              <a:t>2 </a:t>
            </a:r>
            <a:r>
              <a:rPr b="0" lang="zh-CN" sz="1600" spc="-1" strike="noStrike">
                <a:solidFill>
                  <a:srgbClr val="0000ff"/>
                </a:solidFill>
                <a:latin typeface="Times New Roman"/>
              </a:rPr>
              <a:t>个观测和 </a:t>
            </a:r>
            <a:r>
              <a:rPr b="0" lang="zh-CN" sz="1600" spc="-1" strike="noStrike">
                <a:solidFill>
                  <a:srgbClr val="0000ff"/>
                </a:solidFill>
                <a:latin typeface="Times New Roman"/>
              </a:rPr>
              <a:t>3 </a:t>
            </a:r>
            <a:r>
              <a:rPr b="0" lang="zh-CN" sz="1600" spc="-1" strike="noStrike">
                <a:solidFill>
                  <a:srgbClr val="0000ff"/>
                </a:solidFill>
                <a:latin typeface="Times New Roman"/>
              </a:rPr>
              <a:t>个变量。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ff"/>
                </a:solidFill>
                <a:latin typeface="Times New Roman"/>
              </a:rPr>
              <a:t>NOTE: “DATA </a:t>
            </a:r>
            <a:r>
              <a:rPr b="0" lang="zh-CN" sz="1600" spc="-1" strike="noStrike">
                <a:solidFill>
                  <a:srgbClr val="0000ff"/>
                </a:solidFill>
                <a:latin typeface="Times New Roman"/>
              </a:rPr>
              <a:t>语句”所用时间（总处理时间）</a:t>
            </a:r>
            <a:r>
              <a:rPr b="0" lang="zh-CN" sz="16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0" lang="zh-CN" sz="1600" spc="-1" strike="noStrike">
                <a:solidFill>
                  <a:srgbClr val="0000ff"/>
                </a:solidFill>
                <a:latin typeface="Times New Roman"/>
              </a:rPr>
              <a:t>实际时间         </a:t>
            </a:r>
            <a:r>
              <a:rPr b="0" lang="zh-CN" sz="1600" spc="-1" strike="noStrike">
                <a:solidFill>
                  <a:srgbClr val="0000ff"/>
                </a:solidFill>
                <a:latin typeface="Times New Roman"/>
              </a:rPr>
              <a:t>0.01 </a:t>
            </a:r>
            <a:r>
              <a:rPr b="0" lang="zh-CN" sz="1600" spc="-1" strike="noStrike">
                <a:solidFill>
                  <a:srgbClr val="0000ff"/>
                </a:solidFill>
                <a:latin typeface="Times New Roman"/>
              </a:rPr>
              <a:t>秒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0" lang="zh-CN" sz="1600" spc="-1" strike="noStrike">
                <a:solidFill>
                  <a:srgbClr val="0000ff"/>
                </a:solidFill>
                <a:latin typeface="Times New Roman"/>
              </a:rPr>
              <a:t>CPU </a:t>
            </a:r>
            <a:r>
              <a:rPr b="0" lang="zh-CN" sz="1600" spc="-1" strike="noStrike">
                <a:solidFill>
                  <a:srgbClr val="0000ff"/>
                </a:solidFill>
                <a:latin typeface="Times New Roman"/>
              </a:rPr>
              <a:t>时间         </a:t>
            </a:r>
            <a:r>
              <a:rPr b="0" lang="zh-CN" sz="1600" spc="-1" strike="noStrike">
                <a:solidFill>
                  <a:srgbClr val="0000ff"/>
                </a:solidFill>
                <a:latin typeface="Times New Roman"/>
              </a:rPr>
              <a:t>0.00 </a:t>
            </a:r>
            <a:r>
              <a:rPr b="0" lang="zh-CN" sz="1600" spc="-1" strike="noStrike">
                <a:solidFill>
                  <a:srgbClr val="0000ff"/>
                </a:solidFill>
                <a:latin typeface="Times New Roman"/>
              </a:rPr>
              <a:t>秒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59   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60   run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714240" y="928440"/>
            <a:ext cx="5943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2060"/>
                </a:solidFill>
                <a:latin typeface="Times New Roman"/>
                <a:ea typeface="宋体"/>
              </a:rPr>
              <a:t>创建数据集语句</a:t>
            </a:r>
            <a:r>
              <a:rPr b="1" lang="en-US" sz="3000" spc="-1" strike="noStrike">
                <a:solidFill>
                  <a:srgbClr val="002060"/>
                </a:solidFill>
                <a:latin typeface="Times New Roman"/>
                <a:ea typeface="宋体"/>
              </a:rPr>
              <a:t>DATA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1142640" y="1856880"/>
            <a:ext cx="762012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data-set-name-1 &lt; (data-set-options-1)&gt; &gt; &lt;...data-set--name--n &lt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(data-set-options-n) &gt;&gt;  &lt;/ DEBUG&gt;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view-name &lt;data-set-name-1 &lt;(data-set-options-1)&gt;&gt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&lt;. . .data-set-name-n &lt;(data-set-options-n)&gt;&gt; /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VIEW=view-name &lt;(&lt; password-option&gt;&lt; SOURCE=source-option&gt;)&gt;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data-set-name / PGM=program-name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&lt;(&lt;password-option&gt;&lt;SOURCE=source-option&gt;)&gt;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PGM=program-name (&lt;password-option&gt;); &lt;DESCRIBE;&gt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&lt; REDIRECTREDIRECT INPUT | OUTPUT old-name-1 = new-name-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&lt;... old-name-n = new-name-n&gt;&gt;; &lt;EXECUTE;&gt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VIEW=view-name (&lt;password-option&gt;); DESCRIBE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Text Box 4"/>
          <p:cNvSpPr/>
          <p:nvPr/>
        </p:nvSpPr>
        <p:spPr>
          <a:xfrm>
            <a:off x="1042920" y="1628640"/>
            <a:ext cx="338472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上面程序也可以写成：</a:t>
            </a:r>
            <a:r>
              <a:rPr b="1" lang="zh-CN" sz="1800" spc="-1" strike="noStrike">
                <a:solidFill>
                  <a:srgbClr val="00008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in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name &amp; </a:t>
            </a:r>
            <a:r>
              <a:rPr b="0" lang="en-US" sz="1800" spc="-1" strike="noStrike">
                <a:solidFill>
                  <a:srgbClr val="008080"/>
                </a:solidFill>
                <a:latin typeface="Times New Roman"/>
              </a:rPr>
              <a:t>$10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ldg $ room  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</a:rPr>
              <a:t>'-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name @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</a:rPr>
              <a:t>2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ldg $ a $ room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car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U BEIJING  J  125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BERT US  C  233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但第一种方法的效果好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84" name="Text Box 5"/>
          <p:cNvSpPr/>
          <p:nvPr/>
        </p:nvSpPr>
        <p:spPr>
          <a:xfrm>
            <a:off x="4572000" y="1413000"/>
            <a:ext cx="4176720" cy="39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窗口输出结果：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6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PMingLiU"/>
              </a:rPr>
              <a:t>1   data a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PMingLiU"/>
              </a:rPr>
              <a:t>62   input name &amp; $10. bldg $ room  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PMingLiU"/>
              </a:rPr>
              <a:t>63   a='-'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PMingLiU"/>
              </a:rPr>
              <a:t>64   put name @20 bldg $ a $ room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PMingLiU"/>
              </a:rPr>
              <a:t>65   cards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PMingLiU"/>
              </a:rPr>
              <a:t>GU BEIJING         J - 125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PMingLiU"/>
              </a:rPr>
              <a:t>ROBERT US          C - 233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PMingLiU"/>
              </a:rPr>
              <a:t>NOTE: </a:t>
            </a:r>
            <a:r>
              <a:rPr b="0" lang="zh-TW" sz="1600" spc="-1" strike="noStrike">
                <a:solidFill>
                  <a:srgbClr val="0000ff"/>
                </a:solidFill>
                <a:latin typeface="Times New Roman"/>
                <a:ea typeface="PMingLiU"/>
              </a:rPr>
              <a:t>数据集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PMingLiU"/>
              </a:rPr>
              <a:t>WORK.A </a:t>
            </a:r>
            <a:r>
              <a:rPr b="0" lang="zh-TW" sz="1600" spc="-1" strike="noStrike">
                <a:solidFill>
                  <a:srgbClr val="0000ff"/>
                </a:solidFill>
                <a:latin typeface="Times New Roman"/>
                <a:ea typeface="PMingLiU"/>
              </a:rPr>
              <a:t>有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PMingLiU"/>
              </a:rPr>
              <a:t>2 </a:t>
            </a:r>
            <a:r>
              <a:rPr b="0" lang="zh-TW" sz="1600" spc="-1" strike="noStrike">
                <a:solidFill>
                  <a:srgbClr val="0000ff"/>
                </a:solidFill>
                <a:latin typeface="Times New Roman"/>
                <a:ea typeface="PMingLiU"/>
              </a:rPr>
              <a:t>个观测和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PMingLiU"/>
              </a:rPr>
              <a:t>4 </a:t>
            </a:r>
            <a:r>
              <a:rPr b="0" lang="zh-TW" sz="1600" spc="-1" strike="noStrike">
                <a:solidFill>
                  <a:srgbClr val="0000ff"/>
                </a:solidFill>
                <a:latin typeface="Times New Roman"/>
                <a:ea typeface="PMingLiU"/>
              </a:rPr>
              <a:t>个变量。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PMingLiU"/>
              </a:rPr>
              <a:t>NOTE: “DATA </a:t>
            </a:r>
            <a:r>
              <a:rPr b="0" lang="zh-TW" sz="1600" spc="-1" strike="noStrike">
                <a:solidFill>
                  <a:srgbClr val="0000ff"/>
                </a:solidFill>
                <a:latin typeface="Times New Roman"/>
                <a:ea typeface="PMingLiU"/>
              </a:rPr>
              <a:t>语句”所用时间（总处理时间）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PMingLiU"/>
              </a:rPr>
              <a:t>: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PMingLiU"/>
              </a:rPr>
              <a:t>      </a:t>
            </a:r>
            <a:r>
              <a:rPr b="0" lang="zh-TW" sz="1600" spc="-1" strike="noStrike">
                <a:solidFill>
                  <a:srgbClr val="0000ff"/>
                </a:solidFill>
                <a:latin typeface="Times New Roman"/>
                <a:ea typeface="PMingLiU"/>
              </a:rPr>
              <a:t>实际时间        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PMingLiU"/>
              </a:rPr>
              <a:t>0.03 </a:t>
            </a:r>
            <a:r>
              <a:rPr b="0" lang="zh-TW" sz="1600" spc="-1" strike="noStrike">
                <a:solidFill>
                  <a:srgbClr val="0000ff"/>
                </a:solidFill>
                <a:latin typeface="Times New Roman"/>
                <a:ea typeface="PMingLiU"/>
              </a:rPr>
              <a:t>秒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Times New Roman"/>
                <a:ea typeface="PMingLiU"/>
              </a:rPr>
              <a:t>     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PMingLiU"/>
              </a:rPr>
              <a:t>CPU </a:t>
            </a:r>
            <a:r>
              <a:rPr b="0" lang="zh-TW" sz="1600" spc="-1" strike="noStrike">
                <a:solidFill>
                  <a:srgbClr val="0000ff"/>
                </a:solidFill>
                <a:latin typeface="Times New Roman"/>
                <a:ea typeface="PMingLiU"/>
              </a:rPr>
              <a:t>时间        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PMingLiU"/>
              </a:rPr>
              <a:t>0.00 </a:t>
            </a:r>
            <a:r>
              <a:rPr b="0" lang="zh-TW" sz="1600" spc="-1" strike="noStrike">
                <a:solidFill>
                  <a:srgbClr val="0000ff"/>
                </a:solidFill>
                <a:latin typeface="Times New Roman"/>
                <a:ea typeface="PMingLiU"/>
              </a:rPr>
              <a:t>秒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PMingLiU"/>
              </a:rPr>
              <a:t>68   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PMingLiU"/>
              </a:rPr>
              <a:t>69   run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42600" y="1071720"/>
            <a:ext cx="75438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2060"/>
                </a:solidFill>
                <a:latin typeface="Times New Roman"/>
                <a:ea typeface="宋体"/>
              </a:rPr>
              <a:t>读入已存在</a:t>
            </a:r>
            <a:r>
              <a:rPr b="1" lang="en-US" sz="3000" spc="-1" strike="noStrike">
                <a:solidFill>
                  <a:srgbClr val="002060"/>
                </a:solidFill>
                <a:latin typeface="Times New Roman"/>
                <a:ea typeface="宋体"/>
              </a:rPr>
              <a:t>SAS</a:t>
            </a:r>
            <a:r>
              <a:rPr b="1" lang="zh-CN" sz="3000" spc="-1" strike="noStrike">
                <a:solidFill>
                  <a:srgbClr val="002060"/>
                </a:solidFill>
                <a:latin typeface="Times New Roman"/>
                <a:ea typeface="宋体"/>
              </a:rPr>
              <a:t>数据集语句</a:t>
            </a:r>
            <a:r>
              <a:rPr b="1" lang="en-US" sz="3000" spc="-1" strike="noStrike">
                <a:solidFill>
                  <a:srgbClr val="002060"/>
                </a:solidFill>
                <a:latin typeface="Times New Roman"/>
                <a:ea typeface="宋体"/>
              </a:rPr>
              <a:t>SET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999720" y="214272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E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从一个或多个已存在的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集中读取观测值，并将这些观测组合在一个或多个新的数据集中。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：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SET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data-set-name-</a:t>
            </a: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1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&lt;(data-set-options-</a:t>
            </a: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1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)&gt;&gt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&lt;… data-set-name-n &lt;(data-set-options-n )&gt;&gt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&lt;POINT=variable-name |KEY=index-name&gt;/UNIQUE&gt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&lt;NOBS=variable-name &gt; &lt;END=variable-name &gt;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一个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DATA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步中可以有多个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SET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，一个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SET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中可以有任个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集。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856800" y="785880"/>
            <a:ext cx="72392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选项说明 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888" name=""/>
          <p:cNvGraphicFramePr/>
          <p:nvPr/>
        </p:nvGraphicFramePr>
        <p:xfrm>
          <a:off x="1116000" y="2205000"/>
          <a:ext cx="7310520" cy="3745080"/>
        </p:xfrm>
        <a:graphic>
          <a:graphicData uri="http://schemas.openxmlformats.org/drawingml/2006/table">
            <a:tbl>
              <a:tblPr/>
              <a:tblGrid>
                <a:gridCol w="2519280"/>
                <a:gridCol w="4791240"/>
              </a:tblGrid>
              <a:tr h="538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没有变元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读最新创建数据集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Data-Set-Name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规定要组合的数据集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Data-Set-Options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规定对数据集的操作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,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常用选项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keep=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，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Drop=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，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rename=,where=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和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in=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。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Point=Variable_Name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规定一个临时变量控制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SET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语句读入的观测序号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NOBS=Variable_Name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规定一个临时变量，记录读入数据集的观测总数。此变量不含在新产生的数据集中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END=Variable_Name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规定一个临时变量，作为文件结束的标识。文件结束时取值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，其它观测取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0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。此变量不含在新的数据集中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/>
          </p:nvPr>
        </p:nvSpPr>
        <p:spPr>
          <a:xfrm>
            <a:off x="1285560" y="714240"/>
            <a:ext cx="6786360" cy="445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例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4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.17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选项说明若干举例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规定临时变量选项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Point=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：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80808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lass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obs=_n_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n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 point=n;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读入数据集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a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中的第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3,5,7,4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观测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out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sto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使用选项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point=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时，经常要用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stop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语句来终止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data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步的执行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使用选项</a:t>
            </a:r>
            <a:r>
              <a:rPr b="0" lang="pt-BR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point=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时，经常要用</a:t>
            </a:r>
            <a:r>
              <a:rPr b="0" lang="pt-BR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stop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来终止</a:t>
            </a:r>
            <a:r>
              <a:rPr b="0" lang="pt-BR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data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步的执行。因为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使用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set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时，指针只有在遇到数据集的最后一条观测才会停止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执行，而这里选择读入的最后一条观测一般情况下并不是数据集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的最后一条观测，所以，需要专门用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stop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停止指针执行，否则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会陷入死循环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"/>
          <p:cNvSpPr txBox="1"/>
          <p:nvPr/>
        </p:nvSpPr>
        <p:spPr>
          <a:xfrm>
            <a:off x="857160" y="1571760"/>
            <a:ext cx="7215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去掉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stop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： 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do  end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循环不能让指针达到最后一条观测值，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set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会让循环持续执行，形成死循环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data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do n=3,5,7,4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set a point=n;   /*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读入数据集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中的第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3,5,7,4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观测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*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/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output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end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run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使用中断工具终止程序运行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"/>
          <p:cNvSpPr txBox="1"/>
          <p:nvPr/>
        </p:nvSpPr>
        <p:spPr>
          <a:xfrm>
            <a:off x="1213920" y="785520"/>
            <a:ext cx="6000840" cy="53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例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4.18 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连续两个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set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e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y$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ard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 Groucho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  Harpo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  Kart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wo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Z$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ard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  Chico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   Zeppo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ree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e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wo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92" name="TextBox 2"/>
          <p:cNvSpPr/>
          <p:nvPr/>
        </p:nvSpPr>
        <p:spPr>
          <a:xfrm>
            <a:off x="5229720" y="1357200"/>
            <a:ext cx="1269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数据集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one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：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X   Y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1   Groucho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3   Harpo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5   Kart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93" name="TextBox 3"/>
          <p:cNvSpPr/>
          <p:nvPr/>
        </p:nvSpPr>
        <p:spPr>
          <a:xfrm>
            <a:off x="5072040" y="2928960"/>
            <a:ext cx="135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数据集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two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：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X  Z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2   Chico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4   Zeppo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94" name="TextBox 5"/>
          <p:cNvSpPr/>
          <p:nvPr/>
        </p:nvSpPr>
        <p:spPr>
          <a:xfrm>
            <a:off x="5072040" y="4357800"/>
            <a:ext cx="3071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数据集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three: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X    Y                 Z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2     Groucho     Chico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4     Harpo         Zeppo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Text Box 4"/>
          <p:cNvSpPr/>
          <p:nvPr/>
        </p:nvSpPr>
        <p:spPr>
          <a:xfrm>
            <a:off x="2143080" y="1214280"/>
            <a:ext cx="5834160" cy="17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例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4.19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数据集选项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in=var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。 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data a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set one(in=one) two(in=two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in1=one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in2=two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run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96" name="Rectangle 5"/>
          <p:cNvSpPr/>
          <p:nvPr/>
        </p:nvSpPr>
        <p:spPr>
          <a:xfrm>
            <a:off x="1857240" y="3431520"/>
            <a:ext cx="11415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 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数据集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a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：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897" name=""/>
          <p:cNvGraphicFramePr/>
          <p:nvPr/>
        </p:nvGraphicFramePr>
        <p:xfrm>
          <a:off x="2143080" y="3857760"/>
          <a:ext cx="4175280" cy="2016000"/>
        </p:xfrm>
        <a:graphic>
          <a:graphicData uri="http://schemas.openxmlformats.org/drawingml/2006/table">
            <a:tbl>
              <a:tblPr/>
              <a:tblGrid>
                <a:gridCol w="362160"/>
                <a:gridCol w="998280"/>
                <a:gridCol w="1014480"/>
                <a:gridCol w="1085760"/>
                <a:gridCol w="714600"/>
              </a:tblGrid>
              <a:tr h="33624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黑体"/>
                        </a:rPr>
                        <a:t>x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黑体"/>
                        </a:rPr>
                        <a:t>y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黑体"/>
                        </a:rPr>
                        <a:t>Z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黑体"/>
                        </a:rPr>
                        <a:t>in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黑体"/>
                        </a:rPr>
                        <a:t>in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黑体"/>
                        </a:rPr>
                        <a:t>Groucho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黑体"/>
                        </a:rPr>
                        <a:t>0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黑体"/>
                        </a:rPr>
                        <a:t>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黑体"/>
                        </a:rPr>
                        <a:t>Harpo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黑体"/>
                        </a:rPr>
                        <a:t>0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黑体"/>
                        </a:rPr>
                        <a:t>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黑体"/>
                        </a:rPr>
                        <a:t>Kart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黑体"/>
                        </a:rPr>
                        <a:t>0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黑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黑体"/>
                        </a:rPr>
                        <a:t>Chico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黑体"/>
                        </a:rPr>
                        <a:t>0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黑体"/>
                        </a:rPr>
                        <a:t>4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黑体"/>
                        </a:rPr>
                        <a:t>Zeppo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黑体"/>
                        </a:rPr>
                        <a:t>0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/>
          </p:nvPr>
        </p:nvSpPr>
        <p:spPr>
          <a:xfrm>
            <a:off x="1752480" y="1905120"/>
            <a:ext cx="59436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规定临时变量选项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NOBS=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：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obsnum=</a:t>
            </a:r>
            <a:r>
              <a:rPr b="0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last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b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临时变量为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last *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lass point=obsnum   nobs=last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out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sto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1027"/>
          <p:cNvSpPr/>
          <p:nvPr/>
        </p:nvSpPr>
        <p:spPr>
          <a:xfrm>
            <a:off x="1785960" y="1285920"/>
            <a:ext cx="5943600" cy="42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如何找数据集的观测个数：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Times New Roman"/>
                <a:ea typeface="黑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a=nobs;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黑体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ResDat.class nobs=nobs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黑体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_n_=a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Times New Roman"/>
                <a:ea typeface="黑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如何找数据集的最后一个观测值：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Times New Roman"/>
                <a:ea typeface="黑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黑体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ResDat.class nobs=nobs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黑体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_N_=NOBS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Times New Roman"/>
                <a:ea typeface="黑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/>
          </p:nvPr>
        </p:nvSpPr>
        <p:spPr>
          <a:xfrm>
            <a:off x="1905120" y="1599840"/>
            <a:ext cx="5595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找数据集最后一个观测值更简单的方法：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lass end=obs_last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obs_last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输出数据集的最后一个观测值：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lass End=lastobs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lastobs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=lastobs;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将临时变量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lastobs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的值赋给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X*/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‘last observation:  ’  _all_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785880" y="928800"/>
            <a:ext cx="728640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选项说明 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071360" y="4142880"/>
            <a:ext cx="65005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这里只给出常用选项的说明，其它选项说明可以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帮助中查找。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820" name="Object 2"/>
          <p:cNvGraphicFramePr/>
          <p:nvPr/>
        </p:nvGraphicFramePr>
        <p:xfrm>
          <a:off x="1523880" y="2133720"/>
          <a:ext cx="6019920" cy="1617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133720"/>
                    <a:ext cx="6019920" cy="16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/>
          </p:nvPr>
        </p:nvSpPr>
        <p:spPr>
          <a:xfrm>
            <a:off x="1285560" y="857160"/>
            <a:ext cx="727236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宋体"/>
                <a:ea typeface="黑体"/>
              </a:rPr>
              <a:t>4.20</a:t>
            </a:r>
            <a:r>
              <a:rPr b="0" lang="zh-CN" sz="1800" spc="-1" strike="noStrike">
                <a:solidFill>
                  <a:srgbClr val="080808"/>
                </a:solidFill>
                <a:latin typeface="宋体"/>
                <a:ea typeface="宋体"/>
              </a:rPr>
              <a:t>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集选项说明若干举例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保留部分变量：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 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lass(keep=name sex age)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b (keep= name sex age)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lass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c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lass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kee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name sex age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上述三段程序的结果相同。注意，但第三段程序用的是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KEEP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，并不是数据集选项的应用。</a:t>
            </a:r>
            <a:r>
              <a:rPr b="0" lang="zh-CN" sz="1600" spc="-1" strike="noStrike">
                <a:solidFill>
                  <a:srgbClr val="080808"/>
                </a:solidFill>
                <a:latin typeface="Arial"/>
                <a:ea typeface="宋体"/>
              </a:rPr>
              <a:t>保留部分变量时可生成多个变量子集，如下：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weight(keep=name weight) height(keep=name height)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lass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/*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此程序将保留变量同时生成两个变量子集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/>
          </p:nvPr>
        </p:nvSpPr>
        <p:spPr>
          <a:xfrm>
            <a:off x="1714680" y="1071360"/>
            <a:ext cx="36432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保留部分观测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males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lass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ex=’M’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males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lass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ex=’M’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ut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males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lass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sex^=’M’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ele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03" name="TextBox 2"/>
          <p:cNvSpPr/>
          <p:nvPr/>
        </p:nvSpPr>
        <p:spPr>
          <a:xfrm>
            <a:off x="5214960" y="2857680"/>
            <a:ext cx="3143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emaleSt  MaleSt 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sDat.class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x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F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he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ut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emaleSt ; 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l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x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M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he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ut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aleSt 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* </a:t>
            </a: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此程序将保留部分观测同时生成两个观测子集</a:t>
            </a: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*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04" name="TextBox 3"/>
          <p:cNvSpPr/>
          <p:nvPr/>
        </p:nvSpPr>
        <p:spPr>
          <a:xfrm>
            <a:off x="5214960" y="2143080"/>
            <a:ext cx="26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2d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保留部分观测时可生成多个观测子集，如下：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/>
          </p:nvPr>
        </p:nvSpPr>
        <p:spPr>
          <a:xfrm>
            <a:off x="1523880" y="1752120"/>
            <a:ext cx="6405840" cy="32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宋体"/>
                <a:ea typeface="黑体"/>
              </a:rPr>
              <a:t>4.21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的纵向合并，相同变量的数据集合并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qttn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ResDat.stk000001 ResDat.stk000002;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PMingLiU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 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宋体"/>
                <a:ea typeface="黑体"/>
              </a:rPr>
              <a:t>4.22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的纵向合并，不同变量的数据集合并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et ResDat.class ResDat.stk000001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 txBox="1"/>
          <p:nvPr/>
        </p:nvSpPr>
        <p:spPr>
          <a:xfrm>
            <a:off x="1285920" y="499680"/>
            <a:ext cx="3571920" cy="616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Arial"/>
                <a:ea typeface="宋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  <a:ea typeface="宋体"/>
              </a:rPr>
              <a:t>4.23 </a:t>
            </a:r>
            <a:r>
              <a:rPr b="0" lang="zh-CN" sz="2000" spc="-1" strike="noStrike">
                <a:solidFill>
                  <a:srgbClr val="080808"/>
                </a:solidFill>
                <a:latin typeface="Arial"/>
                <a:ea typeface="宋体"/>
              </a:rPr>
              <a:t>按顺序交替连接数据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yz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d$ x y z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ar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12 3 45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11 2 34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10 4 76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23 7 16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vw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put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d$ u v w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ar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20 5 50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12 3 32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16 8 99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27 11 15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07" name="TextBox 2"/>
          <p:cNvSpPr/>
          <p:nvPr/>
        </p:nvSpPr>
        <p:spPr>
          <a:xfrm>
            <a:off x="5214960" y="1285920"/>
            <a:ext cx="27860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pr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sor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xyz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d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pr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sor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uvw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d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yz uvw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d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pr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prin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oob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Rectangle 4"/>
          <p:cNvSpPr/>
          <p:nvPr/>
        </p:nvSpPr>
        <p:spPr>
          <a:xfrm>
            <a:off x="956880" y="1341360"/>
            <a:ext cx="991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结果显示：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909" name=""/>
          <p:cNvGraphicFramePr/>
          <p:nvPr/>
        </p:nvGraphicFramePr>
        <p:xfrm>
          <a:off x="755640" y="2205000"/>
          <a:ext cx="8172360" cy="3390840"/>
        </p:xfrm>
        <a:graphic>
          <a:graphicData uri="http://schemas.openxmlformats.org/drawingml/2006/table">
            <a:tbl>
              <a:tblPr/>
              <a:tblGrid>
                <a:gridCol w="1096920"/>
                <a:gridCol w="1281240"/>
                <a:gridCol w="709560"/>
                <a:gridCol w="1281240"/>
                <a:gridCol w="1280880"/>
                <a:gridCol w="1244520"/>
                <a:gridCol w="1278000"/>
              </a:tblGrid>
              <a:tr h="3780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Id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76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714240" y="57132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2060"/>
                </a:solidFill>
                <a:latin typeface="Times New Roman"/>
                <a:ea typeface="宋体"/>
              </a:rPr>
              <a:t>横向合并数据集语句</a:t>
            </a:r>
            <a:r>
              <a:rPr b="1" lang="en-US" sz="3000" spc="-1" strike="noStrike">
                <a:solidFill>
                  <a:srgbClr val="002060"/>
                </a:solidFill>
                <a:latin typeface="Times New Roman"/>
                <a:ea typeface="宋体"/>
              </a:rPr>
              <a:t>MERGE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1294920" y="213336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MERG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将多个数据集中的观测合并为新数据集中的一个观测。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系统合并观测的方式依赖于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BY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的使用。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MERGE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data-set-name-1  &lt;(data-set-options)&gt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data-set-name-2 &lt;( data-set-options)&gt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&lt;…data-set-name-n&lt;(data-set-options )&gt;&gt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&lt;END=variable-name &gt;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856800" y="857160"/>
            <a:ext cx="72392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f0"/>
                </a:solidFill>
                <a:latin typeface="Times New Roman"/>
                <a:ea typeface="宋体"/>
              </a:rPr>
              <a:t>选项说明 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913" name="Object 2"/>
          <p:cNvGraphicFramePr/>
          <p:nvPr/>
        </p:nvGraphicFramePr>
        <p:xfrm>
          <a:off x="1795320" y="2214720"/>
          <a:ext cx="5372280" cy="1618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5320" y="2214720"/>
                    <a:ext cx="5372280" cy="161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71320" y="499680"/>
            <a:ext cx="7391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应用举例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1142640" y="1714680"/>
            <a:ext cx="716292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4.24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一对一合并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merge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ResDat.class ResDat.stk000001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>
              <a:lnSpc>
                <a:spcPct val="8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一对一合并时，不需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。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4.2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匹配合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merg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ResDat.stk000001 (keep=date clpr rename=(clpr=clpr000001)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ResDat.stk000002 (keep=date clpr rename=(clpr=clpr000002))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b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date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>
              <a:lnSpc>
                <a:spcPct val="8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匹配合并必须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/>
          </p:nvPr>
        </p:nvSpPr>
        <p:spPr>
          <a:xfrm>
            <a:off x="1143000" y="1428840"/>
            <a:ext cx="7238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4.26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使用数据集选（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in=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）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,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选择股票代码为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000001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，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200011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，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600601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和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900903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的首次发行与上市数据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stkcd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stkcd</a:t>
            </a:r>
            <a:r>
              <a:rPr b="0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$6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00001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001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60060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900903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iissulst1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merg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resdat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iissulst stkcd(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i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id)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d;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选择满足条件股票的首次发行与上市数据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b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stkcd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785880" y="1000080"/>
            <a:ext cx="7619760" cy="55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Times New Roman"/>
                <a:ea typeface="宋体"/>
              </a:rPr>
              <a:t>BY</a:t>
            </a:r>
            <a:r>
              <a:rPr b="1" lang="zh-CN" sz="3000" spc="-1" strike="noStrike">
                <a:solidFill>
                  <a:srgbClr val="002060"/>
                </a:solidFill>
                <a:latin typeface="Times New Roman"/>
                <a:ea typeface="宋体"/>
              </a:rPr>
              <a:t>语句 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1214280" y="2356920"/>
            <a:ext cx="5786640" cy="24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步中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BY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规定分组变量。用于控制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ET,MERGE,UPDAT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或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MODIFY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的操作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黑体"/>
                <a:ea typeface="黑体"/>
              </a:rPr>
              <a:t>语句格式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By &lt;Descending&gt; &lt;Groupformat&gt; Variable-</a:t>
            </a: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1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&lt;</a:t>
            </a: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...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&lt;Descending&gt; &lt;Groupformat&gt; Variable-N&gt; &lt;Notsorted&gt;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/>
          </p:nvPr>
        </p:nvSpPr>
        <p:spPr>
          <a:xfrm>
            <a:off x="1356840" y="1785960"/>
            <a:ext cx="6883560" cy="30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.1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规定要创建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集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      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  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系统自动规定数据集名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datan  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;           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创建临时数据集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a 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ResD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.a;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创建永久数据集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resdat.a 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data1 data2;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创建两个临时数据集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data1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和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data2 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_null_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   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特殊名，不创建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数据集，用于输出 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Run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/>
          </p:nvPr>
        </p:nvSpPr>
        <p:spPr>
          <a:xfrm>
            <a:off x="1371600" y="144756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黑体"/>
                <a:ea typeface="黑体"/>
              </a:rPr>
              <a:t>选项说明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BY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</a:t>
            </a:r>
            <a:r>
              <a:rPr b="0" lang="zh-CN" sz="2400" spc="-1" strike="noStrike">
                <a:solidFill>
                  <a:srgbClr val="080808"/>
                </a:solidFill>
                <a:latin typeface="黑体"/>
                <a:ea typeface="黑体"/>
              </a:rPr>
              <a:t>概念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921" name="Object 2"/>
          <p:cNvGraphicFramePr/>
          <p:nvPr/>
        </p:nvGraphicFramePr>
        <p:xfrm>
          <a:off x="1371600" y="2133720"/>
          <a:ext cx="4876920" cy="1185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2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133720"/>
                    <a:ext cx="4876920" cy="11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3" name="Object 3"/>
          <p:cNvGraphicFramePr/>
          <p:nvPr/>
        </p:nvGraphicFramePr>
        <p:xfrm>
          <a:off x="1371600" y="4343400"/>
          <a:ext cx="3962520" cy="942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92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4343400"/>
                    <a:ext cx="3962520" cy="9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785880" y="999720"/>
            <a:ext cx="76197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Times New Roman"/>
                <a:ea typeface="宋体"/>
              </a:rPr>
              <a:t>FIRST.</a:t>
            </a:r>
            <a:r>
              <a:rPr b="1" lang="zh-CN" sz="2800" spc="-1" strike="noStrike">
                <a:solidFill>
                  <a:srgbClr val="00b0f0"/>
                </a:solidFill>
                <a:latin typeface="Times New Roman"/>
                <a:ea typeface="宋体"/>
              </a:rPr>
              <a:t>变量和</a:t>
            </a:r>
            <a:r>
              <a:rPr b="1" lang="en-US" sz="2800" spc="-1" strike="noStrike">
                <a:solidFill>
                  <a:srgbClr val="00b0f0"/>
                </a:solidFill>
                <a:latin typeface="Times New Roman"/>
                <a:ea typeface="宋体"/>
              </a:rPr>
              <a:t>LAST.</a:t>
            </a:r>
            <a:r>
              <a:rPr b="1" lang="zh-CN" sz="2800" spc="-1" strike="noStrike">
                <a:solidFill>
                  <a:srgbClr val="00b0f0"/>
                </a:solidFill>
                <a:latin typeface="Times New Roman"/>
                <a:ea typeface="宋体"/>
              </a:rPr>
              <a:t>变量 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1142640" y="2286000"/>
            <a:ext cx="716292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对每个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组创建两个自动变量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irst.variable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和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ast.variable,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用来标识每个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组的第一个和最后一个观测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对于一个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组的第一个观测值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irst.variabl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取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其余取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0.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对于一个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组的最后一个观测值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ast.variabl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取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其余取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0.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这些变量不含在新产生的数据集中。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Rectangle 2"/>
          <p:cNvSpPr/>
          <p:nvPr/>
        </p:nvSpPr>
        <p:spPr>
          <a:xfrm>
            <a:off x="1600200" y="1447920"/>
            <a:ext cx="5334120" cy="39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28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保留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组的最后一个观测值。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ResDat.stk000001;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PMingLiU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nth=month(date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ar=year(date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</a:rPr>
              <a:t>pro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</a:rPr>
              <a:t>sor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a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b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year month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b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year month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last.month;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</a:rPr>
              <a:t>保留每月最后一个观测值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71680" y="857160"/>
            <a:ext cx="7286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删除变量语句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DROP</a:t>
            </a:r>
            <a:r>
              <a:rPr b="1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与保留变量语句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KEEP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1143000" y="2071440"/>
            <a:ext cx="6934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DROP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规定输出数据集中要删除的变量，它对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DATA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步正在创建的所有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集都适用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语句格式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RO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variable-list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varible-list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规定输出数据集中要删除的变量。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30" name="Text Box 4"/>
          <p:cNvSpPr/>
          <p:nvPr/>
        </p:nvSpPr>
        <p:spPr>
          <a:xfrm>
            <a:off x="1979640" y="2178000"/>
            <a:ext cx="489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8080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/>
          </p:nvPr>
        </p:nvSpPr>
        <p:spPr>
          <a:xfrm>
            <a:off x="1143000" y="1142640"/>
            <a:ext cx="6500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4.29 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Drop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与数据集中的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drop=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选项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lass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ro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ex age; 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/* drop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*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/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 (drop=sex age);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/*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集中的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drop=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选项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*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/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lass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algn="just">
              <a:lnSpc>
                <a:spcPct val="9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两段程序的效果相同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ROP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告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新建数据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将删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EX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G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两个变量。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642960" y="714240"/>
            <a:ext cx="72388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KEEP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 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1143000" y="1928880"/>
            <a:ext cx="7238880" cy="32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KEE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规定输出数据中要保留的变量，它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T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步正在创建的所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集都适用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9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KEE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variable-list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variable-list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规定输出数据集中要保留的变量。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/>
          </p:nvPr>
        </p:nvSpPr>
        <p:spPr>
          <a:xfrm>
            <a:off x="1143000" y="142848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4.30 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Keep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与数据集中的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keep=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选项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ResDat.idx00000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kee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date clpr;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/* keep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*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/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a  (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b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  (keep=date clpr);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/*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集中的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keep=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选项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*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/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ResDat.idx00000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a  (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b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7239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DROP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KEEP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使用规则 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142640" y="2428920"/>
            <a:ext cx="70102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5000"/>
              </a:lnSpc>
              <a:spcBef>
                <a:spcPts val="601"/>
              </a:spcBef>
              <a:buClr>
                <a:srgbClr val="92d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同一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T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步不用同时使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RO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KEE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；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5000"/>
              </a:lnSpc>
              <a:spcBef>
                <a:spcPts val="601"/>
              </a:spcBef>
              <a:buClr>
                <a:srgbClr val="92d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ENAM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KEE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RO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一起使用时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KEE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RO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会首先起作用。即，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KEE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RO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中使用是旧名字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/>
          </p:nvPr>
        </p:nvSpPr>
        <p:spPr>
          <a:xfrm>
            <a:off x="999720" y="999720"/>
            <a:ext cx="648036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黑体"/>
                <a:ea typeface="黑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黑体"/>
                <a:ea typeface="黑体"/>
              </a:rPr>
              <a:t>4.31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RENAME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和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KEEP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一起使用时，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KEEP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使用旧变量名时程序运行正常，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keep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使用新变量名时程序运行出错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Idx000001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kee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date clpr;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使用旧变量名，程序运行正常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re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clpr=clpr_SH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Idx000001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kee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date clpr_SH;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使用新变量名，程序不能正常运行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re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clpr=clpr_SH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938" name=""/>
          <p:cNvGraphicFramePr/>
          <p:nvPr/>
        </p:nvGraphicFramePr>
        <p:xfrm>
          <a:off x="826920" y="5084640"/>
          <a:ext cx="7201080" cy="1060560"/>
        </p:xfrm>
        <a:graphic>
          <a:graphicData uri="http://schemas.openxmlformats.org/drawingml/2006/table">
            <a:tbl>
              <a:tblPr/>
              <a:tblGrid>
                <a:gridCol w="7201080"/>
              </a:tblGrid>
              <a:tr h="1060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WARNING: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从未引用过 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DROP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、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KEEP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或 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RENAME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列表中的变量 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clpr_SH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。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WARNING: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从未引用过 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DROP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、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KEEP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或 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RENAME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列表中的变量 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clpr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。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NOTE: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从数据集 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RESDAT.IDX000001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读取了 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3891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个观测。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NOTE: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数据集 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WORK.A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有 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3891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个观测和 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1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个变量。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678636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宋体"/>
              </a:rPr>
              <a:t>Keep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在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宋体"/>
              </a:rPr>
              <a:t>rename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的后面也是先起作用</a:t>
            </a:r>
            <a:endParaRPr b="1" i="1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40" name=""/>
          <p:cNvSpPr txBox="1"/>
          <p:nvPr/>
        </p:nvSpPr>
        <p:spPr>
          <a:xfrm>
            <a:off x="1143000" y="1714680"/>
            <a:ext cx="692928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data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a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set ResDat.Idx000001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rename clpr=clpr_SH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keep date clpr_SH; /*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使用新变量名，程序不能正常运。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Keep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在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rename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的后面也是先起作用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*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/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run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1028"/>
          <p:cNvSpPr/>
          <p:nvPr/>
        </p:nvSpPr>
        <p:spPr>
          <a:xfrm>
            <a:off x="1357200" y="1785960"/>
            <a:ext cx="6881760" cy="29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.2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</a:rPr>
              <a:t>数据集选项举例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ew (drop=var1);              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</a:rPr>
              <a:t>去掉数据集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new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</a:rPr>
              <a:t>中变量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var1*/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ew (keep=_numeric_);        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</a:rPr>
              <a:t>保留数据集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new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</a:rPr>
              <a:t>中所有数值变量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ew (label=’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股本变动历史’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);   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</a:rPr>
              <a:t>规定数据集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new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</a:rPr>
              <a:t>标签名为”股本变动历史”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ew (rename=(var1=u var2=v));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</a:rPr>
              <a:t>将数据集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new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</a:rPr>
              <a:t>中变量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var1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</a:rPr>
              <a:t>和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var2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</a:rPr>
              <a:t>更名为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u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</a:rPr>
              <a:t>和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v*/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ook(index=(author subject));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</a:rPr>
              <a:t>数据集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book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</a:rPr>
              <a:t>对变量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author subject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</a:rPr>
              <a:t>建立索引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</a:rPr>
              <a:t>*/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28760" y="99972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数据集选项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DROP=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KEEP=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使用规则</a:t>
            </a:r>
            <a:r>
              <a:rPr b="1" lang="zh-TW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 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42" name="Rectangle 3"/>
          <p:cNvSpPr/>
          <p:nvPr/>
        </p:nvSpPr>
        <p:spPr>
          <a:xfrm>
            <a:off x="785880" y="2357280"/>
            <a:ext cx="764388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5000"/>
              </a:lnSpc>
              <a:spcBef>
                <a:spcPts val="601"/>
              </a:spcBef>
              <a:buClr>
                <a:srgbClr val="92d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数据集选项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drop=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和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keep=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的使用规则基本同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drop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和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keep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语句的使用规则。但更灵活，实现同样的功能，对于不同的数据集，新旧名的使用规则也不同</a:t>
            </a:r>
            <a:r>
              <a:rPr b="0" lang="zh-TW" sz="24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 algn="just">
              <a:lnSpc>
                <a:spcPct val="105000"/>
              </a:lnSpc>
              <a:spcBef>
                <a:spcPts val="601"/>
              </a:spcBef>
              <a:buClr>
                <a:srgbClr val="92d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KEEP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语句或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DROP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语句只能在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DATA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步中使用。为了在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PROC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步中保留变量或删掉变量，必须使用数据集选项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KEEP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＝或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DROP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＝。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 algn="just">
              <a:lnSpc>
                <a:spcPct val="105000"/>
              </a:lnSpc>
              <a:spcBef>
                <a:spcPts val="799"/>
              </a:spcBef>
              <a:buClr>
                <a:srgbClr val="92d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Rectangle 4"/>
          <p:cNvSpPr/>
          <p:nvPr/>
        </p:nvSpPr>
        <p:spPr>
          <a:xfrm>
            <a:off x="1143000" y="875880"/>
            <a:ext cx="699300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黑体"/>
              </a:rPr>
              <a:t>4.32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黑体"/>
              </a:rPr>
              <a:t>读入数据集中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keep=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黑体"/>
              </a:rPr>
              <a:t>选项使用旧变量名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黑体"/>
              </a:rPr>
              <a:t>使用旧变量名，程序运行正常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黑体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黑体"/>
              </a:rPr>
              <a:t>merg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ResDat.Idx000001 (keep=date clpr rename=(clpr=clpr_SH))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ResDat.Idx399001 (keep=date clpr rename=(clpr=clpr_SZ)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黑体"/>
              </a:rPr>
              <a:t>b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date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黑体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;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使用新变量名，程序运行出错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黑体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黑体"/>
              </a:rPr>
              <a:t>merg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ResDat.Idx000001 (keep=date clpr_SH rename=(clpr=clpr_SH))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ResDat.Idx399001 (keep=date clpr_SZ rename=(clpr=clpr_SZ)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黑体"/>
              </a:rPr>
              <a:t>b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date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黑体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;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944" name=""/>
          <p:cNvGraphicFramePr/>
          <p:nvPr/>
        </p:nvGraphicFramePr>
        <p:xfrm>
          <a:off x="785880" y="4643280"/>
          <a:ext cx="7993080" cy="1920960"/>
        </p:xfrm>
        <a:graphic>
          <a:graphicData uri="http://schemas.openxmlformats.org/drawingml/2006/table">
            <a:tbl>
              <a:tblPr/>
              <a:tblGrid>
                <a:gridCol w="7993080"/>
              </a:tblGrid>
              <a:tr h="1920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ERROR: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变量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clpr”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不在文件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RESDAT.IDX000001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中。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ERROR: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文件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RESDAT.IDX000001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的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DROP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、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KEEP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或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RENAME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选项无效。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ERROR: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变量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clpr”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不在文件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RESDAT.IDX399001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中。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ERROR: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文件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RESDAT.IDX399001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的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DROP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、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KEEP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或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RENAME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选项无效。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339  by date;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340  run;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NOTE: SAS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系统由于错误而停止了该步的处理。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Rectangle 4"/>
          <p:cNvSpPr/>
          <p:nvPr/>
        </p:nvSpPr>
        <p:spPr>
          <a:xfrm>
            <a:off x="2020680" y="1353240"/>
            <a:ext cx="5312160" cy="27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4.33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新创建数据集中的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keep=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选项使用新变量名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如上例中的错误程序，改为新创建数据集中的选项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keep=,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要用新变量名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(keep=date clpr_SH clpr_SZ )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er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sDat.Idx000001 (rename=(clpr=clpr_SH))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Dat.Idx399001 (rename=(clpr=clpr_SZ))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te;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程序运行正常 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*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571320" y="8571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2060"/>
                </a:solidFill>
                <a:latin typeface="Times New Roman"/>
                <a:ea typeface="宋体"/>
              </a:rPr>
              <a:t>更改变量名语句</a:t>
            </a:r>
            <a:r>
              <a:rPr b="1" lang="en-US" sz="3000" spc="-1" strike="noStrike">
                <a:solidFill>
                  <a:srgbClr val="002060"/>
                </a:solidFill>
                <a:latin typeface="Times New Roman"/>
                <a:ea typeface="宋体"/>
              </a:rPr>
              <a:t>RENAME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142640" y="1856880"/>
            <a:ext cx="7286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2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RENAME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可以更改多个变量的名字。</a:t>
            </a:r>
            <a:r>
              <a:rPr b="0" lang="zh-CN" sz="8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E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old-name-1=new-name-1… &lt;old-name-n=new-name-n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ld-nam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规定输入数据集中出现的变量名字；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ew-nam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规定变量的新名字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由于变量的新名字在输出的数据集中才起作用，所以，在当前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DATA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步的程序语句须使用老名字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TextBox 1"/>
          <p:cNvSpPr/>
          <p:nvPr/>
        </p:nvSpPr>
        <p:spPr>
          <a:xfrm>
            <a:off x="1428840" y="1571760"/>
            <a:ext cx="6500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例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4.34 RENAME</a:t>
            </a:r>
            <a:r>
              <a:rPr b="1" lang="zh-CN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更改多个变量名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(keep=date open low high close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sDat.Idx000001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ppr=open lopr=low hipr=high clpr=close;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pr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prin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a (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b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49" name="Rectangle 1026"/>
          <p:cNvSpPr/>
          <p:nvPr/>
        </p:nvSpPr>
        <p:spPr>
          <a:xfrm>
            <a:off x="571680" y="500040"/>
            <a:ext cx="73911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00b0f0"/>
                </a:solidFill>
                <a:latin typeface="Arial"/>
              </a:rPr>
              <a:t>应用举例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50" name="矩形 3"/>
          <p:cNvSpPr/>
          <p:nvPr/>
        </p:nvSpPr>
        <p:spPr>
          <a:xfrm>
            <a:off x="1667160" y="3714840"/>
            <a:ext cx="167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OUPPUT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窗口显示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951" name=""/>
          <p:cNvGraphicFramePr/>
          <p:nvPr/>
        </p:nvGraphicFramePr>
        <p:xfrm>
          <a:off x="714240" y="4214880"/>
          <a:ext cx="7786800" cy="1071360"/>
        </p:xfrm>
        <a:graphic>
          <a:graphicData uri="http://schemas.openxmlformats.org/drawingml/2006/table">
            <a:tbl>
              <a:tblPr/>
              <a:tblGrid>
                <a:gridCol w="7786800"/>
              </a:tblGrid>
              <a:tr h="1947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0808"/>
                          </a:solidFill>
                          <a:latin typeface="Terminal"/>
                          <a:ea typeface="Terminal"/>
                        </a:rPr>
                        <a:t>Obs          Date        open        high         low       close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0808"/>
                          </a:solidFill>
                          <a:latin typeface="Terminal"/>
                          <a:ea typeface="Terminal"/>
                        </a:rPr>
                        <a:t>1        1990-12-19       96.05       99.98       95.79       99.98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0808"/>
                          </a:solidFill>
                          <a:latin typeface="Terminal"/>
                          <a:ea typeface="Terminal"/>
                        </a:rPr>
                        <a:t>2        1990-12-20      104.30      104.39       99.98      104.39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0808"/>
                          </a:solidFill>
                          <a:latin typeface="Terminal"/>
                          <a:ea typeface="Terminal"/>
                        </a:rPr>
                        <a:t>3        1990-12-21      109.07      109.13      103.73      109.1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42960" y="64260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Times New Roman"/>
                <a:ea typeface="宋体"/>
              </a:rPr>
              <a:t>保留数值语句</a:t>
            </a: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宋体"/>
              </a:rPr>
              <a:t>RETAIN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1143000" y="164268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ETAIN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来规定单个变量，变量列表，或数组元素的初始值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没有为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retain</a:t>
            </a:r>
            <a:r>
              <a:rPr b="1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的变量赋新值时会保留该变量前面的值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：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ETAI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element-list-1&lt;initial-value-1|(initial=value-1)|(initial-value-list-1)&gt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&lt;…element-list-n&lt;initial-value-n|(initial-value-n)|(initial-value-list-n)&gt;&gt;&gt;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选项说明：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954" name="Object 2"/>
          <p:cNvGraphicFramePr/>
          <p:nvPr/>
        </p:nvGraphicFramePr>
        <p:xfrm>
          <a:off x="1643040" y="4599000"/>
          <a:ext cx="6924600" cy="190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3040" y="4599000"/>
                    <a:ext cx="6924600" cy="19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/>
          </p:nvPr>
        </p:nvSpPr>
        <p:spPr>
          <a:xfrm>
            <a:off x="1285920" y="142848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4.35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没有选项时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规定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INPU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或赋值语句创建的所有变量值从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ATA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步的这次执行到下一次重复时被保留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。于是数据值在一些观测中可能保留了本应为缺失值的其它值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id @@;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reta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id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test='pass'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id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test='fail'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 2 2 2 3 5 1 5 3 1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noob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/>
          </p:nvPr>
        </p:nvSpPr>
        <p:spPr>
          <a:xfrm>
            <a:off x="1447560" y="1371600"/>
            <a:ext cx="63133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打印输出结果为：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D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的值为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或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都是对的。但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D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等于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以外的值时，没有一个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F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条件是真的，故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EST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没有接收新的值。由于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ETAIN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，所以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EST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就保持从上一观测中得到的值，这样就产生错误。若从这段程序删除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ETAIN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，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D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值不等于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或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时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EST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的值为空格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缺失值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.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958" name="Object 2"/>
          <p:cNvGraphicFramePr/>
          <p:nvPr/>
        </p:nvGraphicFramePr>
        <p:xfrm>
          <a:off x="1928880" y="1785960"/>
          <a:ext cx="1230120" cy="2714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8880" y="1785960"/>
                    <a:ext cx="1230120" cy="27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/>
          </p:nvPr>
        </p:nvSpPr>
        <p:spPr>
          <a:xfrm>
            <a:off x="1523520" y="1371240"/>
            <a:ext cx="6977160" cy="44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;               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打印输出结果为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id @@;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id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test='pass'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id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test='fail'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 2 2 2 3 5 1 5 3 1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noob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_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LL_, _CH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_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或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_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NUMERIC_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规定变量列表时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只有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ETAI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之前定义的变量才有效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961" name="Object 2"/>
          <p:cNvGraphicFramePr/>
          <p:nvPr/>
        </p:nvGraphicFramePr>
        <p:xfrm>
          <a:off x="5715000" y="1828800"/>
          <a:ext cx="885960" cy="2819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1828800"/>
                    <a:ext cx="88596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TextBox 3"/>
          <p:cNvSpPr/>
          <p:nvPr/>
        </p:nvSpPr>
        <p:spPr>
          <a:xfrm>
            <a:off x="1357200" y="1285920"/>
            <a:ext cx="6643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4.36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对于没有用圆括号括起来初始值，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SAS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系统对前面列出的所有元素赋初始值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retai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nth1-month5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ear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b c </a:t>
            </a:r>
            <a:r>
              <a:rPr b="1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XYZ'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例句中，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RETAIN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语句设置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MONTH1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至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MONTH5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的初值为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1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，变量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YEAR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的初值为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0,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字符变量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A, B, C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的初值为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XYZ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4.37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对于用圆括号括起来初始值时，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SAS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系统对括号前的第一个变量赋初值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retai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th1-month5(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例句中，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RETAIN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语句分配初始值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1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给变量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month1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，而变量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month2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至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month5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初始值被置为缺失值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矩形 1"/>
          <p:cNvSpPr/>
          <p:nvPr/>
        </p:nvSpPr>
        <p:spPr>
          <a:xfrm>
            <a:off x="1143000" y="1285920"/>
            <a:ext cx="7215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4.3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创建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DATA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步数据视窗文件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黑体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class/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黑体"/>
              </a:rPr>
              <a:t>view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=class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黑体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Resdat.class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黑体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4.4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存储被编辑程序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黑体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class1(keep=name age weight)/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黑体"/>
              </a:rPr>
              <a:t>pgm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=cl;  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  <a:ea typeface="黑体"/>
              </a:rPr>
              <a:t>/*cl</a:t>
            </a: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黑体"/>
              </a:rPr>
              <a:t>是被存贮的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  <a:ea typeface="黑体"/>
              </a:rPr>
              <a:t>SAS</a:t>
            </a: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黑体"/>
              </a:rPr>
              <a:t>程序</a:t>
            </a: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黑体"/>
              </a:rPr>
              <a:t>*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  <a:ea typeface="黑体"/>
              </a:rPr>
              <a:t>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黑体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ResDat.class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黑体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25" name="矩形 2"/>
          <p:cNvSpPr/>
          <p:nvPr/>
        </p:nvSpPr>
        <p:spPr>
          <a:xfrm>
            <a:off x="1285920" y="4429080"/>
            <a:ext cx="6786360" cy="928800"/>
          </a:xfrm>
          <a:prstGeom prst="rect">
            <a:avLst/>
          </a:prstGeom>
          <a:noFill/>
          <a:ln w="25560">
            <a:solidFill>
              <a:srgbClr val="348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Times New Roman"/>
              </a:rPr>
              <a:t>NOTE: </a:t>
            </a:r>
            <a:r>
              <a:rPr b="0" lang="zh-CN" sz="1800" spc="-1" strike="noStrike">
                <a:solidFill>
                  <a:srgbClr val="080808"/>
                </a:solidFill>
                <a:latin typeface="Arial"/>
                <a:ea typeface="Times New Roman"/>
              </a:rPr>
              <a:t>已在文件 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Times New Roman"/>
              </a:rPr>
              <a:t>CL </a:t>
            </a:r>
            <a:r>
              <a:rPr b="0" lang="zh-CN" sz="1800" spc="-1" strike="noStrike">
                <a:solidFill>
                  <a:srgbClr val="080808"/>
                </a:solidFill>
                <a:latin typeface="Arial"/>
                <a:ea typeface="Times New Roman"/>
              </a:rPr>
              <a:t>中保存了 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Times New Roman"/>
              </a:rPr>
              <a:t>DATA STEP </a:t>
            </a:r>
            <a:r>
              <a:rPr b="0" lang="zh-CN" sz="1800" spc="-1" strike="noStrike">
                <a:solidFill>
                  <a:srgbClr val="080808"/>
                </a:solidFill>
                <a:latin typeface="Arial"/>
                <a:ea typeface="Times New Roman"/>
              </a:rPr>
              <a:t>程序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Times New Roman"/>
              </a:rPr>
              <a:t>NOTE: </a:t>
            </a:r>
            <a:r>
              <a:rPr b="0" lang="zh-CN" sz="1800" spc="-1" strike="noStrike">
                <a:solidFill>
                  <a:srgbClr val="080808"/>
                </a:solidFill>
                <a:latin typeface="Arial"/>
                <a:ea typeface="Times New Roman"/>
              </a:rPr>
              <a:t>存储的 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Times New Roman"/>
              </a:rPr>
              <a:t>DATA STEP </a:t>
            </a:r>
            <a:r>
              <a:rPr b="0" lang="zh-CN" sz="1800" spc="-1" strike="noStrike">
                <a:solidFill>
                  <a:srgbClr val="080808"/>
                </a:solidFill>
                <a:latin typeface="Arial"/>
                <a:ea typeface="Times New Roman"/>
              </a:rPr>
              <a:t>程序无法在不同的操作系统下运行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TextBox 3"/>
          <p:cNvSpPr/>
          <p:nvPr/>
        </p:nvSpPr>
        <p:spPr>
          <a:xfrm>
            <a:off x="1214280" y="1143000"/>
            <a:ext cx="6500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4.38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初始值列表的用法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retain varl-var4(</a:t>
            </a:r>
            <a:r>
              <a:rPr b="1" lang="sv-SE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1 2 3 4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retain varl-var4(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1,2,3,4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如果出现变量个数比初值个数多，剩余的变量用缺失值作为初始值，同时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SAS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系统发布一个警告信息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65" name="TextBox 4"/>
          <p:cNvSpPr/>
          <p:nvPr/>
        </p:nvSpPr>
        <p:spPr>
          <a:xfrm>
            <a:off x="1214280" y="3714840"/>
            <a:ext cx="64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Retain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语句是一个功能强大的语句，利用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retain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语句可以很方便地实现观测值累乘、缺失观测填充等复杂的数据处理。如下例所示：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矩形 3"/>
          <p:cNvSpPr/>
          <p:nvPr/>
        </p:nvSpPr>
        <p:spPr>
          <a:xfrm>
            <a:off x="1285920" y="785880"/>
            <a:ext cx="66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4.39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变量观测值累乘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sdat.class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tai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height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height=mheight*height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67" name="矩形 4"/>
          <p:cNvSpPr/>
          <p:nvPr/>
        </p:nvSpPr>
        <p:spPr>
          <a:xfrm>
            <a:off x="1428840" y="2571840"/>
            <a:ext cx="6643440" cy="3929040"/>
          </a:xfrm>
          <a:prstGeom prst="rect">
            <a:avLst/>
          </a:prstGeom>
          <a:solidFill>
            <a:srgbClr val="4ab1e4"/>
          </a:solidFill>
          <a:ln w="25560">
            <a:solidFill>
              <a:srgbClr val="348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bs    Name       Sex    Age    Height    Weight           mheight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    Alfred      M      14     69.0      112.5             69.00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    Alice       F      13     56.5       84.0           3898.50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3    Barbara     F      13     65.3       98.0         254572.05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   Carol       F      14     62.8      102.5       15987124.74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5    Henry       M      14     63.5      102.5     1015182420.99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6    James       M      12     57.3       83.0    58169952722.73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2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nn-NO" sz="1200" spc="-1" strike="noStrike">
                <a:solidFill>
                  <a:srgbClr val="ffffff"/>
                </a:solidFill>
                <a:latin typeface="Arial"/>
              </a:rPr>
              <a:t>7    Jane        F      12     59.8       84.5     3478563172819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8    Janet       F      15     62.5      112.5    2.174101983E14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9    Jeffrey     M      13     62.5       84.0    1.358813739E16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    John        M      12     59.0       99.5    8.017001062E17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11    Joyce       F      11     51.3       50.5    4.112721545E19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12    Judy        F      14     64.3       90.0    2.644479953E21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13    Louise      F      12     56.3       77.0    1.488842214E23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    Mary        F      15     66.5      112.0    9.900800722E24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15    Philip      M      16     72.0      150.0     7.12857652E26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16    Robert      M      12     64.8      128.0    4.619317585E28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17    Ronald      M      15     67.0      133.0    3.094942782E30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18    Thomas      M      11     57.5       85.0      1.7795921E32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    William     M      15     66.5      112.0    1.183428746E34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TextBox 1"/>
          <p:cNvSpPr/>
          <p:nvPr/>
        </p:nvSpPr>
        <p:spPr>
          <a:xfrm>
            <a:off x="1173240" y="112392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4.40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缺失值填充。变量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X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有缺失值，由前面的值填充变量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X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的缺失值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69" name="TextBox 2"/>
          <p:cNvSpPr/>
          <p:nvPr/>
        </p:nvSpPr>
        <p:spPr>
          <a:xfrm>
            <a:off x="1476360" y="1628640"/>
            <a:ext cx="18716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ar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70" name="TextBox 3"/>
          <p:cNvSpPr/>
          <p:nvPr/>
        </p:nvSpPr>
        <p:spPr>
          <a:xfrm>
            <a:off x="3132000" y="1906560"/>
            <a:ext cx="2519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1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tai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1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^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he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1=x;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*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在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x^=.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的情况下为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x1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赋值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x,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其它情况并没有为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x1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赋值，由于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retain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语句的作用，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x1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保留前面的值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,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这样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x1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不会有缺失值，起到填充的作用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*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x1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ro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1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71" name="矩形 4"/>
          <p:cNvSpPr/>
          <p:nvPr/>
        </p:nvSpPr>
        <p:spPr>
          <a:xfrm>
            <a:off x="6535800" y="1781280"/>
            <a:ext cx="2376360" cy="4824360"/>
          </a:xfrm>
          <a:prstGeom prst="rect">
            <a:avLst/>
          </a:prstGeom>
          <a:solidFill>
            <a:srgbClr val="4ab1e4"/>
          </a:solidFill>
          <a:ln w="25560">
            <a:solidFill>
              <a:srgbClr val="348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s      x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    100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     100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     100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       2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      35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      35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      35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       5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72" name="TextBox 5"/>
          <p:cNvSpPr/>
          <p:nvPr/>
        </p:nvSpPr>
        <p:spPr>
          <a:xfrm>
            <a:off x="5292720" y="1771560"/>
            <a:ext cx="12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数据集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A1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73" name="TextBox 6"/>
          <p:cNvSpPr/>
          <p:nvPr/>
        </p:nvSpPr>
        <p:spPr>
          <a:xfrm>
            <a:off x="928800" y="428760"/>
            <a:ext cx="607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Retain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</a:rPr>
              <a:t>语句的一个很好应用案例是填充变量的缺失值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785880" y="642600"/>
            <a:ext cx="76197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2060"/>
                </a:solidFill>
                <a:latin typeface="Times New Roman"/>
                <a:ea typeface="宋体"/>
              </a:rPr>
              <a:t>输出外部文件语句</a:t>
            </a:r>
            <a:r>
              <a:rPr b="1" lang="en-US" sz="3000" spc="-1" strike="noStrike">
                <a:solidFill>
                  <a:srgbClr val="002060"/>
                </a:solidFill>
                <a:latin typeface="Times New Roman"/>
                <a:ea typeface="宋体"/>
              </a:rPr>
              <a:t>FILE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999720" y="1999800"/>
            <a:ext cx="745812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FILE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用于规定将要输出的外部文件。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FILE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一般要与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UT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语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句配合使用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同一个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ATA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步可以用多个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FILE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FILE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是可执行语句，因而可以用在条件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F—THE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过程中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10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语句格式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黑体"/>
              </a:rPr>
              <a:t>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黑体"/>
              </a:rPr>
              <a:t>FILE file-specific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 &lt; options&gt; &lt; host-options&gt;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400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FILE-SPECIFICATION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选项说明：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976" name="Object 2"/>
          <p:cNvGraphicFramePr/>
          <p:nvPr/>
        </p:nvGraphicFramePr>
        <p:xfrm>
          <a:off x="1219320" y="4896000"/>
          <a:ext cx="59436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4896000"/>
                    <a:ext cx="59436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/>
          </p:nvPr>
        </p:nvSpPr>
        <p:spPr>
          <a:xfrm>
            <a:off x="1186920" y="980640"/>
            <a:ext cx="4032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OPTIONS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选项说明（部分）：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979" name=""/>
          <p:cNvGraphicFramePr/>
          <p:nvPr/>
        </p:nvGraphicFramePr>
        <p:xfrm>
          <a:off x="1187280" y="1700280"/>
          <a:ext cx="6912000" cy="4691160"/>
        </p:xfrm>
        <a:graphic>
          <a:graphicData uri="http://schemas.openxmlformats.org/drawingml/2006/table">
            <a:tbl>
              <a:tblPr/>
              <a:tblGrid>
                <a:gridCol w="2953080"/>
                <a:gridCol w="3958920"/>
              </a:tblGrid>
              <a:tr h="412560">
                <a:tc>
                  <a:txBody>
                    <a:bodyPr lIns="72000" rIns="0" tIns="72000" bIns="72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选项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72000" bIns="72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说明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72000" rIns="0" tIns="72000" bIns="72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DELIMITER= 'string-in-quotation-marks' |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character-variable/ DLM=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72000" bIns="72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指定列表输出时所用的分隔符，在别的输出形式中该选项不起作用。缺省情况下为空格。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72000" rIns="0" tIns="72000" bIns="72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DROPOVER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72000" bIns="72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规定当输出数据行的长度超过规定值时，忽略超过的部分。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440">
                <a:tc>
                  <a:txBody>
                    <a:bodyPr lIns="72000" rIns="0" tIns="72000" bIns="72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FLOWOVER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72000" bIns="72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规定当输出数据行的长度超过规定值时，超出部分在下一行输出。缺省状态为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FLOWOVER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。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72000" rIns="0" tIns="72000" bIns="72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DSD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72000" bIns="72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规定一个数据可以包含分隔符，要用引号括住。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72000" rIns="0" tIns="72000" bIns="72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FILENAME=variable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72000" bIns="72000" anchor="t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定义一个字符变量，其值为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PUT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语句打开的文件名。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2160">
                <a:tc>
                  <a:txBody>
                    <a:bodyPr lIns="72000" rIns="0" tIns="72000" bIns="72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FILEVAR=variable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72000" rIns="0" tIns="72000" bIns="72000" anchor="t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定义一个变量，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FILE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语句根据其值的变化关闭和打开输出文件。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/>
          </p:nvPr>
        </p:nvSpPr>
        <p:spPr>
          <a:xfrm>
            <a:off x="1692000" y="1196640"/>
            <a:ext cx="6264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4.41 filename=variable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选项应用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fi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pri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file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xxx;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输出到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OUTPUT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窗口，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put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语句打开的文件名为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print *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hello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       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  OUTPUT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窗口将输出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hello *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ame=xxx;         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数据集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a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中有一个变量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name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和一个观测值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print *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集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981" name=""/>
          <p:cNvGraphicFramePr/>
          <p:nvPr/>
        </p:nvGraphicFramePr>
        <p:xfrm>
          <a:off x="2700360" y="4581360"/>
          <a:ext cx="2089080" cy="898560"/>
        </p:xfrm>
        <a:graphic>
          <a:graphicData uri="http://schemas.openxmlformats.org/drawingml/2006/table">
            <a:tbl>
              <a:tblPr/>
              <a:tblGrid>
                <a:gridCol w="1044720"/>
                <a:gridCol w="1044360"/>
              </a:tblGrid>
              <a:tr h="449280">
                <a:tc>
                  <a:txBody>
                    <a:bodyPr lIns="72000" rIns="0" tIns="72000" bIns="72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72000" rIns="0" tIns="72000" bIns="72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72000" rIns="0" tIns="72000" bIns="72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72000" rIns="0" tIns="72000" bIns="72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PRINT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/>
          </p:nvPr>
        </p:nvSpPr>
        <p:spPr>
          <a:xfrm>
            <a:off x="1403280" y="1483920"/>
            <a:ext cx="640872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ata a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fi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d:\a.txt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file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xxx;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输出到文件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'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d:\a.txt'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，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put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语句打开的文件名为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d:\a.txt*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hello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              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文件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d:\a.txt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的内容为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: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hello*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fname=xxx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983" name=""/>
          <p:cNvGraphicFramePr/>
          <p:nvPr/>
        </p:nvGraphicFramePr>
        <p:xfrm>
          <a:off x="2700360" y="4581360"/>
          <a:ext cx="2089080" cy="865440"/>
        </p:xfrm>
        <a:graphic>
          <a:graphicData uri="http://schemas.openxmlformats.org/drawingml/2006/table">
            <a:tbl>
              <a:tblPr/>
              <a:tblGrid>
                <a:gridCol w="1044720"/>
                <a:gridCol w="1044360"/>
              </a:tblGrid>
              <a:tr h="433440">
                <a:tc>
                  <a:txBody>
                    <a:bodyPr lIns="72000" rIns="0" tIns="72000" bIns="72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72000" rIns="0" tIns="72000" bIns="72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fname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72000" rIns="0" tIns="72000" bIns="72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72000" rIns="0" tIns="72000" bIns="72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d:\a.txt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4" name="Text Box 15"/>
          <p:cNvSpPr/>
          <p:nvPr/>
        </p:nvSpPr>
        <p:spPr>
          <a:xfrm>
            <a:off x="1714680" y="4071960"/>
            <a:ext cx="3590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buClr>
                <a:srgbClr val="92d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                 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数据集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Rectangle 1028"/>
          <p:cNvSpPr/>
          <p:nvPr/>
        </p:nvSpPr>
        <p:spPr>
          <a:xfrm>
            <a:off x="1676520" y="1447920"/>
            <a:ext cx="57150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输出规定格式的外部文本文件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sDat.lstkinfo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%a(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,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);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i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"D:\stock.txt"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$ stkcd $ b $ lstknm $  c $ 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例中程序产生股票宏文本文档。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28400" y="713880"/>
            <a:ext cx="746748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2060"/>
                </a:solidFill>
                <a:latin typeface="Times New Roman"/>
                <a:ea typeface="宋体"/>
              </a:rPr>
              <a:t>定义外部数据文件语句</a:t>
            </a:r>
            <a:r>
              <a:rPr b="1" lang="en-US" sz="3000" spc="-1" strike="noStrike">
                <a:solidFill>
                  <a:srgbClr val="002060"/>
                </a:solidFill>
                <a:latin typeface="Times New Roman"/>
                <a:ea typeface="宋体"/>
              </a:rPr>
              <a:t>INFILE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1142640" y="205704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INFIL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用来定义一个外部数据文件，文件中的数据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INPU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读取。外部文件可以是已存在的磁盘文件，也可以是从键盘上输入的数据行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INFILE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file-specification &lt;option-list&gt;  &lt;host-option-list&gt;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FILE-SPECIFICATION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选项说明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EXTERNAL FILE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和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FILEREF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选项类似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FILFE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的相应选项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CARDS|CARDS4|DATALINES|DATALINES4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选项指明输入数据为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CARDS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（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CARDS4, DATALINES, DATALINES4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后面的数据流，而非来自外部数据文件。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Rectangle 4"/>
          <p:cNvSpPr/>
          <p:nvPr/>
        </p:nvSpPr>
        <p:spPr>
          <a:xfrm>
            <a:off x="2996640" y="1268640"/>
            <a:ext cx="32234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大部分选项的作用和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FILE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的一致。下面只介绍几个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INFILE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独有的选项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0" lang="en-US" sz="1800" spc="-1" strike="noStrike" u="sng">
                <a:solidFill>
                  <a:srgbClr val="f77a1d"/>
                </a:solidFill>
                <a:uFillTx/>
                <a:latin typeface="Times New Roman"/>
                <a:ea typeface="黑体"/>
                <a:hlinkClick r:id="rId1"/>
              </a:rPr>
              <a:t>OPTIONS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选项说明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989" name=""/>
          <p:cNvGraphicFramePr/>
          <p:nvPr/>
        </p:nvGraphicFramePr>
        <p:xfrm>
          <a:off x="1116000" y="2421000"/>
          <a:ext cx="7128000" cy="3789360"/>
        </p:xfrm>
        <a:graphic>
          <a:graphicData uri="http://schemas.openxmlformats.org/drawingml/2006/table">
            <a:tbl>
              <a:tblPr/>
              <a:tblGrid>
                <a:gridCol w="3564000"/>
                <a:gridCol w="3564000"/>
              </a:tblGrid>
              <a:tr h="387720">
                <a:tc>
                  <a:txBody>
                    <a:bodyPr lIns="72000" rIns="0" tIns="72000" bIns="72000" anchor="t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选项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72000" bIns="72000" anchor="t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说明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3320">
                <a:tc>
                  <a:txBody>
                    <a:bodyPr lIns="72000" rIns="0" tIns="72000" bIns="72000" anchor="t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DSD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72000" bIns="72000" anchor="t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规定若一个数据由引号括起，则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SAS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认为其包含的逗号是字符数据。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设定缺省分隔符为逗号。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两个连续分隔符中间数据为缺失。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读入时去掉数据的引号。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72000" rIns="0" tIns="72000" bIns="72000" anchor="t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END=variable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72000" bIns="72000" anchor="t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定义一个变量标记是否已经到达输入文件的结尾。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720">
                <a:tc>
                  <a:txBody>
                    <a:bodyPr lIns="72000" rIns="0" tIns="72000" bIns="72000" anchor="t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FIRSTOBS=record-number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72000" bIns="72000" anchor="t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规定从该记录行开始读入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72000" rIns="0" tIns="72000" bIns="72000" anchor="t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MISSOVER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72000" bIns="72000" anchor="t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阻止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INPUT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语句从下一个数据行读入数据，未赋值的变量设为缺失。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720">
                <a:tc>
                  <a:txBody>
                    <a:bodyPr lIns="72000" rIns="0" tIns="72000" bIns="72000" anchor="t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OBS=record-number | MAX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72000" rIns="0" tIns="72000" bIns="72000" anchor="t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规定要读入的记录数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矩形 5"/>
          <p:cNvSpPr/>
          <p:nvPr/>
        </p:nvSpPr>
        <p:spPr>
          <a:xfrm>
            <a:off x="1500120" y="1357200"/>
            <a:ext cx="507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4.5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用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DATA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步执行一个被存贮的编辑程序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黑体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黑体"/>
              </a:rPr>
              <a:t>pgm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=cl;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黑体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27" name="矩形 7"/>
          <p:cNvSpPr/>
          <p:nvPr/>
        </p:nvSpPr>
        <p:spPr>
          <a:xfrm>
            <a:off x="1571760" y="2857680"/>
            <a:ext cx="6286320" cy="1143000"/>
          </a:xfrm>
          <a:prstGeom prst="rect">
            <a:avLst/>
          </a:prstGeom>
          <a:noFill/>
          <a:ln w="25560">
            <a:solidFill>
              <a:srgbClr val="348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NOTE: DATA STEP </a:t>
            </a: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程序加载自文件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CL</a:t>
            </a: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NOTE: </a:t>
            </a: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从数据集 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RESDAT.CLASS. </a:t>
            </a: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读取了 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19 </a:t>
            </a: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个观测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NOTE: </a:t>
            </a: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数据集 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CLASS1 </a:t>
            </a: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有 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19 </a:t>
            </a: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个观测和 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3 </a:t>
            </a: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个变量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/>
          </p:nvPr>
        </p:nvSpPr>
        <p:spPr>
          <a:xfrm>
            <a:off x="1285560" y="1071720"/>
            <a:ext cx="5879880" cy="38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43 DELIMITER=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选项应用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infi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cards delimiter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,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x y z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3,6,9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,3,5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8,8,8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要输入的数据用逗号分隔，创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集时用选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ELIMITER=’,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。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1" name="Text Box 1024"/>
          <p:cNvSpPr/>
          <p:nvPr/>
        </p:nvSpPr>
        <p:spPr>
          <a:xfrm>
            <a:off x="1428840" y="5357880"/>
            <a:ext cx="92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数据集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992" name=""/>
          <p:cNvGraphicFramePr/>
          <p:nvPr/>
        </p:nvGraphicFramePr>
        <p:xfrm>
          <a:off x="2643120" y="4786200"/>
          <a:ext cx="2592360" cy="1551240"/>
        </p:xfrm>
        <a:graphic>
          <a:graphicData uri="http://schemas.openxmlformats.org/drawingml/2006/table">
            <a:tbl>
              <a:tblPr/>
              <a:tblGrid>
                <a:gridCol w="865080"/>
                <a:gridCol w="863640"/>
                <a:gridCol w="863640"/>
              </a:tblGrid>
              <a:tr h="38772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z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8808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8772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8772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Rectangle 4"/>
          <p:cNvSpPr/>
          <p:nvPr/>
        </p:nvSpPr>
        <p:spPr>
          <a:xfrm>
            <a:off x="1643040" y="1600200"/>
            <a:ext cx="628164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4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.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44DSD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选项应用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cores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infi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ards delimiter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</a:rPr>
              <a:t>',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in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est1 test2 test3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car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1,87,95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7,,92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1 , 1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例中，分隔符为逗号，但第二个观测值的两个相邻分隔符之间还有缺失值，没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D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选项时，这两个相邻的分隔符组成一个分隔符，于是，输入数据时会出错。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994" name=""/>
          <p:cNvGraphicFramePr/>
          <p:nvPr/>
        </p:nvGraphicFramePr>
        <p:xfrm>
          <a:off x="1979640" y="5300640"/>
          <a:ext cx="4914720" cy="1163520"/>
        </p:xfrm>
        <a:graphic>
          <a:graphicData uri="http://schemas.openxmlformats.org/drawingml/2006/table">
            <a:tbl>
              <a:tblPr/>
              <a:tblGrid>
                <a:gridCol w="1228680"/>
                <a:gridCol w="1230480"/>
                <a:gridCol w="1226880"/>
                <a:gridCol w="1228680"/>
              </a:tblGrid>
              <a:tr h="38772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test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test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test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8808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9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87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9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8772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97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9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/>
          </p:nvPr>
        </p:nvSpPr>
        <p:spPr>
          <a:xfrm>
            <a:off x="1476360" y="1413000"/>
            <a:ext cx="6696000" cy="30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上例加上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DSD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选项，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将两个相邻分隔符之间的数作为缺失值处理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scores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infi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cards delimiter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,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DS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test1 test2 test3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91,87,95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97,,9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 1 , 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通常情况下，同时加上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ISSOVER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和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SD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两个选项是良好的编程习惯。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996" name=""/>
          <p:cNvGraphicFramePr/>
          <p:nvPr/>
        </p:nvGraphicFramePr>
        <p:xfrm>
          <a:off x="1979640" y="4437000"/>
          <a:ext cx="4307040" cy="1550880"/>
        </p:xfrm>
        <a:graphic>
          <a:graphicData uri="http://schemas.openxmlformats.org/drawingml/2006/table">
            <a:tbl>
              <a:tblPr/>
              <a:tblGrid>
                <a:gridCol w="1076400"/>
                <a:gridCol w="1077840"/>
                <a:gridCol w="1076400"/>
                <a:gridCol w="1076400"/>
              </a:tblGrid>
              <a:tr h="38772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test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test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test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8772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9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87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9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8772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97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9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8772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571680" y="85680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应用举例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1219320" y="1828440"/>
            <a:ext cx="7619760" cy="6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4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.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45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登录锐思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RESSET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库网站（</a:t>
            </a:r>
            <a:r>
              <a:rPr b="0" lang="en-US" sz="1800" spc="-1" strike="noStrike" u="sng">
                <a:solidFill>
                  <a:srgbClr val="f77a1d"/>
                </a:solidFill>
                <a:uFillTx/>
                <a:latin typeface="Times New Roman"/>
                <a:ea typeface="宋体"/>
                <a:hlinkClick r:id="rId1"/>
              </a:rPr>
              <a:t>www.resset.cn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），选择股票库的退市信息表及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TXT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创建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集下载格式，得到利用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INFILE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导入外部数据文件的标准程序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9" name="Rectangle 6"/>
          <p:cNvSpPr/>
          <p:nvPr/>
        </p:nvSpPr>
        <p:spPr>
          <a:xfrm>
            <a:off x="0" y="0"/>
            <a:ext cx="455760" cy="36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000" name="TextBox 8"/>
          <p:cNvSpPr/>
          <p:nvPr/>
        </p:nvSpPr>
        <p:spPr>
          <a:xfrm>
            <a:off x="1357200" y="2643120"/>
            <a:ext cx="70009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80808"/>
                </a:solidFill>
                <a:latin typeface="Times New Roman"/>
              </a:rPr>
              <a:t>Data</a:t>
            </a:r>
            <a:r>
              <a:rPr b="0" lang="pt-BR" sz="1800" spc="-1" strike="noStrike">
                <a:solidFill>
                  <a:srgbClr val="080808"/>
                </a:solidFill>
                <a:latin typeface="Times New Roman"/>
              </a:rPr>
              <a:t> Res_sas.DELINFO_1(label="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退市信息</a:t>
            </a:r>
            <a:r>
              <a:rPr b="0" lang="pt-BR" sz="1800" spc="-1" strike="noStrike">
                <a:solidFill>
                  <a:srgbClr val="080808"/>
                </a:solidFill>
                <a:latin typeface="Times New Roman"/>
              </a:rPr>
              <a:t>");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Infile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'D:/Res_sas/DELINFO20120920132403996(1).txt'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delimiter = '09'x Missover Dsd lrecl=32767 firstobs=2 ;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Format Comcd $7.;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Format stkcd $6.;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Format Lstknm $12.;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Format Stkcdotrd $6.;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Format delstDt YYMMDD10.;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Format Lstdt YYMMDD10.;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Format Stkcdbfdelst $6.;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/>
          </p:nvPr>
        </p:nvSpPr>
        <p:spPr>
          <a:xfrm>
            <a:off x="1285920" y="928440"/>
            <a:ext cx="723888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Format Exchflg $1.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Format Stktype $1.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Format Thimktflg $1.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Format ISIN $12.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Format nobs 10.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Informat Comcd $7.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Informat stkcd $6.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Informat Lstknm $12.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Informat Stkcdotrd $6.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Informat delstDt YYMMDD10.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Informat Lstdt YYMMDD10.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Informat Stkcdbfdelst $6.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Informat Exchflg $1.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Informat Stktype $1.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Informat Thimktflg $1.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Informat ISIN $12.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Informat nobs 10.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Label Comcd="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公司代码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"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Label stkcd="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股票代码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"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Label Lstknm="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最新股票名称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"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/>
          </p:nvPr>
        </p:nvSpPr>
        <p:spPr>
          <a:xfrm>
            <a:off x="1285920" y="713880"/>
            <a:ext cx="72388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Label Stkcdotrd="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交易时股票代码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"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Label delstDt="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退市日期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"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Label Lstdt="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股票上市日期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"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Label Stkcdbfdelst="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退市前代码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"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Label Exchflg="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交易所标识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"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Label Stktype="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股票类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"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Label Thimktflg="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三板市场标识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"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Label ISIN="ISIN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编码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"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Label nobs="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观测序号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"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Input  Comcd  $  stkcd  $  Lstknm  $  Stkcdotrd  $  delstDt  Lstdt  Stkcdbfdelst  $  Exchflg  $  Stktype  $  Thimktflg  $  ISIN  $  nobs ; 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Run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03" name="Rectangle 2"/>
          <p:cNvSpPr/>
          <p:nvPr/>
        </p:nvSpPr>
        <p:spPr>
          <a:xfrm>
            <a:off x="1000080" y="5052600"/>
            <a:ext cx="75726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266760">
              <a:buClr>
                <a:srgbClr val="92d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例中，’</a:t>
            </a:r>
            <a:r>
              <a:rPr b="0" lang="da-DK" sz="1600" spc="-1" strike="noStrike">
                <a:solidFill>
                  <a:srgbClr val="080808"/>
                </a:solidFill>
                <a:latin typeface="Times New Roman"/>
              </a:rPr>
              <a:t>09’x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是</a:t>
            </a:r>
            <a:r>
              <a:rPr b="0" lang="da-DK" sz="1600" spc="-1" strike="noStrike">
                <a:solidFill>
                  <a:srgbClr val="080808"/>
                </a:solidFill>
                <a:latin typeface="Times New Roman"/>
              </a:rPr>
              <a:t>TAB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键的十六进制表示。标准程序除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Infile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语句的选项外，还包括由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Format 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InFormat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及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Label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语句规定变量的输出格式、输入格式及标签等。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500040" y="714240"/>
            <a:ext cx="51436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2060"/>
                </a:solidFill>
                <a:latin typeface="Times New Roman"/>
                <a:ea typeface="宋体"/>
              </a:rPr>
              <a:t>更新数据语句</a:t>
            </a:r>
            <a:r>
              <a:rPr b="1" lang="en-US" sz="3000" spc="-1" strike="noStrike">
                <a:solidFill>
                  <a:srgbClr val="002060"/>
                </a:solidFill>
                <a:latin typeface="Times New Roman"/>
                <a:ea typeface="宋体"/>
              </a:rPr>
              <a:t>UPDATE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05" name=""/>
          <p:cNvSpPr txBox="1"/>
          <p:nvPr/>
        </p:nvSpPr>
        <p:spPr>
          <a:xfrm>
            <a:off x="1143000" y="1714320"/>
            <a:ext cx="6929280" cy="32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UPDATE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通过修改数据集中的观测来更新一个主数据集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格式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UPDATE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 master-data-set &lt;(dsoptions IN=variable1)&gt; transaction-data-set &lt;(dsoptions 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IN=variable2)&gt; &lt;END=variable&gt; &lt;updatemode= missingcheck | nomissingcheck&gt;;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Times New Roman"/>
                <a:ea typeface="黑体"/>
              </a:rPr>
              <a:t>同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黑体"/>
              </a:rPr>
              <a:t>BY</a:t>
            </a:r>
            <a:r>
              <a:rPr b="0" lang="zh-CN" sz="14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一起使用的格式：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UPDATE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 master-data-set &lt;(dsoptions IN=variable1)&gt; transaction-data-set &lt;(dsoptions 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IN=variable2)&gt; &lt;END=variable&gt; &lt;updatemode= missingcheck | nomissingcheck&gt;;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BY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variable;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选项说明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1007" name=""/>
          <p:cNvGraphicFramePr/>
          <p:nvPr/>
        </p:nvGraphicFramePr>
        <p:xfrm>
          <a:off x="1285920" y="1714680"/>
          <a:ext cx="6357960" cy="3985920"/>
        </p:xfrm>
        <a:graphic>
          <a:graphicData uri="http://schemas.openxmlformats.org/drawingml/2006/table">
            <a:tbl>
              <a:tblPr/>
              <a:tblGrid>
                <a:gridCol w="2203560"/>
                <a:gridCol w="4154400"/>
              </a:tblGrid>
              <a:tr h="412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Master-Data-Set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规定主数据集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12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Dsoptions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规定对数据集进行的操作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Transaction-Data-Set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规定修改数据集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END=Variable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规定一个临时变量，作为文件结束的标识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BY Variable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规定共同的标识变量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96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Updatemode= Missingcheck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检查修改数据集，若有缺失值，则保留主数据集中相应数据。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Updatemode= Missingcheck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为缺省设置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Updatemode=Nomissingcheck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不检查修改数据集，若有缺失值，则将主数据集中的相应数据更新为缺失。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08" name=""/>
          <p:cNvGraphicFramePr/>
          <p:nvPr/>
        </p:nvGraphicFramePr>
        <p:xfrm>
          <a:off x="1285920" y="1714680"/>
          <a:ext cx="6410160" cy="3990960"/>
        </p:xfrm>
        <a:graphic>
          <a:graphicData uri="http://schemas.openxmlformats.org/drawingml/2006/table">
            <a:tbl>
              <a:tblPr/>
              <a:tblGrid>
                <a:gridCol w="6410160"/>
              </a:tblGrid>
              <a:tr h="399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00040" y="785880"/>
            <a:ext cx="657216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 </a:t>
            </a:r>
            <a:r>
              <a:rPr b="1" lang="en-US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MERGE</a:t>
            </a: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和</a:t>
            </a:r>
            <a:r>
              <a:rPr b="1" lang="en-US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UPDATE</a:t>
            </a: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的比较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10" name=""/>
          <p:cNvSpPr txBox="1"/>
          <p:nvPr/>
        </p:nvSpPr>
        <p:spPr>
          <a:xfrm>
            <a:off x="1143000" y="1714320"/>
            <a:ext cx="6929280" cy="32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MERGE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和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UPDATE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都能用于更新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集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当第二个数据集中有缺失数据时，若用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MERGE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，则主数据集中的相应数据自动更新为缺失。若用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UPDATE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，则可以通过选项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Updatemode=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控制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UPDATE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通过修改数据集来修改或更新变量，也可以添加新变量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应用举例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12" name="TextBox 3"/>
          <p:cNvSpPr/>
          <p:nvPr/>
        </p:nvSpPr>
        <p:spPr>
          <a:xfrm>
            <a:off x="1143000" y="1225440"/>
            <a:ext cx="4500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4.46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修改数据集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aster;     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*</a:t>
            </a: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创建主数据集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master 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d$ name$ age sasgrp$  height sex$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ar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211 GU   20 Y 170 F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212 YUAN 19 Y 165 F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213 HU   16 N 163 F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214 WANG 21 Y 178 M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215 ZHU  22 N 176 M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rans;    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*</a:t>
            </a: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创建修改数据集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trans 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d$  age sasgrp$  height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ar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211  .  N  .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212  .  Y   168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213 18  N  . 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214  .  Y   180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215 23  Y   176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013" name="TextBox 4"/>
          <p:cNvSpPr/>
          <p:nvPr/>
        </p:nvSpPr>
        <p:spPr>
          <a:xfrm>
            <a:off x="5857920" y="1571760"/>
            <a:ext cx="2571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w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pda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aster trans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d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pr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prin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1014" name=""/>
          <p:cNvGraphicFramePr/>
          <p:nvPr/>
        </p:nvGraphicFramePr>
        <p:xfrm>
          <a:off x="4143240" y="5072040"/>
          <a:ext cx="4643640" cy="1147680"/>
        </p:xfrm>
        <a:graphic>
          <a:graphicData uri="http://schemas.openxmlformats.org/drawingml/2006/table">
            <a:tbl>
              <a:tblPr/>
              <a:tblGrid>
                <a:gridCol w="4643640"/>
              </a:tblGrid>
              <a:tr h="19803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80808"/>
                          </a:solidFill>
                          <a:latin typeface="Terminal"/>
                          <a:ea typeface="Terminal"/>
                        </a:rPr>
                        <a:t>1     9211    GU       20      N         170      F</a:t>
                      </a:r>
                      <a:endParaRPr b="0" lang="en-US" sz="13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80808"/>
                          </a:solidFill>
                          <a:latin typeface="Terminal"/>
                          <a:ea typeface="Terminal"/>
                        </a:rPr>
                        <a:t>2     9212    YUAN     19      Y         168      F</a:t>
                      </a:r>
                      <a:endParaRPr b="0" lang="en-US" sz="13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80808"/>
                          </a:solidFill>
                          <a:latin typeface="Terminal"/>
                          <a:ea typeface="Terminal"/>
                        </a:rPr>
                        <a:t>3     9213    HU       18      N         163      F</a:t>
                      </a:r>
                      <a:endParaRPr b="0" lang="en-US" sz="13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80808"/>
                          </a:solidFill>
                          <a:latin typeface="Terminal"/>
                          <a:ea typeface="Terminal"/>
                        </a:rPr>
                        <a:t>4     9214    WANG     21      Y         180      M</a:t>
                      </a:r>
                      <a:endParaRPr b="0" lang="en-US" sz="13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80808"/>
                          </a:solidFill>
                          <a:latin typeface="Terminal"/>
                          <a:ea typeface="Terminal"/>
                        </a:rPr>
                        <a:t>5     9215    ZHU      23      Y         176      M</a:t>
                      </a:r>
                      <a:endParaRPr b="0" lang="en-US" sz="13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2d050"/>
                      </a:solidFill>
                    </a:lnT>
                    <a:lnB w="13680">
                      <a:solidFill>
                        <a:srgbClr val="92d05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5" name="TextBox 7"/>
          <p:cNvSpPr/>
          <p:nvPr/>
        </p:nvSpPr>
        <p:spPr>
          <a:xfrm>
            <a:off x="6072120" y="464328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更新后信息如下：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928800" y="114264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特殊数据集名 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29" name="Text Box 1031"/>
          <p:cNvSpPr/>
          <p:nvPr/>
        </p:nvSpPr>
        <p:spPr>
          <a:xfrm>
            <a:off x="1428840" y="2500200"/>
            <a:ext cx="578628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buClr>
                <a:srgbClr val="92d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_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data_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(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省略数据集名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30" name="TextBox 3"/>
          <p:cNvSpPr/>
          <p:nvPr/>
        </p:nvSpPr>
        <p:spPr>
          <a:xfrm>
            <a:off x="1571760" y="3143160"/>
            <a:ext cx="38574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_data_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 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</a:rPr>
              <a:t>等价于语句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data;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系统自动为数据集赋名：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1, data2,…, datan.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TextBox 3"/>
          <p:cNvSpPr/>
          <p:nvPr/>
        </p:nvSpPr>
        <p:spPr>
          <a:xfrm>
            <a:off x="1143000" y="1000080"/>
            <a:ext cx="6929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4.47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通过对主数据集中的变量重命名，避免被更新数据集覆盖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aster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d $ name $ weight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ar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14 sally 125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41 sue 145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50 joey 189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4 mark 165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04 joe 170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rans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d $ name $ weight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ar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14 sally 119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4 mark 174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04 joe 170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017" name="TextBox 4"/>
          <p:cNvSpPr/>
          <p:nvPr/>
        </p:nvSpPr>
        <p:spPr>
          <a:xfrm>
            <a:off x="4214880" y="1357200"/>
            <a:ext cx="435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w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pda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aster(rename=(weight=orig)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a)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(drop=name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b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d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and b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he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e=weight-orig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pr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prin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new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1018" name=""/>
          <p:cNvGraphicFramePr/>
          <p:nvPr/>
        </p:nvGraphicFramePr>
        <p:xfrm>
          <a:off x="4071960" y="4429080"/>
          <a:ext cx="4429080" cy="1463760"/>
        </p:xfrm>
        <a:graphic>
          <a:graphicData uri="http://schemas.openxmlformats.org/drawingml/2006/table">
            <a:tbl>
              <a:tblPr/>
              <a:tblGrid>
                <a:gridCol w="4429080"/>
              </a:tblGrid>
              <a:tr h="1463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Obs     id     name     orig    weight    change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1     1114    sally      125      119       -6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2     1441    sue         145        .        .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3     1750    joey       189        .        .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4     1994    mark      165      174        9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5     2304    joe         170      170        0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9" name="TextBox 6"/>
          <p:cNvSpPr/>
          <p:nvPr/>
        </p:nvSpPr>
        <p:spPr>
          <a:xfrm>
            <a:off x="4857840" y="407196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更新后信息如下：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2060"/>
                </a:solidFill>
                <a:latin typeface="Times New Roman"/>
                <a:ea typeface="宋体"/>
              </a:rPr>
              <a:t>修改数据语句</a:t>
            </a:r>
            <a:r>
              <a:rPr b="1" lang="en-US" sz="3000" spc="-1" strike="noStrike">
                <a:solidFill>
                  <a:srgbClr val="002060"/>
                </a:solidFill>
                <a:latin typeface="Times New Roman"/>
                <a:ea typeface="宋体"/>
              </a:rPr>
              <a:t>MODIFY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1143000" y="1714680"/>
            <a:ext cx="692928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MODIFY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扩充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ATA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步功能，它可以替代，删除或添加观测到一个已存在的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集上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MODIFY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是在没有备份的情况下处理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集，因此使用该语句可以节省磁盘空间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但该语句不能修改数据集的描述部分，如添加变量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格式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23" name=""/>
          <p:cNvSpPr txBox="1"/>
          <p:nvPr/>
        </p:nvSpPr>
        <p:spPr>
          <a:xfrm>
            <a:off x="1071720" y="1357200"/>
            <a:ext cx="69292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MODIFY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master-data-set &lt;(data-set-option(s))&gt; transaction-data-set &lt;(data-set-option(s))&gt; &lt;NOBS=variable&gt; &lt;END=variable&gt; &lt;UPDATEMODE=MISSINGCHECK|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NOMISSINGCHECK&gt;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BY by-variable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MODIFY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master-data-set &lt;(data-set-option(s))&gt; KEY=index &lt;/ UNIQUE&gt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&lt;NOBS=variable&gt; &lt;END=variable&gt; 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MODIFY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master-data-set &lt;(data-set-option(s))&gt; &lt;NOBS=variable&gt; POINT=variable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MODIFY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master-data-set &lt;(data-set-option(s))&gt; &lt;NOBS=variable&gt; &lt;END=variable&gt;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选项说明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1025" name=""/>
          <p:cNvGraphicFramePr/>
          <p:nvPr/>
        </p:nvGraphicFramePr>
        <p:xfrm>
          <a:off x="1071720" y="1413000"/>
          <a:ext cx="7000560" cy="5121000"/>
        </p:xfrm>
        <a:graphic>
          <a:graphicData uri="http://schemas.openxmlformats.org/drawingml/2006/table">
            <a:tbl>
              <a:tblPr/>
              <a:tblGrid>
                <a:gridCol w="2279520"/>
                <a:gridCol w="4721040"/>
              </a:tblGrid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Master-Data-Set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80808"/>
                      </a:solidFill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规定主数据集。主数据集必须同时写在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DATA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语句中。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80808"/>
                      </a:solidFill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731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Transaction-Data-Set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规定修改数据集。只有当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DATA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步中包含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BY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语句时才能使用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80808"/>
                      </a:solidFill>
                    </a:lnL>
                    <a:lnR>
                      <a:noFill/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by-variable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规定一个或多个变量作为相应观测的标识变量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80808"/>
                      </a:solidFill>
                    </a:lnL>
                    <a:lnR>
                      <a:noFill/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77a1d"/>
                          </a:solidFill>
                          <a:uFillTx/>
                          <a:latin typeface="Times New Roman"/>
                          <a:hlinkClick r:id="rId1"/>
                        </a:rPr>
                        <a:t>Nobs=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 Variable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规定一个临时变量，其值为输入数据集的观测总数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80808"/>
                      </a:solidFill>
                    </a:lnL>
                    <a:lnR>
                      <a:noFill/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End=Variable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规定一个临时变量，作为文件结束的标识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80808"/>
                      </a:solidFill>
                    </a:lnL>
                    <a:lnR>
                      <a:noFill/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77a1d"/>
                          </a:solidFill>
                          <a:uFillTx/>
                          <a:latin typeface="Times New Roman"/>
                          <a:hlinkClick r:id="rId2"/>
                        </a:rPr>
                        <a:t>Point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=Variable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规定一个临时变量控制读入的观测序号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80808"/>
                      </a:solidFill>
                    </a:lnL>
                    <a:lnR>
                      <a:noFill/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77a1d"/>
                          </a:solidFill>
                          <a:uFillTx/>
                          <a:latin typeface="Times New Roman"/>
                          <a:hlinkClick r:id="rId3"/>
                        </a:rPr>
                        <a:t>Key=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 Index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规定被修改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SAS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数据文件中的索引名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80808"/>
                      </a:solidFill>
                    </a:lnL>
                    <a:lnR>
                      <a:noFill/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77a1d"/>
                          </a:solidFill>
                          <a:uFillTx/>
                          <a:latin typeface="Times New Roman"/>
                          <a:hlinkClick r:id="rId4"/>
                        </a:rPr>
                        <a:t>Unique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规定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KEY=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总是从索引的开头开始搜索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80808"/>
                      </a:solidFill>
                    </a:lnL>
                    <a:lnR>
                      <a:noFill/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Updatemode= missingcheck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若修改数据集中有缺失值，则保留主数据集中相应数据。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Updatemode= Missingcheck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为缺省设置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80808"/>
                      </a:solidFill>
                    </a:lnL>
                    <a:lnR>
                      <a:noFill/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731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Updatemode= nomissingcheck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允许将主数据集中的相应数据更新为缺失。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80808"/>
                      </a:solidFill>
                    </a:lnL>
                    <a:lnR>
                      <a:noFill/>
                    </a:lnR>
                    <a:lnT w="5760">
                      <a:solidFill>
                        <a:srgbClr val="080808"/>
                      </a:solidFill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26" name=""/>
          <p:cNvGraphicFramePr/>
          <p:nvPr/>
        </p:nvGraphicFramePr>
        <p:xfrm>
          <a:off x="1042920" y="1413000"/>
          <a:ext cx="6986520" cy="5111640"/>
        </p:xfrm>
        <a:graphic>
          <a:graphicData uri="http://schemas.openxmlformats.org/drawingml/2006/table">
            <a:tbl>
              <a:tblPr/>
              <a:tblGrid>
                <a:gridCol w="6986520"/>
              </a:tblGrid>
              <a:tr h="511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数据集访问方式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28" name=""/>
          <p:cNvSpPr txBox="1"/>
          <p:nvPr/>
        </p:nvSpPr>
        <p:spPr>
          <a:xfrm>
            <a:off x="1143000" y="1714680"/>
            <a:ext cx="692928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匹配访问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通过索引直接访问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通过观测序号直接访问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顺序访问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修改观测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0" name=""/>
          <p:cNvSpPr txBox="1"/>
          <p:nvPr/>
        </p:nvSpPr>
        <p:spPr>
          <a:xfrm>
            <a:off x="1143000" y="1714680"/>
            <a:ext cx="692928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在包含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MODIFY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的数据步中，可以采用下面的语句往数据集中写入观测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1031" name=""/>
          <p:cNvGraphicFramePr/>
          <p:nvPr/>
        </p:nvGraphicFramePr>
        <p:xfrm>
          <a:off x="1571760" y="2925720"/>
          <a:ext cx="6072120" cy="3228840"/>
        </p:xfrm>
        <a:graphic>
          <a:graphicData uri="http://schemas.openxmlformats.org/drawingml/2006/table">
            <a:tbl>
              <a:tblPr/>
              <a:tblGrid>
                <a:gridCol w="1089000"/>
                <a:gridCol w="4983120"/>
              </a:tblGrid>
              <a:tr h="1109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Aft>
                          <a:spcPts val="7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OUTPUT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Aft>
                          <a:spcPts val="7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如果没有指定数据集，则将当前观测写入到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DATA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语句指定的所有数据集的最后；如果在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OUTPUT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语句指定了数据集，则写入该数据集最后。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23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Aft>
                          <a:spcPts val="7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REPLACE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Aft>
                          <a:spcPts val="7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改写指定数据集的当前观测，如果没有指定数据集，则改写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DATA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语句中指定的所有数据集的当前观测。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95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Aft>
                          <a:spcPts val="7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REMOVE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Aft>
                          <a:spcPts val="7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删除指定数据集的当前观测，如果没有指定数据集，则删除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DATA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语句中指定的所有数据集的当前观测。该删除可以是物理上的，也可以是逻辑上的，依赖于数据集所使用的引擎。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与</a:t>
            </a:r>
            <a:r>
              <a:rPr b="1" lang="en-US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UPDATE</a:t>
            </a: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等语句的比较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3" name=""/>
          <p:cNvSpPr txBox="1"/>
          <p:nvPr/>
        </p:nvSpPr>
        <p:spPr>
          <a:xfrm>
            <a:off x="1143000" y="1714680"/>
            <a:ext cx="692928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在数据步中使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MERG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E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或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UPDAT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时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创建了新的数据集。因此，新数据集的描述符可以和原来不同（如添加和删除变量，修改标签等）。但若使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MODIFY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只是在原来的数据集中进行修改，所以不能改变原数据集的描述符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若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MODIFY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中使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BY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，则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MODIFY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的效果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UPDAT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的非常类似，除了以下几点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在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MODIFY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中，主数据集和修改数据集的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BY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变量不需要事先排序或索引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MODIFY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中，主数据集和修改数据集的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BY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变量都可以有重复值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MODIFY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不能改变原数据集的描述符信息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应用举例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5" name=""/>
          <p:cNvSpPr txBox="1"/>
          <p:nvPr/>
        </p:nvSpPr>
        <p:spPr>
          <a:xfrm>
            <a:off x="1143000" y="1714320"/>
            <a:ext cx="6929280" cy="64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本节的例子均基于以下数据集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6" name="TextBox 3"/>
          <p:cNvSpPr/>
          <p:nvPr/>
        </p:nvSpPr>
        <p:spPr>
          <a:xfrm>
            <a:off x="1500120" y="2143080"/>
            <a:ext cx="7358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ock(index=(partno)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TNO $ DESC $ INSTOCK @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17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CDATE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date7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@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2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ICE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m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recdate </a:t>
            </a:r>
            <a:r>
              <a:rPr b="0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date7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ar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89R seal   34  27jul95 245.00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4J7 sander 98  20jun95 45.88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K43 filter 121 19may96 10.99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N21 brace 43   10aug96 27.87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85 clamp 80   16aug96 9.55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CF3 valve 198  20mar96 24.50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J66 cutter 6   18jun96 19.77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N7 rod  211   09sep96 11.55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D03 switch 383 09jan97 13.99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V1E timer 26   03jan97 34.50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"/>
          <p:cNvSpPr txBox="1"/>
          <p:nvPr/>
        </p:nvSpPr>
        <p:spPr>
          <a:xfrm>
            <a:off x="999720" y="3714480"/>
            <a:ext cx="692964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将所有观测的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recdate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改为今天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8" name="TextBox 3"/>
          <p:cNvSpPr/>
          <p:nvPr/>
        </p:nvSpPr>
        <p:spPr>
          <a:xfrm>
            <a:off x="1428840" y="1714680"/>
            <a:ext cx="435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例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4.48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修改所有观测。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ock;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odif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ock;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date=today();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"/>
          <p:cNvSpPr txBox="1"/>
          <p:nvPr/>
        </p:nvSpPr>
        <p:spPr>
          <a:xfrm>
            <a:off x="1142640" y="4929120"/>
            <a:ext cx="728676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这里自动变量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_iorc_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是一个自动变量，包含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MODIFY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尝试进行的每一次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I/O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操作的代码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40" name="TextBox 3"/>
          <p:cNvSpPr/>
          <p:nvPr/>
        </p:nvSpPr>
        <p:spPr>
          <a:xfrm>
            <a:off x="1428840" y="785880"/>
            <a:ext cx="4357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4.49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用修改数据集修改观测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ddinv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TNO $ NWSTOCK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ar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89R 55LK43 43MN21 73UYN7 108JD03 55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ock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odif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ock addinv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tno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DATE=today(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OCK=instock+nwstock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_iorc_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he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plac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4T03:57:00Z</dcterms:created>
  <dc:creator>微软用户</dc:creator>
  <dc:description/>
  <dc:language>en-US</dc:language>
  <cp:lastModifiedBy>zhushw</cp:lastModifiedBy>
  <dcterms:modified xsi:type="dcterms:W3CDTF">2013-08-04T09:28:20Z</dcterms:modified>
  <cp:revision>300</cp:revision>
  <dc:subject/>
  <dc:title>第1章 SAS软件入门</dc:title>
</cp:coreProperties>
</file>