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4C1-A490-47D2-861D-7CCDB1DEC4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1F03-9178-4CD4-8AC6-B7A0A4818099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682-9733-421C-8746-C8B2A83A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25A-1DB5-4C5D-80E2-9DFEBF7B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331A2-5681-4966-9F63-8BBC92D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5F75B-C535-40C7-A20A-C71AE7EE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213D6-D953-4036-8B73-9986106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11EDA-C9F4-49BD-ABAE-542BE3C8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C257B-8CB5-4CCC-B620-595472D8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938CD-C0B7-418D-B249-A5A0A32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0FB3A-3308-42F9-9327-7A6B9DFB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6D19B-4E33-431C-B4D7-1BFC5F3E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1DED7-BEF5-48D0-B3EA-F53905ED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B134F-46B0-4E26-97BE-353CA386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06E-1D10-4C1D-B250-C1A7160A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BBB01-8871-43A5-B9AC-F14625A2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9B1F1-D309-43DB-AF2D-691469D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667CF-3C68-44E9-B701-9DAE4C1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F7CA-3CA9-4E12-8EEE-80D7CFF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5E323-CC32-481E-B5D1-98FDCAFD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62A4C-3A72-43E9-AD93-B7BFAD5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DC866-6D2C-4A0C-9574-AB31D6D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ED755-0EBF-4508-BF80-669CE61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425E-2C8F-46CB-B51C-2C933B83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8CEEE-D450-4128-89D3-97234D3D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199-977C-4D99-9454-48781115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E3C52-7AA2-4180-910C-C777CF7F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E7571-81E1-48A9-8F38-57DAA311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C208-04BF-4FC6-AB4D-E4D39348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8BA2-5E94-4598-A800-F5F50F5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981CE-BB00-4C6D-A0EE-CA5BCBD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DC81-3B59-4A12-ADDD-A026684E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0937-0C5B-4C55-A13B-7587834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B21A3-A5F5-4AE2-8DE1-3BC94B9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BADEE-681A-4BA9-98D8-5CC5973E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F2F0-AAA0-44EB-9BC9-F2B59CED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9B3E-397D-4ADB-9397-EDBADF6E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9D2A-201F-4674-8566-439B02A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5182B-6304-4E2A-95FA-4238C1E5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D33F7-10CF-46EB-9531-F52EBD65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58EF0-849C-4AB3-9A24-73FFE204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DBDF1-699A-4B7F-970A-8DC1F5EC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7A3E2-B0DD-48D2-83F5-EDD6A82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78B07-1CD4-4B21-9A0D-43AAC26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0C0B1-61C6-4F6A-9B6A-D801AE1B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A929-8CE6-4D33-962F-44E156B0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6E8FD-B8D1-4CBE-BD44-AC1B13B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C52B-9D54-4ACD-8671-6505C2BD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74490-894C-48B6-A8B5-3EFF323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8D9D6-5DA6-4B73-98B1-22F52EC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31F9-0A52-4EB9-B54E-9779DD01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EEDED-AA85-4775-8293-E4CE38FC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D4951-9801-44EE-9614-0C3ADBE8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275B5-4C3D-4D9A-A010-EF21AEA0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F2B17-842D-42C2-9D4E-C0E5A269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7CE2A-E026-4393-978D-1C1500D1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BFD0C-5ECA-45DB-9F5A-33466762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74E45-47D3-425C-A7AF-8EAD99DE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FFF4-7517-4207-95CC-28FB8F5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CECFB-0C3C-4277-923C-154D3413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A8A52-D58F-415F-ADC8-B28E95E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5E466-941A-4BFC-AC4E-888CB0C7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50C2F-415D-4903-B703-4462D6E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FBB32-4EE7-4221-85D6-16E3F0B9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B629C-4E33-4DA1-B57F-43C73563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605D3-EFBE-4C4C-B96E-58F2842D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AFC1C-A242-4F68-A1E0-8D580FFC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1C481-F788-44DB-9C08-0AB378D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40CBD-FE45-4A28-ACCC-4CB1DE1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2E52-73A2-458E-9AAC-A27D8AE3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0FF70-E527-4FE9-875B-8B6CAB4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1677B-3436-4074-886C-38C86AAF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C4948-3364-4096-8F22-6F1EE77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8B378-3CBD-4C2F-8F06-CB6BB52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1C159-171F-4C9E-BDDA-4AB8DF5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6463C-BFC5-48EB-B5C3-6EB0F7EE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F340E-DBF0-45A0-9FAE-D9DFDFC8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83D0C-DCB1-4F06-BFCD-DCC07995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B132A-B055-4CD3-A0BF-E8124E3C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2C87-EF87-41BF-8ACF-B6E04CC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0D70-87EB-43C3-9210-6E140A6B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DD43-A937-4D0A-8855-F0656BE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FF5-127B-4F9B-9D53-08B299D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3ABF-B737-4E14-BB56-1F74ED8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A01-C20B-416A-8F2C-4BBF000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FD6-1737-4388-B708-D695AF77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B3FD-74FB-4ED9-9DE5-D17FEFE3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CF0-3099-4469-945B-C7CCD79B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BF22-7460-4496-8851-13BBF5C5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01CB-3F49-4F24-BFFD-B5CA073D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E3FD-1A2D-4AA9-9EDF-15337B45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A6D8-C459-446F-BFCF-4450163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F638-7D7B-41F6-930E-F32EE6B2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467-AD31-48BD-B2BD-44018B57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4183-94EE-4DB4-A953-61E33EB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3F25-D163-4236-9BA2-09C3E47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BB95-38D4-49FD-9C3C-6B49889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99DB-34A9-4AD1-8209-990AF5FC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3B9E-0822-44A0-99DF-79CCE479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C8A8-30E1-4825-A7E6-06AD9650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4DD3-6339-4747-800B-C174DBA5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FFA1-7D15-47A4-9AA4-AD430735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7BA9-3F2C-4BDD-9E6E-5327A271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B652-BE3B-4A16-9074-BF4F04A8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CAD-5FFB-4522-AF4D-0CAD2C29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88E3-AA44-4C62-8966-C6538609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62C0-BDC4-4162-935D-6FAA7953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E14F-733A-407E-886D-5875FDD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2379-CAA2-4121-A868-E33D71E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A255-CDCF-40FC-9BF8-29AE8FE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1A4F-2D62-4E7C-A5FE-5E1C4E7D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0208-B118-4AF6-A198-6075847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0D8E-C08C-4EFB-8CF1-9A0A17C4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8BDC-76AB-427A-949F-24DCE9B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C021-8E8E-4DD7-BA14-8DC60C84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8B2-6A9F-47DB-B31D-0520FDE1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E394-D296-41A9-A54A-65D3546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15CB-5E9B-4F68-8226-FA60C6A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EB9A5-563D-4554-99DF-FB7C25D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3196-50A4-42F1-85DB-92E5A48B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BD342-9D15-4CCD-8D8F-4E847C32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641B-AAD3-45A6-B8A1-78C93A4E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BF7D9-C3C6-486D-9342-4553A82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D581C-0687-4DFE-AAC1-B9CE362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A342-44D1-4AAD-9A40-9DBF2C0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87D0-9873-44E5-9C77-384155BD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64E-6D5A-4EA6-8A8B-456D891A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8B92-4C4F-4EB1-B049-0560B531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8041-F671-431F-BFA2-C72A41AF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1FF6D-A4F1-4419-918C-58081E1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4168-2318-4FB2-91E4-7877A00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4BAFB-0DEE-489F-8D31-C58AFDD5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8D78-1E87-4DDF-A943-8C0A382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EB09-AD50-4CF8-BEEF-89D143A6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545C-9AC0-4767-857B-5694083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1221-9EE6-4875-AD75-FEF90DA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E71A-9A55-4F28-BE54-31AB02C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A20-500E-4983-B5B2-D13470B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ED561-380F-4B2F-9A79-24ADA6D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12A8-DB08-4131-B78C-C96E3477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6430-4E93-4383-AA63-47BA365B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4B47B-D498-4BD2-9194-BE8E84D4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E3F15-7E9C-450C-B714-144F338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AE5C-8EB2-4971-A716-48FF1546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DD00-B13C-4CDC-8CD4-A3D5F994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380C-076B-44A2-9BF0-4F55ABF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D55F8-2B54-47C6-9F41-77A7208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337C-F696-4B7E-A24D-7DD53E1D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8DD-4E94-471E-A244-36F8889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DD21-05C2-4648-B450-1D840A4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B139-796A-43B8-842A-723F315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5BCD3-5BFB-4759-A824-6C1F93DB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05B43-8322-4531-8AF3-B5070733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2F151-B61F-4B9A-9A2B-2352B5E5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D5992-F784-4393-8908-8393752E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49D06-C28E-4D61-8C9B-BA5807ED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91578-D34B-427B-88EB-A632073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CCFDA-6D57-4D76-9541-3F298599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05ABD-4F3A-47CB-9E27-0889DC56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F21-2FB7-4526-A1E9-874EE2F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CCF5-772C-4681-AD0D-4A263FF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7D94-6129-47E0-9B37-6F4D07B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EF943-4815-4CE1-9C9B-947E581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77AEA-210E-41BD-A1BC-73B0125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D3A7-CB7A-4F9B-B41B-990CC21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BC856-8CEE-44B6-B2D4-B39B90F6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3D20-8CD4-469B-A46E-9B7549B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6C81C-C910-4151-B3D9-85F3D3FB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77844-6755-4C09-8E5D-5532A6E9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8EAE1-0288-4E6A-B007-3392627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4D5-6386-4801-ABAB-E99057F346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73C5-1AE6-4285-A3DC-23B66C9B60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EE8-42A8-4B3F-94F7-642A5C129E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4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34B-B580-4177-ABB7-09ED3C17C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6947-6DA4-4695-BA68-7EDAAA5C7E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5B76-7875-46B3-B100-570302E83F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1357200" y="1785960"/>
            <a:ext cx="6572520" cy="4286160"/>
          </a:xfrm>
          <a:prstGeom prst="rect">
            <a:avLst/>
          </a:prstGeom>
          <a:solidFill>
            <a:srgbClr val="ffffff"/>
          </a:solidFill>
          <a:ln w="0">
            <a:solidFill>
              <a:srgbClr val="3481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285920" y="185724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B34-810C-40D7-8E2C-EC3BB6D901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565-C436-46D6-9DBB-0E64B2F78B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A8C2-D8F6-49B0-9ABC-65938A38BE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CADF-EE36-490D-B427-3574DF8E7C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2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A4F-833F-4478-8975-BB8116DF86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EB3B-D0B0-46EF-BBDB-E8F360D53D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4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SQL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过程编程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4"/>
          <p:cNvSpPr/>
          <p:nvPr/>
        </p:nvSpPr>
        <p:spPr>
          <a:xfrm>
            <a:off x="1403280" y="1559880"/>
            <a:ext cx="661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ESCREIB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可以查看每个表词典是如何定义的，如：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ctionary.tabl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类似的，可以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ESCRIBE VIEW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查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HEL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视图是如何构造的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shelp.vtabl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1763640" y="3933720"/>
          <a:ext cx="5616720" cy="198144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9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65  proc sql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66     describe view sashelp.vtable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QL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视图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HELP.VTABL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为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elect *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rom DICTIONARY.TABLES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67  qui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DICTIONARY.TABLES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1968480" y="1794600"/>
            <a:ext cx="5175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4.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检索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RESDA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逻辑库下所有永久性表和视图的信息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out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All Tables and Views in the RESDAT Librar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, memname, memtype, nob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ictionary.tabl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RES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571760" y="3929040"/>
          <a:ext cx="6337080" cy="228600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l Tables and Views in the RESDAT Library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ibrary                                  Member        Number of Physic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ame       Member Name           Type            Observat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--------------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BANKIR                DATA               10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BCHMKIR              DATA              8048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BDID                       DATA               1480 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DICTIONARY.COLUMNS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1565280" y="1924920"/>
            <a:ext cx="518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4.4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找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RESDA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逻辑库下所有含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Stkc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的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  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out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All Tables that Contain the Stkcd Colum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, memname,nam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ictionary.column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Stkcd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RES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  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643040" y="4000680"/>
          <a:ext cx="5329440" cy="2011320"/>
        </p:xfrm>
        <a:graphic>
          <a:graphicData uri="http://schemas.openxmlformats.org/drawingml/2006/table">
            <a:tbl>
              <a:tblPr/>
              <a:tblGrid>
                <a:gridCol w="53294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l Tables that Contain the Stkcd Column 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ame      Member Name                  Column 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---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DIST                             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DRET                            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HALT                            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QL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中使用宏工具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是一个很强大的编程工具，使用宏可以避免大量重复工作，改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的性能和用途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QL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中创建宏变量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402920" y="2204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工具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:macro-variab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储存查询结果。该结果可以通过宏变量被其它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引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一个查询结果中有多个观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则该宏变量只包含第一个观测的值。如果这个查询结果中没有观测，则不会创建宏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自动宏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QLOB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了查询所产生的观测数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&lt;DISTINCT&gt; object-item &lt; ...object-item&gt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INTO macro-variable-specification &lt; ... macro-variable-specification&gt;&gt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OM from-li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由查询结果的第一个观测创建宏变量</a:t>
            </a:r>
            <a:r>
              <a:rPr b="1" lang="zh-TW" sz="28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1116000" y="2259360"/>
            <a:ext cx="6840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N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子句中设定一个宏变量，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会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中相应列的第一个观测值赋给该宏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4.5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将最新股票信息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sDat.lstkinf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中第一个观测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tkc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赋值给宏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tkc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%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把宏变量的内容写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日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,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stkcd,: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stkcd &amp;lstknm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786120" y="3786120"/>
          <a:ext cx="5143680" cy="277344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27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39  proc sql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0  select stkcd,lstkn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1  into :stkcd,:lstkn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2  from resdat.lstkinfo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3  quit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4  %put &amp;stkcd &amp;lstknm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1 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深发展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5214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从汇总函数结果中创建宏变量</a:t>
            </a:r>
            <a:r>
              <a:rPr b="1" lang="zh-TW" sz="28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2492640" y="1787400"/>
            <a:ext cx="3968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宏变量的一个比较有用的特性就是可以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标题中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4.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找出某只股票历年的最高收益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(yrret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myrr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yrre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00000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最高年收益为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&amp;myrret.%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,date,yrre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yrr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00000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2247840" y="4714920"/>
          <a:ext cx="4753080" cy="1798560"/>
        </p:xfrm>
        <a:graphic>
          <a:graphicData uri="http://schemas.openxmlformats.org/drawingml/2006/table">
            <a:tbl>
              <a:tblPr/>
              <a:tblGrid>
                <a:gridCol w="475308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最高年收益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.340115%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股票代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|Sto            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年收益率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|Ye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k Code   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日期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|Date    rly Retur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2        1992-12-31        1.40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2        1993-12-31        0.092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2        1994-12-30       -0.540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56760" y="84600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在宏变量中实现连接</a:t>
            </a:r>
            <a:r>
              <a:rPr b="1" lang="zh-TW" sz="28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1403280" y="2429280"/>
            <a:ext cx="62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可以将一个列的值连接到一个宏变量中。这在建立一列宏变量和常数的时候非常有用。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PARATED BY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关键词设定一个字符来分隔宏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4.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nob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限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roc sq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读入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个观测，再将其读入到宏变量中。一般用逗号或空格来分隔宏变量的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stkcds separated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,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stkc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403280" y="1844640"/>
          <a:ext cx="6481800" cy="36576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97  proc sql inobs=3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98  select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99  into :stkcds separated by ','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0  from resdat.lstkinfo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ARNING: Only 3 records were read from RESDAT.LSTKINFO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由于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OBS=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选项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1  qui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2  %put &amp;stkcds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1,000002,0000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宏创建表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57200" y="1500120"/>
            <a:ext cx="662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4.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用宏计算制定代码和年份的股票交易天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rday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stkcd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trdays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rad(stkcd,year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 count(*) into :cou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ResDat.dr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stkcd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stkc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year(date)=&amp;year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 trdays(stkcd,trdays) values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stkc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&amp;count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0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0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1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1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lang="en-US" sz="36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5920" y="1642680"/>
            <a:ext cx="6286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建立和调试查询 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优化查询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表词典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(dictionary tables)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以及作用。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如何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中使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如何使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传输系统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(ODS)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来对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进行格式化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80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QL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来建立和调试查询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(OPTIONS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对查询进行控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OBS=, OUTOB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OP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通过限制观测和反复的数量来减少程序运行的时间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XEC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LI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快速检查查询的语法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EEDBAC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展示出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 *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所选中的列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 STIM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记录和展示查询运行的时间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4"/>
          <p:cNvSpPr/>
          <p:nvPr/>
        </p:nvSpPr>
        <p:spPr>
          <a:xfrm>
            <a:off x="1699560" y="1552680"/>
            <a:ext cx="299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edb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yrre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日志信息如下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763640" y="2924280"/>
          <a:ext cx="6161040" cy="2835000"/>
        </p:xfrm>
        <a:graphic>
          <a:graphicData uri="http://schemas.openxmlformats.org/drawingml/2006/table">
            <a:tbl>
              <a:tblPr/>
              <a:tblGrid>
                <a:gridCol w="6161040"/>
              </a:tblGrid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6  proc sql feedback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7  select * from resdat.yrre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tatement transforms to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elect YRRET.Stkcd, YRRET.Lstknm, YRRET.Date, YRRET.Yrtrds, YRRET.Yrre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rom RESDAT.YRRE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8  qui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2327760" y="935640"/>
            <a:ext cx="39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4.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比较普通查询语句与包含子查询的查询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tim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new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.stkcd,b.dret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lstkinfo a,ResDat.dret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.stkcd=b.stkcd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.stk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A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428840" y="2714760"/>
          <a:ext cx="6697440" cy="3749400"/>
        </p:xfrm>
        <a:graphic>
          <a:graphicData uri="http://schemas.openxmlformats.org/drawingml/2006/table">
            <a:tbl>
              <a:tblPr/>
              <a:tblGrid>
                <a:gridCol w="6697440"/>
              </a:tblGrid>
              <a:tr h="37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4   proc sql stimer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5   create table new as select a.stkcd,b.dr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6   from resdat.lstkinfo a,resdat.dret 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7   where a.stkcd=b.stkcd and a.stktype='A'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表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ORK.NEW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完成，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9339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行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4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4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8   quit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1926000" y="1204920"/>
            <a:ext cx="4187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ime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,dret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dret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type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619280" y="2855880"/>
          <a:ext cx="5832360" cy="399276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39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9   proc sql stimer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0  create table new as select stkcd,dr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1  from resdat.dr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2  where stkcd in (select stkcd from resdat.lstkinf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3                  where stktype='A')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表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ORK.NEW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完成，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9339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行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7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7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4  quit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5"/>
          <p:cNvSpPr/>
          <p:nvPr/>
        </p:nvSpPr>
        <p:spPr>
          <a:xfrm>
            <a:off x="1071720" y="2060640"/>
            <a:ext cx="65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比较两个查询的运行时间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第一个使用连接查询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时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0.0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秒，第二个使用子查询语句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时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0.0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秒。一般来说，一个连接会比同等情况的子查询运行起来要快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优化查询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190160" y="1428840"/>
            <a:ext cx="7239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优化查询的方法包括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简单索引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nde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复杂索引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omposite index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算符连接查询结果时，如果事先知道查询结果中没有重复的观测，或者允许结果有重复观测，可以使用关键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l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来优化查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在创建表和视图时不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 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线内视图代替临时表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连接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joi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代替子查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限制结果表的大小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用表词典来访问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系统信息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71360" y="1571400"/>
            <a:ext cx="7358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表词典（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DICTIONARY table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）是特殊的只读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表。这些表包含所有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逻辑库、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表、系统选项以及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 SESSION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有关的外部文件信息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3-04T03:14:24Z</dcterms:modified>
  <cp:revision>695</cp:revision>
  <dc:subject/>
  <dc:title>第1章 SAS软件入门</dc:title>
</cp:coreProperties>
</file>