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  <p:sldId id="364" r:id="rId126"/>
    <p:sldId id="365" r:id="rId127"/>
    <p:sldId id="366" r:id="rId128"/>
    <p:sldId id="367" r:id="rId129"/>
    <p:sldId id="368" r:id="rId130"/>
    <p:sldId id="369" r:id="rId131"/>
    <p:sldId id="370" r:id="rId132"/>
    <p:sldId id="371" r:id="rId133"/>
    <p:sldId id="372" r:id="rId134"/>
    <p:sldId id="373" r:id="rId135"/>
    <p:sldId id="374" r:id="rId136"/>
    <p:sldId id="375" r:id="rId137"/>
    <p:sldId id="376" r:id="rId138"/>
    <p:sldId id="377" r:id="rId139"/>
    <p:sldId id="378" r:id="rId140"/>
    <p:sldId id="379" r:id="rId141"/>
    <p:sldId id="380" r:id="rId142"/>
    <p:sldId id="381" r:id="rId143"/>
    <p:sldId id="382" r:id="rId144"/>
    <p:sldId id="383" r:id="rId145"/>
    <p:sldId id="384" r:id="rId146"/>
    <p:sldId id="385" r:id="rId147"/>
    <p:sldId id="386" r:id="rId148"/>
    <p:sldId id="387" r:id="rId149"/>
    <p:sldId id="388" r:id="rId150"/>
    <p:sldId id="389" r:id="rId151"/>
    <p:sldId id="390" r:id="rId152"/>
    <p:sldId id="391" r:id="rId153"/>
    <p:sldId id="392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slide" Target="slides/slide109.xml"/><Relationship Id="rId127" Type="http://schemas.openxmlformats.org/officeDocument/2006/relationships/slide" Target="slides/slide110.xml"/><Relationship Id="rId128" Type="http://schemas.openxmlformats.org/officeDocument/2006/relationships/slide" Target="slides/slide111.xml"/><Relationship Id="rId129" Type="http://schemas.openxmlformats.org/officeDocument/2006/relationships/slide" Target="slides/slide112.xml"/><Relationship Id="rId130" Type="http://schemas.openxmlformats.org/officeDocument/2006/relationships/slide" Target="slides/slide113.xml"/><Relationship Id="rId131" Type="http://schemas.openxmlformats.org/officeDocument/2006/relationships/slide" Target="slides/slide114.xml"/><Relationship Id="rId132" Type="http://schemas.openxmlformats.org/officeDocument/2006/relationships/slide" Target="slides/slide115.xml"/><Relationship Id="rId133" Type="http://schemas.openxmlformats.org/officeDocument/2006/relationships/slide" Target="slides/slide116.xml"/><Relationship Id="rId134" Type="http://schemas.openxmlformats.org/officeDocument/2006/relationships/slide" Target="slides/slide117.xml"/><Relationship Id="rId135" Type="http://schemas.openxmlformats.org/officeDocument/2006/relationships/slide" Target="slides/slide118.xml"/><Relationship Id="rId136" Type="http://schemas.openxmlformats.org/officeDocument/2006/relationships/slide" Target="slides/slide119.xml"/><Relationship Id="rId137" Type="http://schemas.openxmlformats.org/officeDocument/2006/relationships/slide" Target="slides/slide120.xml"/><Relationship Id="rId138" Type="http://schemas.openxmlformats.org/officeDocument/2006/relationships/slide" Target="slides/slide121.xml"/><Relationship Id="rId139" Type="http://schemas.openxmlformats.org/officeDocument/2006/relationships/slide" Target="slides/slide122.xml"/><Relationship Id="rId140" Type="http://schemas.openxmlformats.org/officeDocument/2006/relationships/slide" Target="slides/slide123.xml"/><Relationship Id="rId141" Type="http://schemas.openxmlformats.org/officeDocument/2006/relationships/slide" Target="slides/slide124.xml"/><Relationship Id="rId142" Type="http://schemas.openxmlformats.org/officeDocument/2006/relationships/slide" Target="slides/slide125.xml"/><Relationship Id="rId143" Type="http://schemas.openxmlformats.org/officeDocument/2006/relationships/slide" Target="slides/slide126.xml"/><Relationship Id="rId144" Type="http://schemas.openxmlformats.org/officeDocument/2006/relationships/slide" Target="slides/slide127.xml"/><Relationship Id="rId145" Type="http://schemas.openxmlformats.org/officeDocument/2006/relationships/slide" Target="slides/slide128.xml"/><Relationship Id="rId146" Type="http://schemas.openxmlformats.org/officeDocument/2006/relationships/slide" Target="slides/slide129.xml"/><Relationship Id="rId147" Type="http://schemas.openxmlformats.org/officeDocument/2006/relationships/slide" Target="slides/slide130.xml"/><Relationship Id="rId148" Type="http://schemas.openxmlformats.org/officeDocument/2006/relationships/slide" Target="slides/slide131.xml"/><Relationship Id="rId149" Type="http://schemas.openxmlformats.org/officeDocument/2006/relationships/slide" Target="slides/slide132.xml"/><Relationship Id="rId150" Type="http://schemas.openxmlformats.org/officeDocument/2006/relationships/slide" Target="slides/slide133.xml"/><Relationship Id="rId151" Type="http://schemas.openxmlformats.org/officeDocument/2006/relationships/slide" Target="slides/slide134.xml"/><Relationship Id="rId152" Type="http://schemas.openxmlformats.org/officeDocument/2006/relationships/slide" Target="slides/slide135.xml"/><Relationship Id="rId153" Type="http://schemas.openxmlformats.org/officeDocument/2006/relationships/slide" Target="slides/slide136.xml"/><Relationship Id="rId154" Type="http://schemas.openxmlformats.org/officeDocument/2006/relationships/slide" Target="slides/slide137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6E10-1E33-4023-94ED-B1FEE832C7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677-F7DB-4204-9843-2ECD3C5698A5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834-D2AE-48BC-A15E-B73A1295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A4F-06E6-497B-948D-1601C5E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50B4-822D-4AFA-A837-CABE9A60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1ECD1-53D4-458F-848D-0858BFC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FF96-B852-4C20-BC5E-8B04981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F1C5-D74C-46C6-81FC-10B6503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68E7-3D09-4351-AFA2-1400A4C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FB632-F34B-4247-9502-D749FB3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815D7-66B2-4D30-B916-E7DFC339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08D71-338E-4647-A93E-C8EDB1C6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B1E5A-19E2-44F7-AAE2-B49CF31D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55635-A6A1-4FFE-8F9A-9CFFB893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F34-BE40-448B-BBC3-4FA2E658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4C021-DFF7-4701-AE2D-B35AB1FD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1084A-7CF3-4468-BB5F-701E4549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EE8F0-E7F5-452C-87E1-E8D2AA1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630E8-5F48-4A0C-8F85-14318CA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3B05A-4CAB-45D5-9FA5-A87C62B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5D971-9030-4E77-80AF-A104E6AE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97929-7FBD-4A88-800C-A0341D0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4A04E-25FE-4E9A-8220-22ADF00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595F5-3D06-4C62-878C-6B53EAC5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6986E-CFDA-4BEF-ACD9-84FF0D9D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62A-8FF9-4F82-A002-37A5C5DF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2B703-56EF-4AEA-8F97-2E91C11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776AF-5C9E-450D-BC08-A49235F1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49B43-9410-4A09-BCAE-DAF6DAA4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84DCB-36DA-4B2A-80A3-4B26E2C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B579-85E9-44CE-B4BC-062A085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DD6C7-8A31-4748-A282-5D69DA7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77BE-5A37-458D-88D0-1017F09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68DD6-D944-4C3F-8B85-0FAE8623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BBD26-9213-4C41-A7C4-34C8D65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72335-9CA5-4201-A796-1DDC64A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D5E4-7A28-4CF3-B4C1-33C36DED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C406D-BDA8-49C8-8E03-17B30467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25977-65C2-4424-81FF-01A954AA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44BB-9945-4443-99F5-4E2FFF5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AAF55-BDC9-4D02-A5F0-CAA8704B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CA01F-876F-437C-B599-200AB98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82563-BC3C-42B0-88D4-04BDFFAE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0EF2F-B207-4DA6-A000-0500956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A6BFD-44D8-4757-99C5-0D03FBA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5DD86-DEBE-4745-947A-A28BB5AC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7859E-6736-4AC8-B4B8-D1B127E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0EFA-B8B3-4AF6-B783-0B7E1909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7BC94-8F62-4E08-9DEA-C273A300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F6A12-66DA-40A2-A217-1B15793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675D-62E5-4C6C-AA70-C795C8B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AB923-BF4D-4FDB-86F4-08A10A48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81FC4-C5E7-4CC4-90F0-0EFD2A6F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C9531-A2A9-4CD5-B032-98776E39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9CB00-2686-4BDE-A59C-A1C9A2E1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AB57B-B4C8-4871-8317-7A91221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DA364-47B9-41BC-A26C-85452861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059A0-E81A-40CF-B7C6-7B63BCBE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36B-0740-4FFB-BE08-CDF3B30D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DB567-8A45-470F-B92B-CD60126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BDDA3-148C-4A8B-8364-4550FB5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0C57A-FA85-49A9-B8E2-FBE37D0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4FB09-FA9B-4A55-8ABD-B505CE4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D0372-3D95-4515-82D3-08431EE0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88C7C-4166-4090-B899-57E794F4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639A1-8BB1-4718-9253-4D341249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E36DE-0B9C-497A-BBE9-62D6EA34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E6553-B973-40E1-9F1B-E6D5A9DD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07C9A-CF9B-46A2-9CAC-D5D8D891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31D-5078-4FBF-B566-64DC531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5BCEE-44E7-48A8-A527-68F4501B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C2CCE-F507-497E-9C0D-6E01AF2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52F10-D275-46F8-8236-695229A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9D28D-42D8-4FEA-8224-3476AC2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0998A-E0CA-4755-AB5D-2B670E4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7F6F2-7BBE-499B-8A24-2A7C512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94024-4152-4348-A3AC-4352EC6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47BD8-BAA5-4C9E-86B1-2ACD9843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4FEB3-9FF0-4473-8241-BE6D1C50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F7A-AC61-4037-B871-65AE4AF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B33B-5F14-40BF-84D7-840CAF89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2DB-3C69-47DF-BEFE-8305FCB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60-3CD2-4DC7-BFBE-065B1DF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19A2-6D69-4C24-AF8E-299E3F6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83C4-6A7A-4A24-8279-38E9C33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AA80-6883-4119-A1A8-6C7BCE6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9D1-FD58-4422-B2F0-008B02F0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4285-1E69-4054-BDF8-C3C84B48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D5E2-8F08-4592-925D-22EF0379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C5F0-D80D-4F49-8223-2DEA7B5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ECAE-080F-4981-8934-9F806555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7599-107F-48E6-B1DA-407BB8A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D466-AE92-4814-9AF2-ABF6FB4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35E-90DF-4244-BF91-E32C2BB1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A9B2-FCD8-48B8-9604-97CA6773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BDB3-00BE-4812-8FFF-BD5B897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6C0B-D8FF-4A22-B170-596C477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1D34-16F5-4F5D-A5A6-1F37465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3803-581F-413E-B491-10825546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E4D8-F32F-4AD4-B1A3-CEB5594B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C7B6-0A5F-4550-8182-3B47E678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CD8E-3071-4461-89DE-2FBDB0C2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6715-5F2A-4604-8887-5BA42DAE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D34F-C2A9-41B0-8726-222993BA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96A-8D8B-4510-AD91-59D5B6F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00C2-9771-45E7-A2CE-28E434C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42BC-9FF1-4FA8-8F9D-1C502B9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8E4E-96D0-441A-8875-2727EF6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E638-5AD9-4501-9044-229FC7B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898C-8193-435E-8E5E-F1381BE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458A-AC63-4258-8B23-87D9E10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9997-54A9-4D5A-9E22-1D26C1C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BC17-380C-462C-A975-9021E90C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E637-8730-46A0-9121-C88752D0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5BB9B-809F-445E-BAB8-3CDAFBCE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8C5-BE50-418A-92C7-C12CA182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55DF-9AE3-418A-9F60-A114402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B6D8-95BB-4BEB-B044-4ED20650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D587-CFA4-4EC6-97F1-93671D7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05AD-0073-4505-A853-13757A5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985F-CDB0-478F-B23A-03D24FF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C2F3-2686-48C9-9A39-5B668FA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A311-4404-4C7A-89C3-8AC3F65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3BEFF-8795-4193-9774-6D483C0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F1F6-51C9-4266-B1C0-D16BF51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7686-7AE0-43C9-8AD3-AA9A3323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FED-14EC-444B-9A37-8A6CA272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6C90-E6F7-4541-976D-9082008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6034A-1982-4359-BA03-FE1E21C5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CB8F-6241-48FF-82B9-0CB43762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3060-E140-4732-B1F9-18CAEB1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28A3-9BF7-424E-A5CD-C6A586DA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316B-D804-4AF1-9E03-5D5C3216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0F36-DC50-4E7C-9F2A-165AFA2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8E0A7-E188-44DE-99F7-3E44BC41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A4AE8-114C-44E9-B7AF-5FBF81D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7921-FC8C-4319-B9EE-305B5DD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B18-FD22-4179-9CEA-5D608A0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981BC-E6F3-4C16-B1FB-702036E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1BDD-5010-42F6-A800-15B9580A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6C50-32FD-4DD9-AE67-1BE0FE17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591B2-F846-43CC-904C-D93F25C4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0885-5B2B-43A1-B948-87FAD3D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EF56B-515F-4003-A1E8-85305C09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9671-8324-43AC-9A0D-B156C5B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7D7B-0C66-4C81-BDAD-0A6E39E1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07BC-29DE-49E2-876A-683D4C6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6309-D722-48BD-B2B3-CE7720A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A62-8436-47DA-B5BE-0A87587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A6F3-8641-4523-8DD2-28BD5E6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4E90-7909-4E8C-BC4E-D616049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22A5-064B-42E4-9780-95C21C6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A2DB-EB12-4786-B0E7-305075CB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FA1AE-3A87-4284-A9C3-B3FA9435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426A-51F8-4FD8-AD05-CF261EDE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F962C-B6D4-48A2-815D-3DDE595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619F-96E9-46AA-B8FC-B7D681F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3CD6-9B06-4BF6-93C7-AB5FE3DC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6B423-486E-4162-910C-710EC935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60A-C61E-47CB-881F-5D7CD27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C760-BD23-4D10-884F-F001F9E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8B49-992D-4070-A0F7-5393DAC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8A5F-186B-40AD-98AC-016EEF4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142B1-8140-46BE-B3C3-D058785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A5CF-3972-474D-91C7-48E534F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754DC-044B-488C-914C-91578120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376B-A0B8-422F-BB35-E80C2777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4F272-0ED1-464D-BC9A-45874B18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4131E-4C46-460E-A7BB-6AE65BE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8187F-E827-4787-B35A-5FBBC131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A34C-7FB9-4EFC-BFCD-B1DE2C6F1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0B9-3B3B-45EB-9D64-66CAFB4EBE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9D0-CF96-4360-850E-C8193DA55A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AEB8-8A4A-466D-9C20-0B9F977694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91E3-8E06-41AB-B86F-9E741ADD16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75E-A83A-490E-AFF6-6DACF316B7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184-E256-4825-A6BE-5877A6561A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93A9-233A-4CC0-8FA7-E3137FFB1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5EAD-8C7F-4975-A5D4-9D05BE76D2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CC1-4CFD-4D68-B7FD-27B62B062B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8A46-A1FC-46E9-ACD1-A24D05C0E8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75E-7469-4EBE-99B8-35B4C28F6D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208-8C44-434C-A4A4-ED4C7E744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步数据处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+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累加语句累加表达式结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235520" y="29289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357200" y="3786120"/>
          <a:ext cx="4496040" cy="9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86120"/>
                    <a:ext cx="4496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GO T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语句标号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跳到本程序步带有标号的语句继续往下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指定的目标语句必须在同一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规定语句标号来指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目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78588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每个观测都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5500800" y="1428840"/>
          <a:ext cx="2881080" cy="2682720"/>
        </p:xfrm>
        <a:graphic>
          <a:graphicData uri="http://schemas.openxmlformats.org/drawingml/2006/table">
            <a:tbl>
              <a:tblPr/>
              <a:tblGrid>
                <a:gridCol w="649080"/>
                <a:gridCol w="576360"/>
                <a:gridCol w="934920"/>
                <a:gridCol w="720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那些观测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000760" y="2000160"/>
          <a:ext cx="3020760" cy="26830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3840"/>
                <a:gridCol w="75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857160" y="5000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两例中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-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替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标号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标号给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,  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EADER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O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temen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STOP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当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正被处理的那个观测没有添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8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OUT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照常打印数据集列表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读取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观测，因为当指针标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N_=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正被处理的那条观测没有添加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OR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止执行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，继续执行下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执行前已处理观测的数据集。但是，当新创建数据集和已存在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同名时，不能覆盖已存在的数据集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ABEND|RETURN&gt;|&lt;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正常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一个条件码指示有错误地控制返回到主机系统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MO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删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观测，它可以执行物理也可以执行逻辑删除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执行物理或逻辑删除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所有数据操作都是有效的。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子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两者结合，只能执行物理删除，因此对于一些特定的操作，不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&gt;&lt;…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357200" y="5286240"/>
          <a:ext cx="5715000" cy="731880"/>
        </p:xfrm>
        <a:graphic>
          <a:graphicData uri="http://schemas.openxmlformats.org/drawingml/2006/table">
            <a:tbl>
              <a:tblPr/>
              <a:tblGrid>
                <a:gridCol w="1785960"/>
                <a:gridCol w="392904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由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命名数据集的所有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删除当前观测的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准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变量的观测被读入之前，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计算结果为缺失值时，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替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可以使用比较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+(-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必须的，不能写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-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PLAC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互相独立地进行操作，两语句可以应用于相同的观测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替换主数据集相同物理位置上的观测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输出观测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结尾；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无此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-set-nme-1&gt;&lt;...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143000" y="4929120"/>
          <a:ext cx="6215040" cy="1292400"/>
        </p:xfrm>
        <a:graphic>
          <a:graphicData uri="http://schemas.openxmlformats.org/drawingml/2006/table">
            <a:tbl>
              <a:tblPr/>
              <a:tblGrid>
                <a:gridCol w="1357200"/>
                <a:gridCol w="485784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输出观测的数据集，并用它的观测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MISSING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符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含有缺失值的数据源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否则可能产生读入错误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cter1…charctern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代表缺失值的字符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eriod_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I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d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odpr1 Foodpr2 Foodpr3 Coffeem1 Coffeem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15 45 65 I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86 27 55 72 8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4 93 52 X 76 8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15 73 35 43 112 10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27 101 127 39 76 7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用字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缺失值。如果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读入数值变量的缺失值时（这里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要产生错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介绍语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, CALL, NULL, ERROR, RETURN,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LIST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上列出正被加工处理观测的输入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时，在列出的第一行记录之前，显示一条指示列数的标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调用子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utine (parameter-1&lt;…parameter-n&gt;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17" name="Object 2"/>
          <p:cNvGraphicFramePr/>
          <p:nvPr/>
        </p:nvGraphicFramePr>
        <p:xfrm>
          <a:off x="1219320" y="4572000"/>
          <a:ext cx="6095880" cy="77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0"/>
                    <a:ext cx="6095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包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宏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xt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ch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rch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ext1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t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et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布操作系统命令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ir *.sa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发布和操作系统命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ir *.sas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NU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是一个分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用于固定位置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用一个分号（；）或四个分号（；；；；）来接受空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分号（；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四个分号（；；；；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空语句没有执行动作，但它是可执行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表示数据行结束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: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1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5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3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在这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步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语句告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系统在这个作业流中，紧跟着的是数据行，当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遇到空语句（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;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）时，就知道数据行结束了。上例中的空语句也可以省略，因数据行后面第一个语句（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）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中包含一个分号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3" name="矩形 4"/>
          <p:cNvSpPr/>
          <p:nvPr/>
        </p:nvSpPr>
        <p:spPr>
          <a:xfrm>
            <a:off x="4500720" y="2928960"/>
            <a:ext cx="285732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y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2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2     1    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3     5   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4     3   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ERROR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置自动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有选择地输出用户规定的一段信息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记录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message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26" name="Object 2"/>
          <p:cNvGraphicFramePr/>
          <p:nvPr/>
        </p:nvGraphicFramePr>
        <p:xfrm>
          <a:off x="1295280" y="4648320"/>
          <a:ext cx="4953240" cy="115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48320"/>
                    <a:ext cx="495324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语句等于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+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里的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省略，加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于没加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_h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两段程序等价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等价于下面一系列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值语句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一段信息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的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重新设置前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设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tch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5"/>
          <p:cNvSpPr/>
          <p:nvPr/>
        </p:nvSpPr>
        <p:spPr>
          <a:xfrm>
            <a:off x="1258920" y="148428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000080" y="1928880"/>
            <a:ext cx="7286760" cy="4000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1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2  input name $ type $ age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3  if type='teen' &amp; age &gt;19 then error "type and age don't match" +3 age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4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ype and age don't match   age=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RULE:      ----+----1----+----2----+----3----+----4----+----5----+----6----+----7----+----8----+----9----+----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5        Wu teen 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ame=Wu type=teen age=20 _ERROR_=1 _N_=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实际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857160" y="10522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cth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error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程序与前一页程序结果相同。第一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第二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另外，可以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改变输出错误信息的地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当前位置上停止执行语句，返回到一个预定位置上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ETUR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面的语句，并继续往下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EADE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开始新页之前执行的最后一个语句后面的语句，并继续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其它地方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ve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+z; a=x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6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=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添加这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URVE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后面的二个赋值语句没有被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1428840" y="3143160"/>
          <a:ext cx="6119640" cy="16876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0760"/>
                <a:gridCol w="1225440"/>
                <a:gridCol w="122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6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999720" y="785880"/>
            <a:ext cx="4786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por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b c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=a*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x&gt;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0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22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0" name="文本占位符 2"/>
          <p:cNvSpPr/>
          <p:nvPr/>
        </p:nvSpPr>
        <p:spPr>
          <a:xfrm>
            <a:off x="2428920" y="4286160"/>
            <a:ext cx="5500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中，在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从每个输入行产生多个观测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 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lt;=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观测到数据集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gt;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开头处理新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2286000" y="1143000"/>
          <a:ext cx="3798720" cy="4743360"/>
        </p:xfrm>
        <a:graphic>
          <a:graphicData uri="http://schemas.openxmlformats.org/drawingml/2006/table">
            <a:tbl>
              <a:tblPr/>
              <a:tblGrid>
                <a:gridCol w="633240"/>
                <a:gridCol w="632160"/>
                <a:gridCol w="633240"/>
                <a:gridCol w="633600"/>
                <a:gridCol w="633240"/>
                <a:gridCol w="633240"/>
              </a:tblGrid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CONTINUE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1857240" y="2000160"/>
            <a:ext cx="5072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Obs    Name       Height      s_h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1         Alice       56.5       56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2      Barbara     65.3      121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3        Carol       62.8      184.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4        Jane        59.8      24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5        Janet       62.5      306.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6        Joyce      51.3      358.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7        Judy        64.3      422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8        Louise     56.3      478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9        Mary        66.5      545.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……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071720" y="857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85520" y="1285560"/>
            <a:ext cx="77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循环过程，继续进行下一次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tus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tin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下次循环的开头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enefit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2000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上页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2786040" y="3571920"/>
          <a:ext cx="5643720" cy="2038320"/>
        </p:xfrm>
        <a:graphic>
          <a:graphicData uri="http://schemas.openxmlformats.org/drawingml/2006/table">
            <a:tbl>
              <a:tblPr/>
              <a:tblGrid>
                <a:gridCol w="941400"/>
                <a:gridCol w="487440"/>
                <a:gridCol w="1143000"/>
                <a:gridCol w="714240"/>
                <a:gridCol w="928800"/>
                <a:gridCol w="142884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049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EAVE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处理过程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后面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给定条件下停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的处理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e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rt status $ dept $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=star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onus g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2"/>
          <p:cNvSpPr/>
          <p:nvPr/>
        </p:nvSpPr>
        <p:spPr>
          <a:xfrm>
            <a:off x="1071720" y="1214280"/>
            <a:ext cx="716256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接上页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ones 9011 1990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as 876 1976 P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 7899 1991 ft tech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ell 1250 1975 f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s 1002 1990 ft dev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lly 85 1981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091 1990 pt mai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首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检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超过允许的最大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来停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的处理过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4" name=""/>
          <p:cNvGraphicFramePr/>
          <p:nvPr/>
        </p:nvGraphicFramePr>
        <p:xfrm>
          <a:off x="714240" y="1784520"/>
          <a:ext cx="7358040" cy="3001680"/>
        </p:xfrm>
        <a:graphic>
          <a:graphicData uri="http://schemas.openxmlformats.org/drawingml/2006/table">
            <a:tbl>
              <a:tblPr/>
              <a:tblGrid>
                <a:gridCol w="919440"/>
                <a:gridCol w="1009440"/>
                <a:gridCol w="830160"/>
                <a:gridCol w="920880"/>
                <a:gridCol w="919080"/>
                <a:gridCol w="919440"/>
                <a:gridCol w="920520"/>
                <a:gridCol w="919080"/>
              </a:tblGrid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on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0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homa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ar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9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ch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arre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0372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ell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o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ai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055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LEA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CONTINU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的差别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得当前的循环过程结束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一起使用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只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果加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date us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ret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(stk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000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s+ Dret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USS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re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平方和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值的观测个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(keep=nmi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ndc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+sector^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C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非缺失值的观测个数，即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C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好类股票的个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a (firstob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name=(sum=sum_1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5=(sum_1-sum)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值，体现了用简单方法处理复杂的问题的技巧。也可以用循环语句写相应程序，但程序的效率会很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9001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的选择与输出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IF WHERE DELETE OUTPU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00080" y="2000160"/>
            <a:ext cx="723888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类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含有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没有子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/ELSE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真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假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&lt;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expression;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子集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任意有效的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表达式真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正被创建的观测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语句。如果表达式是假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始对其他观测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5"/>
          <p:cNvSpPr/>
          <p:nvPr/>
        </p:nvSpPr>
        <p:spPr>
          <a:xfrm>
            <a:off x="121428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中，选择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条观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矩形 3"/>
          <p:cNvSpPr/>
          <p:nvPr/>
        </p:nvSpPr>
        <p:spPr>
          <a:xfrm>
            <a:off x="1143000" y="4286160"/>
            <a:ext cx="6572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IDX000001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89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9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3043440" cy="42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WHERE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42960" y="1714320"/>
            <a:ext cx="7858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数据集之前选择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在执行数据集连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新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修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前进行的操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只从输入数据集中读入满足条件的观测，所以这样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更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不是可执行语句，它起不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-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基本语句（赋值、累加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的选择与输出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属性控制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循环控制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控制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数组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GOT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语句标号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其它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(LIS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NU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1" i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5143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where-expression;</a:t>
            </a:r>
            <a:br>
              <a:rPr sz="2000"/>
            </a:b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仅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表达式的特殊算符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18" name="Object 6"/>
          <p:cNvGraphicFramePr/>
          <p:nvPr/>
        </p:nvGraphicFramePr>
        <p:xfrm>
          <a:off x="1214280" y="2714760"/>
          <a:ext cx="674064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714760"/>
                    <a:ext cx="6740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928800" y="12859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BETWEEN-A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S MISSING|IS NU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例句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stocd between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not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num is missing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计算缺失值数目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两个特殊模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百分号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以替代任意多个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划线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正好有一个字符与之匹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识别大写和小写之间的字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1143000" y="142884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有名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th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an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来选择第一个字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名字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不同选择模式与结果如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选择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yan  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_an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_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Diana, Diane, Dianna, Dyan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上述列表的所有名字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Not lik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情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语句，必须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f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提示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不能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n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圆角矩形 3"/>
          <p:cNvSpPr/>
          <p:nvPr/>
        </p:nvSpPr>
        <p:spPr>
          <a:xfrm>
            <a:off x="1357200" y="3143160"/>
            <a:ext cx="6286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4" name="矩形 4"/>
          <p:cNvSpPr/>
          <p:nvPr/>
        </p:nvSpPr>
        <p:spPr>
          <a:xfrm>
            <a:off x="1428840" y="3214800"/>
            <a:ext cx="6286320" cy="4284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: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变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n_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在文件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DAT.IDX000001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DELETE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000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当前观测，该观测值不被读入到创建的数据集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处理其他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部分观测值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type=’B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矩形 3"/>
          <p:cNvSpPr/>
          <p:nvPr/>
        </p:nvSpPr>
        <p:spPr>
          <a:xfrm>
            <a:off x="1214280" y="4643280"/>
            <a:ext cx="6572520" cy="100044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STK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空数据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观测值，即清空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设计复杂程序时，常会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这种用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中信息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矩形 3"/>
          <p:cNvSpPr/>
          <p:nvPr/>
        </p:nvSpPr>
        <p:spPr>
          <a:xfrm>
            <a:off x="1285920" y="4929120"/>
            <a:ext cx="6429240" cy="1000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输出当前的观测到被创建的数据集中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a-set-name-1&gt; &lt;…data-set-name-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5" name="Object 4"/>
          <p:cNvGraphicFramePr/>
          <p:nvPr/>
        </p:nvGraphicFramePr>
        <p:xfrm>
          <a:off x="928800" y="3071880"/>
          <a:ext cx="614340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071880"/>
                    <a:ext cx="614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Box 4"/>
          <p:cNvSpPr/>
          <p:nvPr/>
        </p:nvSpPr>
        <p:spPr>
          <a:xfrm>
            <a:off x="1000080" y="4214880"/>
            <a:ext cx="6357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行创建多个观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文件创建多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集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几个输入数据行合并为一个观测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56800" y="1214280"/>
            <a:ext cx="4714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1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一个输入数据行创建多个观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ID $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1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2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3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6  99  96  9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8  89  90  88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每一行记录生成三个观测。每个新观测将包括代号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次测验值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CO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786280" y="2571840"/>
          <a:ext cx="2376720" cy="22320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2232000">
                <a:tc>
                  <a:txBody>
                    <a:bodyPr lIns="180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 scor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02126      9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02126      9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02126      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02128      8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02128      9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     02128      8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A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；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B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49291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基本语句（赋值 累加）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85520" y="1285920"/>
            <a:ext cx="175716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赋值语句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857160" y="2214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=expressio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将表达式结果赋予一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47920" y="4116240"/>
          <a:ext cx="6248160" cy="11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116240"/>
                    <a:ext cx="62481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785880" y="1213920"/>
            <a:ext cx="7929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lstkinf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num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.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几个记录组合信息，分别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这个例子很有用，从这里也认识了自动变量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. stktyp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st. stkty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使用方法。数据处理时用这个语句会很省力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429160" y="4071960"/>
          <a:ext cx="2500560" cy="78588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Stktype    N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A        2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B        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Box 5"/>
          <p:cNvSpPr/>
          <p:nvPr/>
        </p:nvSpPr>
        <p:spPr>
          <a:xfrm>
            <a:off x="5618520" y="3571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统计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变量属性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57160" y="1857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输入格式与变量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 &lt;informat&gt;&lt;DEFAULT=default-in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矩形 3"/>
          <p:cNvSpPr/>
          <p:nvPr/>
        </p:nvSpPr>
        <p:spPr>
          <a:xfrm>
            <a:off x="952920" y="1285920"/>
            <a:ext cx="26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FORMA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语句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1500120" y="3643200"/>
          <a:ext cx="5191200" cy="9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643200"/>
                    <a:ext cx="5191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矩形 5"/>
          <p:cNvSpPr/>
          <p:nvPr/>
        </p:nvSpPr>
        <p:spPr>
          <a:xfrm>
            <a:off x="928800" y="4857840"/>
            <a:ext cx="7215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出现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中的任何位置，仅适用于当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规定临时的缺省输入格式时，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规定的缺省输入格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入格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char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1 22 33 44 100 johnn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列出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输入格式，那么使用这里规定的缺省输入格式，即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4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矩形 3"/>
          <p:cNvSpPr/>
          <p:nvPr/>
        </p:nvSpPr>
        <p:spPr>
          <a:xfrm>
            <a:off x="857160" y="4143240"/>
            <a:ext cx="4071960" cy="357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1  2.2  3.3  4.4  1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86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消已存在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这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次序是重要的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就不能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050" descr=""/>
          <p:cNvPicPr/>
          <p:nvPr/>
        </p:nvPicPr>
        <p:blipFill>
          <a:blip r:embed="rId1"/>
          <a:srcRect l="53468" t="13673" r="391" b="11134"/>
          <a:stretch/>
        </p:blipFill>
        <p:spPr>
          <a:xfrm>
            <a:off x="2786040" y="785880"/>
            <a:ext cx="4441680" cy="54291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2"/>
          <p:cNvSpPr/>
          <p:nvPr/>
        </p:nvSpPr>
        <p:spPr>
          <a:xfrm>
            <a:off x="500040" y="928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右图显示已删除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格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图片 1" descr=""/>
          <p:cNvPicPr/>
          <p:nvPr/>
        </p:nvPicPr>
        <p:blipFill>
          <a:blip r:embed="rId1"/>
          <a:srcRect l="24383" t="13721" r="11686" b="20467"/>
          <a:stretch/>
        </p:blipFill>
        <p:spPr>
          <a:xfrm>
            <a:off x="1857240" y="2428920"/>
            <a:ext cx="6000840" cy="41432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"/>
          <p:cNvSpPr/>
          <p:nvPr/>
        </p:nvSpPr>
        <p:spPr>
          <a:xfrm>
            <a:off x="785880" y="857160"/>
            <a:ext cx="70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未去除格式举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/*informa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前，未能去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s &lt;format&gt;&lt;DEFAULT=default-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任何位置，仅适用于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临时的缺省输出格式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规定的缺省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62" name="Object 4"/>
          <p:cNvGraphicFramePr/>
          <p:nvPr/>
        </p:nvGraphicFramePr>
        <p:xfrm>
          <a:off x="1763640" y="3141720"/>
          <a:ext cx="6193080" cy="11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6193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000080" y="128556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 $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/x/y/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d mo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92880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自定义的格式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fm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l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se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ne 2 bill 1 cindy 2 helen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定义输出格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同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联系起来。当以后用一些过程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替代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矩形 7"/>
          <p:cNvSpPr/>
          <p:nvPr/>
        </p:nvSpPr>
        <p:spPr>
          <a:xfrm>
            <a:off x="5786280" y="2643120"/>
            <a:ext cx="2500560" cy="1500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jane  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ill         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indy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len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存贮变量值的字节长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variable-specification-1 &lt;… variable-specification-n&gt;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EFAULT=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说明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=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新创建数值变量值的缺省字节长度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赋值语句举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=_N_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_error_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_s=first.sex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_s=last.sex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+b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新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=sum(of x1-x5)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数组元素，它的值是一函数值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a+b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已经存在的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值为原来值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之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628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iable-specificatio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说明项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&lt;…variable-n&gt;&lt;$&gt;length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关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71" name="Object 2"/>
          <p:cNvGraphicFramePr/>
          <p:nvPr/>
        </p:nvGraphicFramePr>
        <p:xfrm>
          <a:off x="1600200" y="3505320"/>
          <a:ext cx="6629400" cy="170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6294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值变量长度控制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中数值变量的存贮长度一般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然而很多值可以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的长度准确地表示。当数据集很大时，使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长度来存贮不需要很精确的值时，可以有效地减少外部存贮的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截短数据时，可能会引起误差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1285560" y="92844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截短数据引起的误差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4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2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1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.0  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tw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没有观测。因为，第二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子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表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只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会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字符变量长度控制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71360" y="199980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变量的长度，字符变量的缺省长由它的第一个观测值决定，这样，后面更长的观测值会被截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隐含地说明字符变量的长度。所以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定义的字符长度不同于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隐含表示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应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才能起作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隐含指定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（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）给出在创建的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替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928440" y="1499760"/>
            <a:ext cx="712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的长由它的第一个观测值决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no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ye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字符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次在赋值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'NO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出现时，它的长度被确定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，当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仅前两个字符被存储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丢失了。为解决该问题，或者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，或者重新排列语句顺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5003640" y="3357720"/>
          <a:ext cx="2519640" cy="143964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  <a:gridCol w="839880"/>
              </a:tblGrid>
              <a:tr h="576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5929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位置的重要性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214280" y="2142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字符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数值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放在任何地方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1364760" y="1066320"/>
            <a:ext cx="67359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后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字符变量不起作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放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不起作用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长度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所以显示的值分别为’深发展’和’大秦铁’ 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Text Box 0"/>
          <p:cNvSpPr/>
          <p:nvPr/>
        </p:nvSpPr>
        <p:spPr>
          <a:xfrm>
            <a:off x="2340000" y="515772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4"/>
          <p:cNvSpPr/>
          <p:nvPr/>
        </p:nvSpPr>
        <p:spPr>
          <a:xfrm>
            <a:off x="1547640" y="1484280"/>
            <a:ext cx="6048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上段程序的正确写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length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放在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之前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显示正确结果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2643120" y="500076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66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为变量加标签。变量标签是对变量的进一步说明，看到标签就能理解变量的意思。这个标签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同变量名一起被存贮，而且可通过许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被打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='label-1' …&lt;variable-1='label-n'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加标签的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符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标签语句可以出现若干个变量名和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3043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500120" y="2000160"/>
            <a:ext cx="6808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   Name         Sex    Age    Height    Weight     n    error    first_s    last_s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ce          F      13       56.5       84.0     1      0         1          0                         2    Barbara      F      13       65.3       98.0     2      0         0          0                         3    Carol         F      14       62.8      102.5     3      0         0          0                         4    Jane           F      12       59.8       84.5     4      0         0          0                         5    Janet         F      15       62.5      112.5     5      0         0          0                         6    Joyce        F      11       51.3       50.5      6      0         0          0                         7    Judy          F      14       64.3       90.0      7      0         0          0                         8    Louise       F      12       56.3       77.0     8      0         0          0                         9    Mary         F      15       66.5      112.0    9      0         0          1                        10    Alfred     M      14      69.0      112.5    10    0         1          0                       11    Henry      M      14     63.5      102.5    11    0         0          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   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两种写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一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二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''  hstocd=''  shrsdt=''  shrout='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1"/>
          <p:cNvSpPr/>
          <p:nvPr/>
        </p:nvSpPr>
        <p:spPr>
          <a:xfrm>
            <a:off x="857160" y="8571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变量类型转换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1" name="TextBox 2"/>
          <p:cNvSpPr/>
          <p:nvPr/>
        </p:nvSpPr>
        <p:spPr>
          <a:xfrm>
            <a:off x="1357200" y="2000160"/>
            <a:ext cx="585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实现数值与字符之间相互转换的方式有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系统自动完成数值与字符之间的转换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字符转换为数值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数值转换为字符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读者自学书中例子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DO</a:t>
            </a:r>
            <a:r>
              <a:rPr b="1" lang="zh-CN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黑体"/>
              </a:rPr>
              <a:t>及循环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必须由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来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之间的这些语句称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可以嵌套任意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简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简单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5716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/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&gt;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cm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height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 sex= age= h_cm=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00080" y="3929040"/>
            <a:ext cx="7215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与下面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果一样，但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率较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_c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height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 sex= age= h_cm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143000" y="1357200"/>
          <a:ext cx="6715080" cy="20113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Janet Sex=F Age=15 h_cm=158.8541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Mary Sex=F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Philip Sex=M Age=16 h_cm=18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Ronald Sex=M Age=15 h_cm=170.2916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William Sex=M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从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SDA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.CLASS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读取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WORK.A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有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观测和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6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92d050"/>
                      </a:solidFill>
                    </a:lnL>
                    <a:lnR w="13680">
                      <a:solidFill>
                        <a:srgbClr val="92d050"/>
                      </a:solidFill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5716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需要被重复执行时要用到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根据下标变量重复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间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_variable=specification-1&lt;,…specification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-variab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定义下标变量，用于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的执行方式和重复次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标变量包含在创建的数据集中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删除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SPECIFICATIO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选项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&lt;TO stop&gt; &lt;BY increment&gt; &lt;WHILE/UNTIL(expression)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03" name="Object 4"/>
          <p:cNvGraphicFramePr/>
          <p:nvPr/>
        </p:nvGraphicFramePr>
        <p:xfrm>
          <a:off x="1143000" y="2928960"/>
          <a:ext cx="6858000" cy="20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28960"/>
                    <a:ext cx="6858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071360" y="1428480"/>
            <a:ext cx="5715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省的步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i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4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起始值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saturday', 'sunday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, '25feb99'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'01jan2000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句子中，起始值必须全部是数值或全部是字符常数，也可以是变量。字符常数必须用引号括起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表达式选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&l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(x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&g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onth='jan'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类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85880" y="1785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决定结果变量类型的准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数值型，结果变量为数值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字符型，结果变量为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既有数值又有字符型，结果变量为数值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714240" y="1143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生指定观测值个数的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产生一个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观测值的数据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求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然数之和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**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求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自然数的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OVER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357200" y="1928880"/>
            <a:ext cx="7072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对隐含下标数组元素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里的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-nam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一个隐含下标数组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5716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隐含数组的所有元素乘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5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 .88  .99  .77  .5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1071720" y="5429160"/>
          <a:ext cx="6911640" cy="82872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1154160"/>
                <a:gridCol w="1150920"/>
                <a:gridCol w="1152360"/>
                <a:gridCol w="115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TextBox 4"/>
          <p:cNvSpPr/>
          <p:nvPr/>
        </p:nvSpPr>
        <p:spPr>
          <a:xfrm>
            <a:off x="928800" y="500076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e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WHIL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7858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使得当条件成立时重复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857160" y="3143160"/>
            <a:ext cx="79106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重复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组中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 l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UNTIL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条件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928800" y="3286080"/>
            <a:ext cx="642924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重复循环直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&gt;=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停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&g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黑体"/>
                <a:ea typeface="黑体"/>
              </a:rPr>
              <a:t>选择控制语句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SELECT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择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select-express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8" name="Object 4"/>
          <p:cNvGraphicFramePr/>
          <p:nvPr/>
        </p:nvGraphicFramePr>
        <p:xfrm>
          <a:off x="1000080" y="4286160"/>
          <a:ext cx="7072200" cy="12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286160"/>
                    <a:ext cx="7072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e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p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er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pring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all or win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2"/>
          <p:cNvSpPr/>
          <p:nvPr/>
        </p:nvSpPr>
        <p:spPr>
          <a:xfrm>
            <a:off x="1285920" y="1500120"/>
            <a:ext cx="6985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ja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fe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m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ap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m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ju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ju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aug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se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0.03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3" name="TextBox 4"/>
          <p:cNvSpPr/>
          <p:nvPr/>
        </p:nvSpPr>
        <p:spPr>
          <a:xfrm>
            <a:off x="1357200" y="1071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8588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变量的长度是第一次扫描结果的长度，除非事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好结果变量的长度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扫描结果的长度不是所有数据中的最大长度时会出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扫描结果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lstknm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所以显示结果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 =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大秦铁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286000" y="514368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大秦铁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1523520" y="12189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5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正确及错误用法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后两个程序的效果相同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ARRAY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定义数组。数组通常由一组变量构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数组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简化很多复杂的数据处理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引用数组等价引用构成数组的那一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显式下标数组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71720" y="1500120"/>
            <a:ext cx="7238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显式下标数组由数组名，元素个数说明，及元素列表等构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数组名引用整个数组，通过数组元素序号（也称为下标）引用该元素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{subscript}&lt;$&gt;&lt;length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array-elements&gt;&lt;(initial-values)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1357200" y="3857760"/>
          <a:ext cx="5857920" cy="250020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</a:tblGrid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名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ubscrip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下标范围或元素个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元素为字符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元素的长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Elemen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组成数组的元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itial-Valu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相应元素的初始值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下标的三种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用于表示数组中元素的个数和排列的范围。括号可用大括号，中括号或圆括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格式有三种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1285920" y="3068640"/>
          <a:ext cx="5842080" cy="2217600"/>
        </p:xfrm>
        <a:graphic>
          <a:graphicData uri="http://schemas.openxmlformats.org/drawingml/2006/table">
            <a:tbl>
              <a:tblPr/>
              <a:tblGrid>
                <a:gridCol w="2652840"/>
                <a:gridCol w="3189240"/>
              </a:tblGrid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&lt;,…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每一维的元素个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,…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数组中每一维的上下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*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由规定数组中变量的个数来确定下标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5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格式一定义一维、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mple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red, green, yellow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有三个元素，对应的变量命名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d, green, yellow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二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l---score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序从左上角开始逐行放入这个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二定义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数组下界时可以省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下界时，可以加快处理时间，因为计算下标的时间减少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3880" y="785520"/>
            <a:ext cx="6572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组元素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071720" y="164268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必须全是数值变量，或全是字符变量，可以用任意顺序列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组元素的两种表示方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临时数组元素列表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Cl-C3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上例句等价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 A{*}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{*} _CHARACTER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建立临时数组元素列表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：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357200" y="185688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MPORARY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临时数组元素列表可以少占用内存，加快执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像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变量那样使用临时数组元素，但要注意有下面几点不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没有名字，引用时必须用数组名和下标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出现在输出的数据集上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特殊下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*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引用所有元素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临时数组元素的值被自动保存，而不是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变量，在下一次重复开始时被置为缺失值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4"/>
          <p:cNvSpPr/>
          <p:nvPr/>
        </p:nvSpPr>
        <p:spPr>
          <a:xfrm>
            <a:off x="1143000" y="1428840"/>
            <a:ext cx="6913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.5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建立临时数组元素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如下程序，则会产生新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1,t2,t3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临时数组，则不会产生新变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9" name=""/>
          <p:cNvGraphicFramePr/>
          <p:nvPr/>
        </p:nvGraphicFramePr>
        <p:xfrm>
          <a:off x="1403280" y="1700280"/>
          <a:ext cx="6193080" cy="1950840"/>
        </p:xfrm>
        <a:graphic>
          <a:graphicData uri="http://schemas.openxmlformats.org/drawingml/2006/table">
            <a:tbl>
              <a:tblPr/>
              <a:tblGrid>
                <a:gridCol w="889200"/>
                <a:gridCol w="728640"/>
                <a:gridCol w="730080"/>
                <a:gridCol w="730440"/>
                <a:gridCol w="730080"/>
                <a:gridCol w="728640"/>
                <a:gridCol w="730440"/>
                <a:gridCol w="9255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1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0" name="Rectangle 139"/>
          <p:cNvSpPr/>
          <p:nvPr/>
        </p:nvSpPr>
        <p:spPr>
          <a:xfrm>
            <a:off x="1821600" y="40053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使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1" name="Rectangle 144"/>
          <p:cNvSpPr/>
          <p:nvPr/>
        </p:nvSpPr>
        <p:spPr>
          <a:xfrm>
            <a:off x="1821600" y="1268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1428840" y="4429080"/>
          <a:ext cx="4071960" cy="1951200"/>
        </p:xfrm>
        <a:graphic>
          <a:graphicData uri="http://schemas.openxmlformats.org/drawingml/2006/table">
            <a:tbl>
              <a:tblPr/>
              <a:tblGrid>
                <a:gridCol w="950760"/>
                <a:gridCol w="779400"/>
                <a:gridCol w="779760"/>
                <a:gridCol w="780840"/>
                <a:gridCol w="781200"/>
              </a:tblGrid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初始值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5716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和初值通过对应位置来确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t1 t2 t3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b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第一个语句数组元素的个数与初值的个数相同，把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,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赋给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,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语句分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1,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组元素比给出的初始值多，多余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缺失值，而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将发布一个警告信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NGTH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得到正确输出结果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2786040" y="492912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大秦铁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数组例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ain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b(*)x y z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[*]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temporary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s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green red denato  fetze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test1-test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显式下标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凡是可用表达式的地方，都可以使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下标引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a1-qa10 qb1-qb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qa1-qa5 qb1-qb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 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 1 6 1 1 1 1 1 1 8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，即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4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组的定义仅在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有效。如果想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引用同一个数组，必须在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都定义这个数组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4"/>
          <p:cNvSpPr/>
          <p:nvPr/>
        </p:nvSpPr>
        <p:spPr>
          <a:xfrm>
            <a:off x="1357200" y="1285920"/>
            <a:ext cx="6624720" cy="384084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data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input qa1-qa10 qb1-qb10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 array test{10} qa1-qa5 qb1-qb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put test{4}=  test{6}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 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qa4=6 qb1=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.NEW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实际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7  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组中引用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数组元素的下标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组循环变量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hen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组元素的下标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于是循环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依次检查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并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3"/>
          <p:cNvSpPr/>
          <p:nvPr/>
        </p:nvSpPr>
        <p:spPr>
          <a:xfrm>
            <a:off x="1000080" y="157176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数组的一些特殊元素作为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范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中，处理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选定的一些特殊元素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里处理多个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(*)d1-d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da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y(i)=day(i)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得到数组中元素的个数。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时，这个上界会根据数组元素个数的实际情况自动调整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的所有语句都不必改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规定上下界的一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ear76-year8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(yrs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(yr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是等价的。第二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界，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界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1428480" y="1500120"/>
            <a:ext cx="6429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规定上下界的两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x60-x99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1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1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 lbound2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2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WHI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UNTI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组引用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74028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处理数组时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要创造循环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利用数组说明实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条件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使用程序语句来改变循环变量的值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1214280" y="1214280"/>
            <a:ext cx="331164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用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x1-x5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(i)&lt;y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i)= y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9" name="Text Box 0"/>
          <p:cNvSpPr/>
          <p:nvPr/>
        </p:nvSpPr>
        <p:spPr>
          <a:xfrm>
            <a:off x="4929120" y="1143000"/>
            <a:ext cx="3743280" cy="447588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2  data te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3  input x1-x5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4  array t(5) x1-x5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5  i=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6  do while (t(i)&lt;y)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7  put t(i)= y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8  i=i+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9  end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0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1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0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3=4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.TEST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7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3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4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2485440" y="1282680"/>
            <a:ext cx="456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表</a:t>
            </a:r>
            <a:r>
              <a:rPr b="0" lang="en-US" sz="1800" spc="-1" strike="noStrike">
                <a:solidFill>
                  <a:srgbClr val="080808"/>
                </a:solidFill>
                <a:latin typeface="Calibri"/>
                <a:ea typeface="黑体"/>
              </a:rPr>
              <a:t>5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结果变量长度时，由表达式类型确定结果变量长度的准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773360"/>
          <a:ext cx="7320240" cy="3644640"/>
        </p:xfrm>
        <a:graphic>
          <a:graphicData uri="http://schemas.openxmlformats.org/drawingml/2006/table">
            <a:tbl>
              <a:tblPr/>
              <a:tblGrid>
                <a:gridCol w="1884600"/>
                <a:gridCol w="855720"/>
                <a:gridCol w="2203200"/>
                <a:gridCol w="2376720"/>
              </a:tblGrid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表达式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变量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原变量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串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第一个字符串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DEF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所有变量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 b $6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b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字符串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第一个字符串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IP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隐含下标数组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隐含下标数组由一个数组名字，一个下标变量和列表名组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 &lt;(index-variable)&gt;&lt;$&gt;&lt;length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-elements &lt;(initial-values)&g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85920" y="3857760"/>
          <a:ext cx="6864480" cy="216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857760"/>
                    <a:ext cx="68644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1258920" y="1412640"/>
            <a:ext cx="72388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字符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(j)$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定义字符数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两个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定义了。其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用长度说明选项，给出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238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7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组成数组的元素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-x3) (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x4 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 _character_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字符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数值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使用特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acter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引入字符变量到数组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变量或一个隐含下标数组可以是多个隐含数组的元素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隐含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隐含下标数组的元素时，要先设置下标变量，然后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数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55 1 1 1 1 1 1 1 1 1 1 2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输出隐含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元素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4"/>
          <p:cNvSpPr/>
          <p:nvPr/>
        </p:nvSpPr>
        <p:spPr>
          <a:xfrm>
            <a:off x="1785960" y="1428840"/>
            <a:ext cx="5832360" cy="4021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4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5  input id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6  array big(i)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7  i=11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8  put big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9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ORK.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2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11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1499760" y="11430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1-s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1-s5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arr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里没有规定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自动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_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每个变量值都乘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矩形 2"/>
          <p:cNvSpPr/>
          <p:nvPr/>
        </p:nvSpPr>
        <p:spPr>
          <a:xfrm>
            <a:off x="5143680" y="3000240"/>
            <a:ext cx="3643200" cy="20718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s1    s2    s3    s4    s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1285920" y="1499760"/>
            <a:ext cx="73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73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w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I=1 to 20;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中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元素的个数。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所有缺失值改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引用多个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re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 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 c1-c100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I_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;            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100;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(f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执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次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处理两个数组，这种情况要求数据有相同的元素和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85716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用隐含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u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 x1-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t&lt;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_I_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一个隐含下标数组可以是其它隐含下标数组的元素，故允许有二维或更高维的隐含下标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处理上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st1, test2, test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维数相同，在内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的数组名可以是这三个数组名的任一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有当嵌套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引用的每个数组定义不同的下标变量时才能使用嵌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4-19T07:35:10Z</dcterms:modified>
  <cp:revision>426</cp:revision>
  <dc:subject/>
  <dc:title>第1章 SAS软件入门</dc:title>
</cp:coreProperties>
</file>