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.jpeg" ContentType="image/jpeg"/>
  <Override PartName="/ppt/media/image7.png" ContentType="image/png"/>
  <Override PartName="/ppt/media/image11.wmf" ContentType="image/x-wmf"/>
  <Override PartName="/ppt/media/image12.png" ContentType="image/png"/>
  <Override PartName="/ppt/media/image8.png" ContentType="image/png"/>
  <Override PartName="/ppt/media/image13.png" ContentType="image/png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</p:sldMasterIdLst>
  <p:notesMasterIdLst>
    <p:notesMasterId r:id="rId29"/>
  </p:notesMasterIdLst>
  <p:sldIdLst>
    <p:sldId id="256" r:id="rId30"/>
    <p:sldId id="257" r:id="rId31"/>
    <p:sldId id="258" r:id="rId32"/>
    <p:sldId id="259" r:id="rId33"/>
    <p:sldId id="260" r:id="rId34"/>
    <p:sldId id="261" r:id="rId35"/>
    <p:sldId id="262" r:id="rId36"/>
    <p:sldId id="263" r:id="rId37"/>
    <p:sldId id="264" r:id="rId38"/>
    <p:sldId id="265" r:id="rId39"/>
    <p:sldId id="266" r:id="rId40"/>
    <p:sldId id="267" r:id="rId41"/>
    <p:sldId id="268" r:id="rId42"/>
    <p:sldId id="269" r:id="rId43"/>
    <p:sldId id="270" r:id="rId44"/>
    <p:sldId id="271" r:id="rId45"/>
    <p:sldId id="272" r:id="rId46"/>
    <p:sldId id="273" r:id="rId47"/>
    <p:sldId id="274" r:id="rId48"/>
    <p:sldId id="275" r:id="rId49"/>
    <p:sldId id="276" r:id="rId50"/>
    <p:sldId id="277" r:id="rId51"/>
    <p:sldId id="278" r:id="rId52"/>
    <p:sldId id="279" r:id="rId53"/>
    <p:sldId id="280" r:id="rId54"/>
    <p:sldId id="281" r:id="rId55"/>
    <p:sldId id="282" r:id="rId56"/>
    <p:sldId id="283" r:id="rId57"/>
    <p:sldId id="284" r:id="rId58"/>
    <p:sldId id="285" r:id="rId59"/>
    <p:sldId id="286" r:id="rId60"/>
    <p:sldId id="287" r:id="rId61"/>
    <p:sldId id="288" r:id="rId62"/>
    <p:sldId id="289" r:id="rId63"/>
    <p:sldId id="290" r:id="rId64"/>
    <p:sldId id="291" r:id="rId65"/>
    <p:sldId id="292" r:id="rId66"/>
    <p:sldId id="293" r:id="rId67"/>
    <p:sldId id="294" r:id="rId68"/>
    <p:sldId id="295" r:id="rId69"/>
    <p:sldId id="296" r:id="rId70"/>
    <p:sldId id="297" r:id="rId71"/>
    <p:sldId id="298" r:id="rId72"/>
    <p:sldId id="299" r:id="rId73"/>
    <p:sldId id="300" r:id="rId74"/>
    <p:sldId id="301" r:id="rId75"/>
    <p:sldId id="302" r:id="rId76"/>
    <p:sldId id="303" r:id="rId77"/>
    <p:sldId id="304" r:id="rId78"/>
    <p:sldId id="305" r:id="rId79"/>
    <p:sldId id="306" r:id="rId80"/>
    <p:sldId id="307" r:id="rId81"/>
    <p:sldId id="308" r:id="rId82"/>
    <p:sldId id="309" r:id="rId83"/>
    <p:sldId id="310" r:id="rId84"/>
    <p:sldId id="311" r:id="rId85"/>
    <p:sldId id="312" r:id="rId86"/>
    <p:sldId id="313" r:id="rId87"/>
    <p:sldId id="314" r:id="rId88"/>
    <p:sldId id="315" r:id="rId8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notesMaster" Target="notesMasters/notesMaster1.xml"/><Relationship Id="rId30" Type="http://schemas.openxmlformats.org/officeDocument/2006/relationships/slide" Target="slides/slide1.xml"/><Relationship Id="rId31" Type="http://schemas.openxmlformats.org/officeDocument/2006/relationships/slide" Target="slides/slide2.xml"/><Relationship Id="rId32" Type="http://schemas.openxmlformats.org/officeDocument/2006/relationships/slide" Target="slides/slide3.xml"/><Relationship Id="rId33" Type="http://schemas.openxmlformats.org/officeDocument/2006/relationships/slide" Target="slides/slide4.xml"/><Relationship Id="rId34" Type="http://schemas.openxmlformats.org/officeDocument/2006/relationships/slide" Target="slides/slide5.xml"/><Relationship Id="rId35" Type="http://schemas.openxmlformats.org/officeDocument/2006/relationships/slide" Target="slides/slide6.xml"/><Relationship Id="rId36" Type="http://schemas.openxmlformats.org/officeDocument/2006/relationships/slide" Target="slides/slide7.xml"/><Relationship Id="rId37" Type="http://schemas.openxmlformats.org/officeDocument/2006/relationships/slide" Target="slides/slide8.xml"/><Relationship Id="rId38" Type="http://schemas.openxmlformats.org/officeDocument/2006/relationships/slide" Target="slides/slide9.xml"/><Relationship Id="rId39" Type="http://schemas.openxmlformats.org/officeDocument/2006/relationships/slide" Target="slides/slide10.xml"/><Relationship Id="rId40" Type="http://schemas.openxmlformats.org/officeDocument/2006/relationships/slide" Target="slides/slide11.xml"/><Relationship Id="rId41" Type="http://schemas.openxmlformats.org/officeDocument/2006/relationships/slide" Target="slides/slide12.xml"/><Relationship Id="rId42" Type="http://schemas.openxmlformats.org/officeDocument/2006/relationships/slide" Target="slides/slide13.xml"/><Relationship Id="rId43" Type="http://schemas.openxmlformats.org/officeDocument/2006/relationships/slide" Target="slides/slide14.xml"/><Relationship Id="rId44" Type="http://schemas.openxmlformats.org/officeDocument/2006/relationships/slide" Target="slides/slide15.xml"/><Relationship Id="rId45" Type="http://schemas.openxmlformats.org/officeDocument/2006/relationships/slide" Target="slides/slide16.xml"/><Relationship Id="rId46" Type="http://schemas.openxmlformats.org/officeDocument/2006/relationships/slide" Target="slides/slide17.xml"/><Relationship Id="rId47" Type="http://schemas.openxmlformats.org/officeDocument/2006/relationships/slide" Target="slides/slide18.xml"/><Relationship Id="rId48" Type="http://schemas.openxmlformats.org/officeDocument/2006/relationships/slide" Target="slides/slide19.xml"/><Relationship Id="rId49" Type="http://schemas.openxmlformats.org/officeDocument/2006/relationships/slide" Target="slides/slide20.xml"/><Relationship Id="rId50" Type="http://schemas.openxmlformats.org/officeDocument/2006/relationships/slide" Target="slides/slide21.xml"/><Relationship Id="rId51" Type="http://schemas.openxmlformats.org/officeDocument/2006/relationships/slide" Target="slides/slide22.xml"/><Relationship Id="rId52" Type="http://schemas.openxmlformats.org/officeDocument/2006/relationships/slide" Target="slides/slide23.xml"/><Relationship Id="rId53" Type="http://schemas.openxmlformats.org/officeDocument/2006/relationships/slide" Target="slides/slide24.xml"/><Relationship Id="rId54" Type="http://schemas.openxmlformats.org/officeDocument/2006/relationships/slide" Target="slides/slide25.xml"/><Relationship Id="rId55" Type="http://schemas.openxmlformats.org/officeDocument/2006/relationships/slide" Target="slides/slide26.xml"/><Relationship Id="rId56" Type="http://schemas.openxmlformats.org/officeDocument/2006/relationships/slide" Target="slides/slide27.xml"/><Relationship Id="rId57" Type="http://schemas.openxmlformats.org/officeDocument/2006/relationships/slide" Target="slides/slide28.xml"/><Relationship Id="rId58" Type="http://schemas.openxmlformats.org/officeDocument/2006/relationships/slide" Target="slides/slide29.xml"/><Relationship Id="rId59" Type="http://schemas.openxmlformats.org/officeDocument/2006/relationships/slide" Target="slides/slide30.xml"/><Relationship Id="rId60" Type="http://schemas.openxmlformats.org/officeDocument/2006/relationships/slide" Target="slides/slide31.xml"/><Relationship Id="rId61" Type="http://schemas.openxmlformats.org/officeDocument/2006/relationships/slide" Target="slides/slide32.xml"/><Relationship Id="rId62" Type="http://schemas.openxmlformats.org/officeDocument/2006/relationships/slide" Target="slides/slide33.xml"/><Relationship Id="rId63" Type="http://schemas.openxmlformats.org/officeDocument/2006/relationships/slide" Target="slides/slide34.xml"/><Relationship Id="rId64" Type="http://schemas.openxmlformats.org/officeDocument/2006/relationships/slide" Target="slides/slide35.xml"/><Relationship Id="rId65" Type="http://schemas.openxmlformats.org/officeDocument/2006/relationships/slide" Target="slides/slide36.xml"/><Relationship Id="rId66" Type="http://schemas.openxmlformats.org/officeDocument/2006/relationships/slide" Target="slides/slide37.xml"/><Relationship Id="rId67" Type="http://schemas.openxmlformats.org/officeDocument/2006/relationships/slide" Target="slides/slide38.xml"/><Relationship Id="rId68" Type="http://schemas.openxmlformats.org/officeDocument/2006/relationships/slide" Target="slides/slide39.xml"/><Relationship Id="rId69" Type="http://schemas.openxmlformats.org/officeDocument/2006/relationships/slide" Target="slides/slide40.xml"/><Relationship Id="rId70" Type="http://schemas.openxmlformats.org/officeDocument/2006/relationships/slide" Target="slides/slide41.xml"/><Relationship Id="rId71" Type="http://schemas.openxmlformats.org/officeDocument/2006/relationships/slide" Target="slides/slide42.xml"/><Relationship Id="rId72" Type="http://schemas.openxmlformats.org/officeDocument/2006/relationships/slide" Target="slides/slide43.xml"/><Relationship Id="rId73" Type="http://schemas.openxmlformats.org/officeDocument/2006/relationships/slide" Target="slides/slide44.xml"/><Relationship Id="rId74" Type="http://schemas.openxmlformats.org/officeDocument/2006/relationships/slide" Target="slides/slide45.xml"/><Relationship Id="rId75" Type="http://schemas.openxmlformats.org/officeDocument/2006/relationships/slide" Target="slides/slide46.xml"/><Relationship Id="rId76" Type="http://schemas.openxmlformats.org/officeDocument/2006/relationships/slide" Target="slides/slide47.xml"/><Relationship Id="rId77" Type="http://schemas.openxmlformats.org/officeDocument/2006/relationships/slide" Target="slides/slide48.xml"/><Relationship Id="rId78" Type="http://schemas.openxmlformats.org/officeDocument/2006/relationships/slide" Target="slides/slide49.xml"/><Relationship Id="rId79" Type="http://schemas.openxmlformats.org/officeDocument/2006/relationships/slide" Target="slides/slide50.xml"/><Relationship Id="rId80" Type="http://schemas.openxmlformats.org/officeDocument/2006/relationships/slide" Target="slides/slide51.xml"/><Relationship Id="rId81" Type="http://schemas.openxmlformats.org/officeDocument/2006/relationships/slide" Target="slides/slide52.xml"/><Relationship Id="rId82" Type="http://schemas.openxmlformats.org/officeDocument/2006/relationships/slide" Target="slides/slide53.xml"/><Relationship Id="rId83" Type="http://schemas.openxmlformats.org/officeDocument/2006/relationships/slide" Target="slides/slide54.xml"/><Relationship Id="rId84" Type="http://schemas.openxmlformats.org/officeDocument/2006/relationships/slide" Target="slides/slide55.xml"/><Relationship Id="rId85" Type="http://schemas.openxmlformats.org/officeDocument/2006/relationships/slide" Target="slides/slide56.xml"/><Relationship Id="rId86" Type="http://schemas.openxmlformats.org/officeDocument/2006/relationships/slide" Target="slides/slide57.xml"/><Relationship Id="rId87" Type="http://schemas.openxmlformats.org/officeDocument/2006/relationships/slide" Target="slides/slide58.xml"/><Relationship Id="rId88" Type="http://schemas.openxmlformats.org/officeDocument/2006/relationships/slide" Target="slides/slide59.xml"/><Relationship Id="rId89" Type="http://schemas.openxmlformats.org/officeDocument/2006/relationships/slide" Target="slides/slide60.xml"/><Relationship Id="rId9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4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PlaceHolder 2"/>
          <p:cNvSpPr>
            <a:spLocks noGrp="1"/>
          </p:cNvSpPr>
          <p:nvPr>
            <p:ph type="dt" idx="7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move the slide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6" name="PlaceHolder 5"/>
          <p:cNvSpPr>
            <a:spLocks noGrp="1"/>
          </p:cNvSpPr>
          <p:nvPr>
            <p:ph type="ftr" idx="8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PlaceHolder 6"/>
          <p:cNvSpPr>
            <a:spLocks noGrp="1"/>
          </p:cNvSpPr>
          <p:nvPr>
            <p:ph type="sldNum" idx="8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C6A42-FBC8-438D-ACDE-F4DAC1E1430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51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9C0A3-23C9-455C-AFB6-3FA9E4D75483}" type="slidenum">
              <a:rPr b="0" lang="zh-CN" sz="1200" spc="-1" strike="noStrike">
                <a:solidFill>
                  <a:srgbClr val="08080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2A41-5929-4F04-8A09-81989B5F0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B2EA-A9EB-4EC3-99B4-D9C5100BE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B4A4BA-8802-416A-8943-2B56D1CC7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01EF49-2C70-440D-82DD-B422FDDDE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600F64-A2F6-44D4-B9A1-116C1F308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44EBDB-7FB2-46AE-A9D3-DBED0F194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B94833-1932-4C63-82FE-9CA5D7E0F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B8344B-C795-4A8E-8D04-D1E4A993C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6EE255-6EA5-4009-82C6-1B6CF6FE2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C35147-CE6F-4B49-963A-1A8D3128C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995176-DCDE-4F34-9556-3516DD4B9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0681CE-BA62-4FAC-8273-80AA6E01D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7BE3-E22C-4E85-BECE-E60817CCF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22DC99-0565-4348-848F-4FFF1C348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3D7276-6135-4FEA-95F2-15BA3E4A3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8A6F4E-E700-4AE6-A1F4-C8C23E47B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2D365D-B324-421E-91CC-D24A8F45A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94BE07-1344-4757-BB59-38996E2EE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36405E-CF16-49F5-806B-68FE91D48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F9E462-B895-4A8D-A1A6-700624C83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695D9B-424E-4A92-B8CD-77AC06818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580C77-25E5-4498-852B-1CBCC72E2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BB7984-7CA4-4EB8-8C20-2501A9014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2A05-F088-4387-9EFB-452D2C86B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7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12B3B1-067A-4490-B45A-F17792B9B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955869-81F4-4356-9BF6-926F24AE4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EBA914-F023-4DE8-849C-4A60B912C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82B774-1608-47EC-8404-9AC0D67AE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D9006B-8AF9-4FE1-BF25-91171E661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5E4F98-17C6-4946-A4F8-A5C7EE9D5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D4601E-2963-446F-A832-51186082E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C20BA0-3C57-4845-B1AF-AF84D0CF1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53A238-5D66-43BD-A152-FD4263D5C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73F340-4FB8-465A-86E8-B0DED8F70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991ED-D0F7-4B3B-A11E-31726C3B7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2482AB-7C28-4133-A8E9-40B3A6493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E7B251-B14F-4809-95BF-1D4BA8A28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90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91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09FA72-2895-4BC9-992D-20EB0231E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79546A-EFBE-4005-80A3-85C2EE84D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DA6CCB-8D46-4CB6-A8BB-C9AF7F5E2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7E4066-7A45-4960-B9C9-6773CE6CF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A33706-527B-41EB-A4C5-B735DEAFD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F7C062-631B-4708-B7DB-74152A0D6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EE68AE-CFA7-45CC-B3D8-95DA1D047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6F000F-9651-4E05-AB67-E5E93C1ED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8A7E9-D6DD-4915-8F94-EEE567288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E16502-0B34-44B5-8754-5050EFD7A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E9100D-7496-4BB7-A3C9-6396E9983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A13BF0-CE52-4FCD-9AED-F5A1ED80F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8A1951-3405-496F-A0F5-1DF156B0B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34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35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72FD11-D8B5-4E22-9E9E-FC5B83E25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631C6C-5997-4621-86AE-697904759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750ED2-004E-45BD-8BE9-6BA512BAD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20B977-BC0E-4F26-9E51-8225F29D4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91F8DF-D43C-4BE5-A04B-4D08A62A3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02F2D0-3359-4FFB-ABBB-18F614E0C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76087-8736-40F0-943E-A661B8045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A6674C-A172-4804-B244-FCA63CCC1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190241-58E6-4F38-BE32-8CB236557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12D5E5-BD4F-4F39-9913-4718E586E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298F9E-1656-4B60-A982-E2C9518B0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6A0B62-6A7C-4AD9-B190-48E53AAA5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F09670-A7BE-437D-905C-316A3D964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78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79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2BD07D-83E3-4300-8EE3-C6F36876E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044D67-A63E-450C-AC6D-FF755F7F8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FC2E5FD-A148-400A-9B01-27A33A805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A9758C-1579-480E-9B0F-0266ED586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A31A1-F768-4C17-A478-31CA7B55F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26CEE8-CA42-4554-8769-96C29CDEB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6AE201-A320-4DCE-AFF7-EE1CA4155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1633F2A-9851-4378-8C23-E301734D4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E49632D-6DF9-41B5-B186-51C27D957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6086FE7-61E4-4B4E-9B9F-16438BE64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25DDEA-4744-4DED-BAC4-7B9856268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6930C5F-8B47-46A4-879B-EA5F43168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B7395D-44FF-4880-B9FB-73CEA8A95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22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23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18DFA6-8599-4031-B2A5-B7DCA25C4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844CDFE-89DD-4A25-8DE9-888BA6983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52434-8371-4123-A0F4-D60E1F10E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ACEE45A-E6EC-49B9-A07E-1627134B7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D41F6F6-C92B-48DA-868E-E7BD2B60B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75E3446-98F9-4976-B1B1-E86298545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B8F7684-41DD-45B2-8B24-B200CE865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3F58774-D556-4AAC-9764-DF104CEA0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9B5BAEA-3826-4366-B3F1-F2ACDDEC7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67DBBE3-D839-474C-B32D-F223CCBD5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CB59490-9F05-4802-97DB-F7D1A5B28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376995F-DD94-48A8-B54E-DA7DED86D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6CE6B29-88AE-479D-804F-638ED1B0E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567EA-2FB4-484F-A184-BB5916BD9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E8F797F-F7A0-4A91-8FB5-8A47A6C66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6359F74-D4CE-4055-BD44-75BF1BFB7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D7B504C-7974-4B22-8CF5-6A9036FE5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FE826BA-DE80-4B08-9E77-47CD1625C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062BD5F-1118-4B44-9ADF-28467A0AE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52540CF-36BA-4E61-ABA4-07C1BA033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2E8A172-D2A8-4884-9F20-8A8711136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BAEC133-F056-4BFE-AD39-491AD8C98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83F5294-E68B-4B9C-AF99-C8AD94266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6C86E9F-8FFC-4668-BAAA-8856165A5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35551-25B1-4C5C-95C1-A03E290B2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1EDA9E2-74C1-48A8-8567-F0AE57C19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2F7CC3D-7FB4-4424-B331-E30B7539F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17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18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19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41AD8D7-85C4-4E3E-B816-CF5AF818C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EA8105B-551F-433D-9244-9DA30CC73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D4E9347-1DA4-47E2-A95F-F8A28A67E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C9E8063-588F-46A7-A1BF-C55A68946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287D8C9-E557-4157-A2F9-8F3BFFC1C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C152EDF-DB59-4E67-A8D7-79910520B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E1AC3A8-587B-4260-A5F5-FDEF36FFE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D24D175-14C6-4C7E-AA5C-38E6F9642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7029-9772-4CE2-820D-82C7828E8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E3D92-C546-471A-9391-BE5A774B8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14BC46F-EA15-481D-B668-5F6A4F0F4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C3E764E-1ADB-40DC-9304-265E72E8E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C941AD9-C70B-4DCA-A028-FFFF25263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2179745-E644-47DC-BA74-4726FC181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62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63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6E38CB8-4E5B-4089-AA6E-F4B47A1E6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1CF3BC8-265D-48CB-956D-5C85460E2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9248B43-C28C-4534-8FF6-B9B97BB6F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93AAA0C-6C65-4ADB-9B8D-476192430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D3EE3A8-06C4-407A-BEA3-AD006804D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D97C537-FD8F-4DE9-88BE-B69A4A3D3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AFFD0-E261-481E-B3EA-038D836C7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6A74B56-E8A4-4C28-919F-7C1529845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171CCA1-FEB1-493E-80DD-82B30DF3D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B0B6AAF-8F35-46A8-8E31-5080E8B25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2C6F85F-E394-468C-95E2-AE024F4C2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8FF8AA8-F739-4BD4-BDB1-33C12054B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00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D34B9EA-6B2E-4F55-9376-CFE8BF43B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04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05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06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07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AEE9891-DDDA-42CB-8FC5-5F9D1789B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F17E7DD-78F6-4F27-95B7-1876F0836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CEC4832-CCD3-4FD9-8187-6ACFFB0FD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3E33431-9FC9-48B0-B898-75C3C7355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66D7B-E8AB-430C-9CC3-F7CA12D70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57D6858-1E03-40CB-88F4-0B814E3BD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F7349E7-FEF0-472E-8805-DD1F81006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8DDB59A-2491-490C-9ADF-381443744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82D6FEE-9A10-4314-8D6A-33DCA05A2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D36C59E-3448-4781-B3FF-5E3543430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36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66F1C7A-F9B3-4DCF-A650-1A2042FDC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F9D080D-A222-49B9-9445-19F2C8F4D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44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A15043B-3479-4E15-BDD5-A67B722BB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49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50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51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75B1DEC-D57D-46B0-BC01-94F53F879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F828B1A-7C81-4E30-A49A-0B2659FD2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AC57E-A9DB-4696-BE1C-050F0543C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45F514F-023B-4EE1-95C1-B355BE816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8D79294-6741-4E98-A49B-A34FC9311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3A4C5A3-FE2E-490A-B93F-C07AC8503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F0DC10D-60F8-4D2A-8E43-D415A753D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129FBB8-4CC3-4248-AD10-33B57743E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72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1D7EFDE-8832-49D6-8847-F75E4C972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76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7F2E219-D43C-4EA5-AFE0-95736458E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6F89C90-DBD9-48E7-A2C3-69FEFC99E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9636E37-335C-4485-8247-9016E05AD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88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B20EC8A-A942-4B56-8023-88871ABB4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F1B07-5C76-44A4-B0E1-ACC4F28FF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92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93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94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95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B4724AA-959F-4DC7-92A7-2CA17B4C8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7921592-E384-4F41-87AC-60C0C4C7D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8CD3CF6-C910-4D17-A262-0696270E3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97869E7-DDF5-4B82-94CC-861A5D3EB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AEF4B6C-3715-494A-87E1-B92590645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E42FDC2-40A5-4084-8006-E160D8A75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D744151-AC8A-4412-B006-616B87733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82DFA67-445E-4F02-8636-31AB44389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1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20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0E72046-506D-49EC-9DB7-A921A9CD8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6F13565-97CB-4C9E-B408-5857822AA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1AD5A9-0442-4798-BBE6-71720ECCC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8EBCD9E-1FF0-4C3D-8828-432A276F4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31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32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5A877BE-3BDC-43E6-83A4-9ABD2E31B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36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37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38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39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AD77537-3C24-48A0-BD5A-5C79870E2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FE4ECD0-B865-4A15-91EB-ADB17C866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76DECFD-1139-4835-899B-0384BB3E0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B3EA078-188F-4276-A05F-E64B6B9AB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CF0931F-04A2-4DA5-A51F-53E1DDE4C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5B03DDA-18A4-4265-9E97-9EE877B80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55B6779-DB48-4BBF-8B65-7FDDEBE01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3F6B410-5FD8-4137-AF20-002864106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951142-8B97-4716-9E41-8D858B9D5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64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793C2E8-1610-465B-91B1-5435F5EAA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6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68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A7CBC38-BBA7-4F3F-8CF9-A4F0DFFDD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C5EAF2E-D3FA-47A1-8B48-9FCAE30AF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75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76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459AA8E-8421-497D-B4CD-A7A06DFD3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82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83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E33849E-BCAA-47CC-95EE-001E8942D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2B102DE-D750-49C6-8F6D-34C893A93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661AFD7-09C0-47BD-80E9-F776273EA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CDA4C02-1BD9-4989-BDF4-DF6E3CB1B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98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2B6F689-6DC3-428B-B281-127B7D4C6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9F3F0CF-C468-455F-8EFE-0F38EB7AE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2B2419-3A87-46A0-95BA-1BE0CCE47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A5A14EB-3078-4F08-BE64-5F631E1DE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0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04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C299DB0-8D2F-4616-BC74-1565FBA17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0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08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814C83E-613E-4CAE-9810-F4F1F3E06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12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8C6FA17-438E-41AF-87E6-DF7B5F8A4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3DF7C65-7F7C-4BA2-A3C9-29B95BC81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18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19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20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A9B3C72-50CE-4865-8108-AE9523A01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24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25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26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27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9E69521-1DF0-409F-BCD7-69631E170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8E5BCE8-B065-4B32-8AD5-B27DD9BA1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3D15527-5E33-467D-B066-CBF87FB05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ACAEF8B-206C-4A5A-BA01-3FB7F882E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188538-5B79-4A86-8EF3-0E7464A90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4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56E8669-41D1-4415-813F-A9A495C54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A56A613-2D3F-4CA4-98F9-E9053B7DB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E1DA428-B000-4C9D-B36D-287FCC1AD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4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4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48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F67E2E5-C63D-4DB5-89D1-1E7ACA25A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5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52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E1F0799-0128-4F07-99B7-37F0A821E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5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5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56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2BB8A6B-A1D9-4BEE-94E2-115C7ADCD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59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5D7010E-7C84-437F-B015-CCEC8C32A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6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63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64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AB87577-4B10-4834-97F2-62ADE99F0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6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67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68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69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70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71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B57C49E-A343-4BBA-A05D-8AE10234D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9E30166-72DF-4425-9BCD-E43934CFB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6DBF0C-F7EE-4E33-932A-0AA74E7C1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21A746E-1FDD-496D-BBFF-95213F48D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17AE93E-B7AD-45AB-A1A8-AF57C42B4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62C4AFE-8D94-416C-B2BE-E61158DB9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6A0FF76-36B6-449C-A86F-B7B9DE98B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84BAD0F-958C-464C-8121-0F31DDC5F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98BD6B7-37C7-43FA-ABB3-F69BB59EF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C0E6DB4-595B-4170-B294-C04932922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00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377B70E-3EA6-4937-B013-EA2709433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03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CB00B9A-1961-4F73-A43A-2625BDBFB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0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07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08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7ACD1FA-19D8-485F-8E81-C826EF732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6C8A-81E7-44A8-920F-1B26A27C5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F95794-83A2-4D4A-A3CF-0F92AB4D4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11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12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13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14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15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77CD886-2541-4AEC-94E7-79F12980A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EE6E289-75C4-49A5-AE77-714A349A5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25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E42FCE0-816B-46DB-A4A4-0A2CD32F1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E56EFCE-59EA-407E-97E5-BF1B323C0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E64A4BA-90D2-40CF-B917-1412C2B1A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22BEE25-2F3C-4ED4-851F-D53DF8089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B3D7E59-2246-47EB-9728-12CCC7A40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3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36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34F5579-56C9-4312-A9EC-1576E11CA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40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9656537-CE47-47A0-A640-3ECA50595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DE96565-FF59-4AFB-A0E0-984BDAC64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1F8698-1C27-4954-90DF-5921509EA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47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D8A0348-9B0C-47D4-ACDB-EF58FED06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4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5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51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52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53287DE-256A-49A0-92AD-42E25DB93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57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58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59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9F02035-18BD-4979-ADAA-2B3625C73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66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7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7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7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7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77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565CBB-3167-4C09-8791-7BCEEAA09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8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81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85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88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9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9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92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93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97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98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99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00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0033AC-A712-4E85-8AC8-A9AD88F0C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1E0249-D76B-46CB-B402-FE15F0FB9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B71A73-BDF2-485A-A15B-4D10853FF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BC8FE8-FD26-43E4-BB32-60E2517B8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AE1D8D-ACA7-4898-9D42-43D456EC8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FA88C2-E77D-4038-B6E9-B1B5EB24E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1F6B0A-B62A-4083-AD93-0D41D4F8B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2712-56B5-4039-8567-0C00A2B39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5FE2A4-4692-4288-ABDB-073803ABC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D6A46D-C0AD-4027-BF73-3359467E2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1A2415-EBD1-4763-A9E0-20759EDDE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A04A48-DB6C-46D3-87B9-600A1EA74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CA0278-6BD0-472E-B931-75E17B9BC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0DADA6-E24E-494B-BB1C-D8BFA7B3D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EB6BAE-5292-4E3E-AED3-C60DC1585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166652-3D33-48E9-A9B2-9DB1CDC8C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20F5C8-119F-411D-B69E-7E6ACA4E3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2E05C8-C398-4121-85B8-6A8695DAE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D98E-4AE7-42E3-9373-C40CB4824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CC3865-F827-4D0A-B0A3-EC7A6A0CC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D20EAF-9175-4EC8-89E6-BB6A0A830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77B980-F3D2-4E47-831A-08FBA94BC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233A5F-CCE2-403E-B80A-BC5D06E6F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17E5A4-60E3-4F79-87A9-FF466CDFC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8F91AF-3C38-44A8-B309-118D72C33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5A7EAB-A863-4737-9CB0-6AC2EDBC5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415B92-CB54-4950-B445-85200AD43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021017-0AD0-4B61-984E-D1457DE0E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2FA43E-316A-426B-9FAA-B58720B41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0A3E-AE96-4155-AA05-8658ED426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5338D9-9C61-4EB2-BCD4-55470F35F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CE830E-7E19-4DF5-88A1-842FA4883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A36639-24CC-47BE-B7BD-98ADC86BA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A9DA9E-EF3C-442D-9F5C-60EDC9DAA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00E7D1-3DBC-4B82-AFB1-514D3FAA4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7F108B-FE17-46C4-8A7E-C5356C9FF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887FCE-74B0-47E4-9F98-B0CE349AC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0DEF49-864A-4FA3-881F-6E87530AD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D8F48E-F955-4C36-841A-C8E1580F0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AD398A-474E-4F47-B4E0-FCE161A1B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A4AA-4178-4CCA-A919-8348C1D7B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DCDC18-284E-441D-B93A-B66965513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1EF0D9-E2C5-4AE9-81CA-FECDDA610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9961D9-031A-4EAC-B303-CAD67CC0B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58D0ED-93CC-4CB8-AEBB-916041E48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CF43C4-10AE-43B2-ACC1-9CA2818DB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20A438-8AB7-42FF-9D3A-2E8EDC352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08AC05-2EB8-487F-94F0-4368505E5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DAF90B-6444-4A57-9C65-B9637FA8B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4D4C38-EB15-45EF-9DEB-2A88C7777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B34F0F-B819-4209-A8C4-535EB7A7B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8250-61E5-44BC-B78B-E5A840517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92FEA1-A484-4A08-858D-75C09DB86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CEB6C3-F52C-4BFA-931E-E32E666AF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D1EBF8-1E3E-4658-BED1-03298B710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D9795D-DAC5-4E5B-A37F-CC295B124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DC47CA-C2D7-449B-BDA1-B02C2D912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B352E4-C499-4DC0-96FF-8842842E2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3D1347-7717-4FCF-A766-3AD4B5BDC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67F4D3-A5CC-4452-B2BF-ECC2C348D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1A941F-0A33-4EFE-8978-B528B8B84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76C62D-971D-4893-BFBB-4519D4636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E589-0D45-407D-A29F-69D19E4CD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FABBBB-4431-441F-AF01-97E7207C1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0FF00A-DF7E-4953-A4F8-A1E5ECFC5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9A77BA-934B-41D2-8E28-E62F64EB9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27DB87-3ADB-4FAF-8546-2E899D7FA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AE289D-72FB-4E47-A319-EF51F98E5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BF387C-1713-4D5D-975B-1C45A35C0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8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9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A07B2A-B9BB-45D7-89F9-83E40C91E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A88D32-C9BA-4FF9-8184-D4E2C332C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30956A-CD02-4597-9575-E75B08CC1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65C1A6-5498-4F8F-97FF-4F9BB58CD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01.xml"/><Relationship Id="rId5" Type="http://schemas.openxmlformats.org/officeDocument/2006/relationships/slideLayout" Target="../slideLayouts/slideLayout302.xml"/><Relationship Id="rId6" Type="http://schemas.openxmlformats.org/officeDocument/2006/relationships/slideLayout" Target="../slideLayouts/slideLayout303.xml"/><Relationship Id="rId7" Type="http://schemas.openxmlformats.org/officeDocument/2006/relationships/slideLayout" Target="../slideLayouts/slideLayout304.xml"/><Relationship Id="rId8" Type="http://schemas.openxmlformats.org/officeDocument/2006/relationships/slideLayout" Target="../slideLayouts/slideLayout305.xml"/><Relationship Id="rId9" Type="http://schemas.openxmlformats.org/officeDocument/2006/relationships/slideLayout" Target="../slideLayouts/slideLayout306.xml"/><Relationship Id="rId10" Type="http://schemas.openxmlformats.org/officeDocument/2006/relationships/slideLayout" Target="../slideLayouts/slideLayout307.xml"/><Relationship Id="rId11" Type="http://schemas.openxmlformats.org/officeDocument/2006/relationships/slideLayout" Target="../slideLayouts/slideLayout308.xml"/><Relationship Id="rId12" Type="http://schemas.openxmlformats.org/officeDocument/2006/relationships/slideLayout" Target="../slideLayouts/slideLayout309.xml"/><Relationship Id="rId13" Type="http://schemas.openxmlformats.org/officeDocument/2006/relationships/slideLayout" Target="../slideLayouts/slideLayout310.xml"/><Relationship Id="rId14" Type="http://schemas.openxmlformats.org/officeDocument/2006/relationships/slideLayout" Target="../slideLayouts/slideLayout311.xml"/><Relationship Id="rId15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13.xml"/><Relationship Id="rId5" Type="http://schemas.openxmlformats.org/officeDocument/2006/relationships/slideLayout" Target="../slideLayouts/slideLayout314.xml"/><Relationship Id="rId6" Type="http://schemas.openxmlformats.org/officeDocument/2006/relationships/slideLayout" Target="../slideLayouts/slideLayout315.xml"/><Relationship Id="rId7" Type="http://schemas.openxmlformats.org/officeDocument/2006/relationships/slideLayout" Target="../slideLayouts/slideLayout316.xml"/><Relationship Id="rId8" Type="http://schemas.openxmlformats.org/officeDocument/2006/relationships/slideLayout" Target="../slideLayouts/slideLayout317.xml"/><Relationship Id="rId9" Type="http://schemas.openxmlformats.org/officeDocument/2006/relationships/slideLayout" Target="../slideLayouts/slideLayout318.xml"/><Relationship Id="rId10" Type="http://schemas.openxmlformats.org/officeDocument/2006/relationships/slideLayout" Target="../slideLayouts/slideLayout319.xml"/><Relationship Id="rId11" Type="http://schemas.openxmlformats.org/officeDocument/2006/relationships/slideLayout" Target="../slideLayouts/slideLayout320.xml"/><Relationship Id="rId12" Type="http://schemas.openxmlformats.org/officeDocument/2006/relationships/slideLayout" Target="../slideLayouts/slideLayout321.xml"/><Relationship Id="rId13" Type="http://schemas.openxmlformats.org/officeDocument/2006/relationships/slideLayout" Target="../slideLayouts/slideLayout322.xml"/><Relationship Id="rId14" Type="http://schemas.openxmlformats.org/officeDocument/2006/relationships/slideLayout" Target="../slideLayouts/slideLayout323.xml"/><Relationship Id="rId15" Type="http://schemas.openxmlformats.org/officeDocument/2006/relationships/slideLayout" Target="../slideLayouts/slideLayout3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resset.c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7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505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506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507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 type="dt" idx="28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 type="ftr" idx="29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 type="sldNum" idx="30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2BEE9-C24F-4F89-8D82-F0FD9E79D22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550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551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dt" idx="31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 type="ftr" idx="32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 type="sldNum" idx="33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D7B62-2249-4C93-9C5C-6323AB3D682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593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594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595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 type="dt" idx="34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 type="ftr" idx="35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 type="sldNum" idx="36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D4073-CE0D-45C3-8A15-D07AD8B36DA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6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637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638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639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 type="dt" idx="37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 type="ftr" idx="38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 type="sldNum" idx="39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DD1D8-09DC-44A6-8739-849D9B84DC4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0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681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682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683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 type="dt" idx="40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 type="ftr" idx="41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 type="sldNum" idx="42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656AE-A04E-420B-9043-55D41666B34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Rectangle 127"/>
          <p:cNvSpPr/>
          <p:nvPr/>
        </p:nvSpPr>
        <p:spPr>
          <a:xfrm>
            <a:off x="0" y="0"/>
            <a:ext cx="9144000" cy="182880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grpSp>
        <p:nvGrpSpPr>
          <p:cNvPr id="725" name="Group 15"/>
          <p:cNvGrpSpPr/>
          <p:nvPr/>
        </p:nvGrpSpPr>
        <p:grpSpPr>
          <a:xfrm>
            <a:off x="152280" y="380880"/>
            <a:ext cx="6838920" cy="3365640"/>
            <a:chOff x="152280" y="380880"/>
            <a:chExt cx="6838920" cy="3365640"/>
          </a:xfrm>
        </p:grpSpPr>
        <p:sp>
          <p:nvSpPr>
            <p:cNvPr id="726" name="Freeform 16"/>
            <p:cNvSpPr/>
            <p:nvPr/>
          </p:nvSpPr>
          <p:spPr>
            <a:xfrm>
              <a:off x="277560" y="530280"/>
              <a:ext cx="2011680" cy="30765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27" name="Freeform 17"/>
            <p:cNvSpPr/>
            <p:nvPr/>
          </p:nvSpPr>
          <p:spPr>
            <a:xfrm>
              <a:off x="214200" y="824040"/>
              <a:ext cx="54000" cy="442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28" name="Freeform 18"/>
            <p:cNvSpPr/>
            <p:nvPr/>
          </p:nvSpPr>
          <p:spPr>
            <a:xfrm>
              <a:off x="701640" y="1019160"/>
              <a:ext cx="61920" cy="50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29" name="Freeform 19"/>
            <p:cNvSpPr/>
            <p:nvPr/>
          </p:nvSpPr>
          <p:spPr>
            <a:xfrm>
              <a:off x="1942920" y="1108080"/>
              <a:ext cx="155520" cy="1173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30" name="Freeform 20"/>
            <p:cNvSpPr/>
            <p:nvPr/>
          </p:nvSpPr>
          <p:spPr>
            <a:xfrm>
              <a:off x="1190520" y="1717560"/>
              <a:ext cx="250920" cy="1335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31" name="Freeform 21"/>
            <p:cNvSpPr/>
            <p:nvPr/>
          </p:nvSpPr>
          <p:spPr>
            <a:xfrm>
              <a:off x="1396800" y="1819440"/>
              <a:ext cx="157320" cy="648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32" name="Freeform 22"/>
            <p:cNvSpPr/>
            <p:nvPr/>
          </p:nvSpPr>
          <p:spPr>
            <a:xfrm>
              <a:off x="1563480" y="1860480"/>
              <a:ext cx="60480" cy="288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33" name="Freeform 23"/>
            <p:cNvSpPr/>
            <p:nvPr/>
          </p:nvSpPr>
          <p:spPr>
            <a:xfrm>
              <a:off x="1652400" y="1865160"/>
              <a:ext cx="19080" cy="399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34" name="Freeform 24"/>
            <p:cNvSpPr/>
            <p:nvPr/>
          </p:nvSpPr>
          <p:spPr>
            <a:xfrm>
              <a:off x="1361880" y="522360"/>
              <a:ext cx="285840" cy="1396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35" name="Freeform 25"/>
            <p:cNvSpPr/>
            <p:nvPr/>
          </p:nvSpPr>
          <p:spPr>
            <a:xfrm>
              <a:off x="1488960" y="457200"/>
              <a:ext cx="231840" cy="954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36" name="Freeform 26"/>
            <p:cNvSpPr/>
            <p:nvPr/>
          </p:nvSpPr>
          <p:spPr>
            <a:xfrm>
              <a:off x="1814400" y="568440"/>
              <a:ext cx="370080" cy="3016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37" name="Freeform 27"/>
            <p:cNvSpPr/>
            <p:nvPr/>
          </p:nvSpPr>
          <p:spPr>
            <a:xfrm>
              <a:off x="1811160" y="438120"/>
              <a:ext cx="69840" cy="586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38" name="Freeform 28"/>
            <p:cNvSpPr/>
            <p:nvPr/>
          </p:nvSpPr>
          <p:spPr>
            <a:xfrm>
              <a:off x="1677960" y="549360"/>
              <a:ext cx="102960" cy="666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39" name="Freeform 29"/>
            <p:cNvSpPr/>
            <p:nvPr/>
          </p:nvSpPr>
          <p:spPr>
            <a:xfrm>
              <a:off x="1785960" y="561960"/>
              <a:ext cx="85680" cy="396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40" name="Freeform 30"/>
            <p:cNvSpPr/>
            <p:nvPr/>
          </p:nvSpPr>
          <p:spPr>
            <a:xfrm>
              <a:off x="1739880" y="504720"/>
              <a:ext cx="101520" cy="540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41" name="Freeform 31"/>
            <p:cNvSpPr/>
            <p:nvPr/>
          </p:nvSpPr>
          <p:spPr>
            <a:xfrm>
              <a:off x="1697040" y="453960"/>
              <a:ext cx="69840" cy="381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42" name="Freeform 32"/>
            <p:cNvSpPr/>
            <p:nvPr/>
          </p:nvSpPr>
          <p:spPr>
            <a:xfrm>
              <a:off x="1877760" y="458640"/>
              <a:ext cx="181080" cy="1224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43" name="Freeform 33"/>
            <p:cNvSpPr/>
            <p:nvPr/>
          </p:nvSpPr>
          <p:spPr>
            <a:xfrm>
              <a:off x="152280" y="847800"/>
              <a:ext cx="39600" cy="23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44" name="Freeform 34"/>
            <p:cNvSpPr/>
            <p:nvPr/>
          </p:nvSpPr>
          <p:spPr>
            <a:xfrm>
              <a:off x="1353960" y="1658880"/>
              <a:ext cx="25560" cy="190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45" name="Freeform 35"/>
            <p:cNvSpPr/>
            <p:nvPr/>
          </p:nvSpPr>
          <p:spPr>
            <a:xfrm>
              <a:off x="1358640" y="1698480"/>
              <a:ext cx="25560" cy="190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46" name="Freeform 36"/>
            <p:cNvSpPr/>
            <p:nvPr/>
          </p:nvSpPr>
          <p:spPr>
            <a:xfrm>
              <a:off x="1682640" y="1908360"/>
              <a:ext cx="23760" cy="187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47" name="Freeform 37"/>
            <p:cNvSpPr/>
            <p:nvPr/>
          </p:nvSpPr>
          <p:spPr>
            <a:xfrm>
              <a:off x="1879560" y="1139760"/>
              <a:ext cx="60120" cy="288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48" name="Freeform 38"/>
            <p:cNvSpPr/>
            <p:nvPr/>
          </p:nvSpPr>
          <p:spPr>
            <a:xfrm>
              <a:off x="1720800" y="814320"/>
              <a:ext cx="60120" cy="288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49" name="Freeform 39"/>
            <p:cNvSpPr/>
            <p:nvPr/>
          </p:nvSpPr>
          <p:spPr>
            <a:xfrm>
              <a:off x="1823760" y="530280"/>
              <a:ext cx="61920" cy="284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50" name="Freeform 40"/>
            <p:cNvSpPr/>
            <p:nvPr/>
          </p:nvSpPr>
          <p:spPr>
            <a:xfrm>
              <a:off x="1923840" y="701640"/>
              <a:ext cx="60480" cy="288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51" name="Freeform 41"/>
            <p:cNvSpPr/>
            <p:nvPr/>
          </p:nvSpPr>
          <p:spPr>
            <a:xfrm>
              <a:off x="1949400" y="380880"/>
              <a:ext cx="1104840" cy="5493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52" name="Freeform 42"/>
            <p:cNvSpPr/>
            <p:nvPr/>
          </p:nvSpPr>
          <p:spPr>
            <a:xfrm>
              <a:off x="2287440" y="673200"/>
              <a:ext cx="61920" cy="381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53" name="Freeform 43"/>
            <p:cNvSpPr/>
            <p:nvPr/>
          </p:nvSpPr>
          <p:spPr>
            <a:xfrm>
              <a:off x="2736720" y="777960"/>
              <a:ext cx="203400" cy="856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54" name="Freeform 44"/>
            <p:cNvSpPr/>
            <p:nvPr/>
          </p:nvSpPr>
          <p:spPr>
            <a:xfrm>
              <a:off x="2896920" y="519120"/>
              <a:ext cx="61920" cy="381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55" name="Freeform 45"/>
            <p:cNvSpPr/>
            <p:nvPr/>
          </p:nvSpPr>
          <p:spPr>
            <a:xfrm>
              <a:off x="3324240" y="468360"/>
              <a:ext cx="245880" cy="1000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56" name="Freeform 46"/>
            <p:cNvSpPr/>
            <p:nvPr/>
          </p:nvSpPr>
          <p:spPr>
            <a:xfrm>
              <a:off x="3477960" y="520560"/>
              <a:ext cx="76320" cy="334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57" name="Freeform 47"/>
            <p:cNvSpPr/>
            <p:nvPr/>
          </p:nvSpPr>
          <p:spPr>
            <a:xfrm>
              <a:off x="3014640" y="952560"/>
              <a:ext cx="172800" cy="2095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58" name="Freeform 48"/>
            <p:cNvSpPr/>
            <p:nvPr/>
          </p:nvSpPr>
          <p:spPr>
            <a:xfrm>
              <a:off x="2928960" y="1028880"/>
              <a:ext cx="109440" cy="1076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59" name="Freeform 49"/>
            <p:cNvSpPr/>
            <p:nvPr/>
          </p:nvSpPr>
          <p:spPr>
            <a:xfrm>
              <a:off x="5605200" y="2843280"/>
              <a:ext cx="752760" cy="7858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60" name="Freeform 50"/>
            <p:cNvSpPr/>
            <p:nvPr/>
          </p:nvSpPr>
          <p:spPr>
            <a:xfrm>
              <a:off x="5838840" y="2428920"/>
              <a:ext cx="506160" cy="3333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61" name="Freeform 51"/>
            <p:cNvSpPr/>
            <p:nvPr/>
          </p:nvSpPr>
          <p:spPr>
            <a:xfrm>
              <a:off x="5852880" y="2432160"/>
              <a:ext cx="493920" cy="3348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62" name="Freeform 52"/>
            <p:cNvSpPr/>
            <p:nvPr/>
          </p:nvSpPr>
          <p:spPr>
            <a:xfrm>
              <a:off x="6218280" y="3654360"/>
              <a:ext cx="71280" cy="921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63" name="Freeform 53"/>
            <p:cNvSpPr/>
            <p:nvPr/>
          </p:nvSpPr>
          <p:spPr>
            <a:xfrm>
              <a:off x="6433920" y="3511440"/>
              <a:ext cx="260640" cy="1350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64" name="Freeform 54"/>
            <p:cNvSpPr/>
            <p:nvPr/>
          </p:nvSpPr>
          <p:spPr>
            <a:xfrm>
              <a:off x="6703920" y="3432240"/>
              <a:ext cx="165240" cy="1461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65" name="Freeform 55"/>
            <p:cNvSpPr/>
            <p:nvPr/>
          </p:nvSpPr>
          <p:spPr>
            <a:xfrm>
              <a:off x="6791400" y="3367080"/>
              <a:ext cx="58680" cy="414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66" name="Freeform 56"/>
            <p:cNvSpPr/>
            <p:nvPr/>
          </p:nvSpPr>
          <p:spPr>
            <a:xfrm>
              <a:off x="4056120" y="2595600"/>
              <a:ext cx="195120" cy="3189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67" name="Freeform 57"/>
            <p:cNvSpPr/>
            <p:nvPr/>
          </p:nvSpPr>
          <p:spPr>
            <a:xfrm>
              <a:off x="4900680" y="2100240"/>
              <a:ext cx="77760" cy="968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68" name="Freeform 58"/>
            <p:cNvSpPr/>
            <p:nvPr/>
          </p:nvSpPr>
          <p:spPr>
            <a:xfrm>
              <a:off x="5429160" y="2205000"/>
              <a:ext cx="176040" cy="2905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69" name="Freeform 59"/>
            <p:cNvSpPr/>
            <p:nvPr/>
          </p:nvSpPr>
          <p:spPr>
            <a:xfrm>
              <a:off x="5279760" y="2114640"/>
              <a:ext cx="114480" cy="2174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70" name="Freeform 60"/>
            <p:cNvSpPr/>
            <p:nvPr/>
          </p:nvSpPr>
          <p:spPr>
            <a:xfrm>
              <a:off x="5357880" y="2289240"/>
              <a:ext cx="63360" cy="2080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71" name="Freeform 61"/>
            <p:cNvSpPr/>
            <p:nvPr/>
          </p:nvSpPr>
          <p:spPr>
            <a:xfrm>
              <a:off x="5429160" y="2506680"/>
              <a:ext cx="103320" cy="856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72" name="Freeform 62"/>
            <p:cNvSpPr/>
            <p:nvPr/>
          </p:nvSpPr>
          <p:spPr>
            <a:xfrm>
              <a:off x="5594400" y="2355840"/>
              <a:ext cx="131760" cy="185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73" name="Freeform 63"/>
            <p:cNvSpPr/>
            <p:nvPr/>
          </p:nvSpPr>
          <p:spPr>
            <a:xfrm>
              <a:off x="5549760" y="1692360"/>
              <a:ext cx="34920" cy="1126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74" name="Freeform 64"/>
            <p:cNvSpPr/>
            <p:nvPr/>
          </p:nvSpPr>
          <p:spPr>
            <a:xfrm>
              <a:off x="5572080" y="1881360"/>
              <a:ext cx="96840" cy="1872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75" name="Freeform 65"/>
            <p:cNvSpPr/>
            <p:nvPr/>
          </p:nvSpPr>
          <p:spPr>
            <a:xfrm>
              <a:off x="5640120" y="2128680"/>
              <a:ext cx="101880" cy="1256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76" name="Freeform 66"/>
            <p:cNvSpPr/>
            <p:nvPr/>
          </p:nvSpPr>
          <p:spPr>
            <a:xfrm>
              <a:off x="5761080" y="2352600"/>
              <a:ext cx="45720" cy="77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77" name="Freeform 67"/>
            <p:cNvSpPr/>
            <p:nvPr/>
          </p:nvSpPr>
          <p:spPr>
            <a:xfrm>
              <a:off x="5735520" y="2482920"/>
              <a:ext cx="28440" cy="270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78" name="Freeform 68"/>
            <p:cNvSpPr/>
            <p:nvPr/>
          </p:nvSpPr>
          <p:spPr>
            <a:xfrm>
              <a:off x="5778360" y="2467080"/>
              <a:ext cx="71640" cy="586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79" name="Freeform 69"/>
            <p:cNvSpPr/>
            <p:nvPr/>
          </p:nvSpPr>
          <p:spPr>
            <a:xfrm>
              <a:off x="5887800" y="2577960"/>
              <a:ext cx="38160" cy="525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80" name="Freeform 70"/>
            <p:cNvSpPr/>
            <p:nvPr/>
          </p:nvSpPr>
          <p:spPr>
            <a:xfrm>
              <a:off x="6311880" y="2511360"/>
              <a:ext cx="73080" cy="745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81" name="Freeform 71"/>
            <p:cNvSpPr/>
            <p:nvPr/>
          </p:nvSpPr>
          <p:spPr>
            <a:xfrm>
              <a:off x="5681520" y="2604960"/>
              <a:ext cx="73080" cy="795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82" name="Freeform 72"/>
            <p:cNvSpPr/>
            <p:nvPr/>
          </p:nvSpPr>
          <p:spPr>
            <a:xfrm>
              <a:off x="5603760" y="2635200"/>
              <a:ext cx="50760" cy="428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83" name="Freeform 73"/>
            <p:cNvSpPr/>
            <p:nvPr/>
          </p:nvSpPr>
          <p:spPr>
            <a:xfrm>
              <a:off x="5570280" y="2589120"/>
              <a:ext cx="38160" cy="493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84" name="Freeform 74"/>
            <p:cNvSpPr/>
            <p:nvPr/>
          </p:nvSpPr>
          <p:spPr>
            <a:xfrm>
              <a:off x="5624280" y="2606760"/>
              <a:ext cx="54000" cy="381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85" name="Freeform 75"/>
            <p:cNvSpPr/>
            <p:nvPr/>
          </p:nvSpPr>
          <p:spPr>
            <a:xfrm>
              <a:off x="5546520" y="2079720"/>
              <a:ext cx="42840" cy="871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86" name="Freeform 76"/>
            <p:cNvSpPr/>
            <p:nvPr/>
          </p:nvSpPr>
          <p:spPr>
            <a:xfrm>
              <a:off x="5627520" y="2065320"/>
              <a:ext cx="30240" cy="874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87" name="Freeform 77"/>
            <p:cNvSpPr/>
            <p:nvPr/>
          </p:nvSpPr>
          <p:spPr>
            <a:xfrm>
              <a:off x="5662440" y="2038320"/>
              <a:ext cx="15840" cy="396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88" name="Freeform 78"/>
            <p:cNvSpPr/>
            <p:nvPr/>
          </p:nvSpPr>
          <p:spPr>
            <a:xfrm>
              <a:off x="5678280" y="2057400"/>
              <a:ext cx="33480" cy="763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89" name="Freeform 79"/>
            <p:cNvSpPr/>
            <p:nvPr/>
          </p:nvSpPr>
          <p:spPr>
            <a:xfrm>
              <a:off x="5251320" y="2166840"/>
              <a:ext cx="19080" cy="428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90" name="Freeform 80"/>
            <p:cNvSpPr/>
            <p:nvPr/>
          </p:nvSpPr>
          <p:spPr>
            <a:xfrm>
              <a:off x="5235480" y="2130480"/>
              <a:ext cx="15840" cy="23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91" name="Freeform 81"/>
            <p:cNvSpPr/>
            <p:nvPr/>
          </p:nvSpPr>
          <p:spPr>
            <a:xfrm>
              <a:off x="5229000" y="2102040"/>
              <a:ext cx="19080" cy="219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92" name="Freeform 82"/>
            <p:cNvSpPr/>
            <p:nvPr/>
          </p:nvSpPr>
          <p:spPr>
            <a:xfrm>
              <a:off x="5209920" y="2038320"/>
              <a:ext cx="17640" cy="302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93" name="Freeform 83"/>
            <p:cNvSpPr/>
            <p:nvPr/>
          </p:nvSpPr>
          <p:spPr>
            <a:xfrm>
              <a:off x="5213160" y="2077920"/>
              <a:ext cx="25560" cy="208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94" name="Freeform 84"/>
            <p:cNvSpPr/>
            <p:nvPr/>
          </p:nvSpPr>
          <p:spPr>
            <a:xfrm>
              <a:off x="6540480" y="3067200"/>
              <a:ext cx="71280" cy="950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95" name="Freeform 85"/>
            <p:cNvSpPr/>
            <p:nvPr/>
          </p:nvSpPr>
          <p:spPr>
            <a:xfrm>
              <a:off x="6906960" y="2989440"/>
              <a:ext cx="84240" cy="727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96" name="Freeform 86"/>
            <p:cNvSpPr/>
            <p:nvPr/>
          </p:nvSpPr>
          <p:spPr>
            <a:xfrm>
              <a:off x="6653160" y="2949480"/>
              <a:ext cx="27000" cy="367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97" name="Freeform 87"/>
            <p:cNvSpPr/>
            <p:nvPr/>
          </p:nvSpPr>
          <p:spPr>
            <a:xfrm>
              <a:off x="6640560" y="2914560"/>
              <a:ext cx="31680" cy="270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98" name="Freeform 88"/>
            <p:cNvSpPr/>
            <p:nvPr/>
          </p:nvSpPr>
          <p:spPr>
            <a:xfrm>
              <a:off x="6397560" y="2606760"/>
              <a:ext cx="38160" cy="522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99" name="Freeform 89"/>
            <p:cNvSpPr/>
            <p:nvPr/>
          </p:nvSpPr>
          <p:spPr>
            <a:xfrm>
              <a:off x="6451560" y="2674800"/>
              <a:ext cx="41040" cy="525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00" name="Freeform 90"/>
            <p:cNvSpPr/>
            <p:nvPr/>
          </p:nvSpPr>
          <p:spPr>
            <a:xfrm>
              <a:off x="6494400" y="2774880"/>
              <a:ext cx="44280" cy="446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01" name="Freeform 91"/>
            <p:cNvSpPr/>
            <p:nvPr/>
          </p:nvSpPr>
          <p:spPr>
            <a:xfrm>
              <a:off x="6548400" y="2759040"/>
              <a:ext cx="44280" cy="414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02" name="Freeform 92"/>
            <p:cNvSpPr/>
            <p:nvPr/>
          </p:nvSpPr>
          <p:spPr>
            <a:xfrm>
              <a:off x="6532560" y="2701800"/>
              <a:ext cx="41040" cy="320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03" name="Freeform 93"/>
            <p:cNvSpPr/>
            <p:nvPr/>
          </p:nvSpPr>
          <p:spPr>
            <a:xfrm>
              <a:off x="6491160" y="2662200"/>
              <a:ext cx="41400" cy="554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04" name="Freeform 94"/>
            <p:cNvSpPr/>
            <p:nvPr/>
          </p:nvSpPr>
          <p:spPr>
            <a:xfrm>
              <a:off x="6440400" y="2637000"/>
              <a:ext cx="38160" cy="410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05" name="Freeform 95"/>
            <p:cNvSpPr/>
            <p:nvPr/>
          </p:nvSpPr>
          <p:spPr>
            <a:xfrm>
              <a:off x="6503760" y="2720880"/>
              <a:ext cx="38160" cy="414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06" name="Freeform 96"/>
            <p:cNvSpPr/>
            <p:nvPr/>
          </p:nvSpPr>
          <p:spPr>
            <a:xfrm>
              <a:off x="3948120" y="539640"/>
              <a:ext cx="223560" cy="1717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07" name="Freeform 97"/>
            <p:cNvSpPr/>
            <p:nvPr/>
          </p:nvSpPr>
          <p:spPr>
            <a:xfrm>
              <a:off x="4081320" y="704880"/>
              <a:ext cx="63720" cy="190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08" name="Freeform 98"/>
            <p:cNvSpPr/>
            <p:nvPr/>
          </p:nvSpPr>
          <p:spPr>
            <a:xfrm>
              <a:off x="4406760" y="457200"/>
              <a:ext cx="66600" cy="446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09" name="Freeform 99"/>
            <p:cNvSpPr/>
            <p:nvPr/>
          </p:nvSpPr>
          <p:spPr>
            <a:xfrm>
              <a:off x="4454280" y="477720"/>
              <a:ext cx="79560" cy="320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10" name="Freeform 100"/>
            <p:cNvSpPr/>
            <p:nvPr/>
          </p:nvSpPr>
          <p:spPr>
            <a:xfrm>
              <a:off x="4540320" y="482760"/>
              <a:ext cx="79200" cy="50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11" name="Freeform 101"/>
            <p:cNvSpPr/>
            <p:nvPr/>
          </p:nvSpPr>
          <p:spPr>
            <a:xfrm>
              <a:off x="5094360" y="525600"/>
              <a:ext cx="139680" cy="489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12" name="Freeform 102"/>
            <p:cNvSpPr/>
            <p:nvPr/>
          </p:nvSpPr>
          <p:spPr>
            <a:xfrm>
              <a:off x="5236920" y="523800"/>
              <a:ext cx="73080" cy="381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13" name="Freeform 103"/>
            <p:cNvSpPr/>
            <p:nvPr/>
          </p:nvSpPr>
          <p:spPr>
            <a:xfrm>
              <a:off x="5203800" y="569880"/>
              <a:ext cx="58680" cy="270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14" name="Freeform 104"/>
            <p:cNvSpPr/>
            <p:nvPr/>
          </p:nvSpPr>
          <p:spPr>
            <a:xfrm>
              <a:off x="5603760" y="925560"/>
              <a:ext cx="120600" cy="1810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15" name="Freeform 105"/>
            <p:cNvSpPr/>
            <p:nvPr/>
          </p:nvSpPr>
          <p:spPr>
            <a:xfrm>
              <a:off x="5700600" y="1112760"/>
              <a:ext cx="87480" cy="1238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16" name="Freeform 106"/>
            <p:cNvSpPr/>
            <p:nvPr/>
          </p:nvSpPr>
          <p:spPr>
            <a:xfrm>
              <a:off x="5643360" y="1239840"/>
              <a:ext cx="173160" cy="2998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17" name="Freeform 107"/>
            <p:cNvSpPr/>
            <p:nvPr/>
          </p:nvSpPr>
          <p:spPr>
            <a:xfrm>
              <a:off x="3959280" y="439920"/>
              <a:ext cx="82440" cy="475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18" name="Freeform 108"/>
            <p:cNvSpPr/>
            <p:nvPr/>
          </p:nvSpPr>
          <p:spPr>
            <a:xfrm>
              <a:off x="3789360" y="453960"/>
              <a:ext cx="30240" cy="349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19" name="Freeform 109"/>
            <p:cNvSpPr/>
            <p:nvPr/>
          </p:nvSpPr>
          <p:spPr>
            <a:xfrm>
              <a:off x="3827520" y="452520"/>
              <a:ext cx="58680" cy="428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20" name="Freeform 110"/>
            <p:cNvSpPr/>
            <p:nvPr/>
          </p:nvSpPr>
          <p:spPr>
            <a:xfrm>
              <a:off x="3924360" y="438120"/>
              <a:ext cx="31680" cy="255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21" name="Freeform 111"/>
            <p:cNvSpPr/>
            <p:nvPr/>
          </p:nvSpPr>
          <p:spPr>
            <a:xfrm>
              <a:off x="3895560" y="466560"/>
              <a:ext cx="23760" cy="208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22" name="Freeform 112"/>
            <p:cNvSpPr/>
            <p:nvPr/>
          </p:nvSpPr>
          <p:spPr>
            <a:xfrm>
              <a:off x="5705280" y="492120"/>
              <a:ext cx="28800" cy="525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23" name="Freeform 113"/>
            <p:cNvSpPr/>
            <p:nvPr/>
          </p:nvSpPr>
          <p:spPr>
            <a:xfrm>
              <a:off x="4302000" y="2797200"/>
              <a:ext cx="49320" cy="284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24" name="Freeform 114"/>
            <p:cNvSpPr/>
            <p:nvPr/>
          </p:nvSpPr>
          <p:spPr>
            <a:xfrm>
              <a:off x="4365360" y="2786040"/>
              <a:ext cx="16200" cy="23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25" name="Freeform 115"/>
            <p:cNvSpPr/>
            <p:nvPr/>
          </p:nvSpPr>
          <p:spPr>
            <a:xfrm>
              <a:off x="4259160" y="2541600"/>
              <a:ext cx="14400" cy="23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26" name="Freeform 116"/>
            <p:cNvSpPr/>
            <p:nvPr/>
          </p:nvSpPr>
          <p:spPr>
            <a:xfrm>
              <a:off x="4354560" y="2425680"/>
              <a:ext cx="17280" cy="302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27" name="Freeform 117"/>
            <p:cNvSpPr/>
            <p:nvPr/>
          </p:nvSpPr>
          <p:spPr>
            <a:xfrm>
              <a:off x="4316400" y="2424240"/>
              <a:ext cx="17280" cy="298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28" name="Freeform 118"/>
            <p:cNvSpPr/>
            <p:nvPr/>
          </p:nvSpPr>
          <p:spPr>
            <a:xfrm>
              <a:off x="4298760" y="2459160"/>
              <a:ext cx="15840" cy="23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29" name="Freeform 119"/>
            <p:cNvSpPr/>
            <p:nvPr/>
          </p:nvSpPr>
          <p:spPr>
            <a:xfrm>
              <a:off x="4259160" y="2513160"/>
              <a:ext cx="14400" cy="23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30" name="Freeform 120"/>
            <p:cNvSpPr/>
            <p:nvPr/>
          </p:nvSpPr>
          <p:spPr>
            <a:xfrm>
              <a:off x="4289400" y="2492280"/>
              <a:ext cx="15840" cy="23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31" name="Freeform 121"/>
            <p:cNvSpPr/>
            <p:nvPr/>
          </p:nvSpPr>
          <p:spPr>
            <a:xfrm>
              <a:off x="3125520" y="923760"/>
              <a:ext cx="16200" cy="241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32" name="Freeform 122"/>
            <p:cNvSpPr/>
            <p:nvPr/>
          </p:nvSpPr>
          <p:spPr>
            <a:xfrm>
              <a:off x="3028680" y="870120"/>
              <a:ext cx="16200" cy="23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33" name="Freeform 123"/>
            <p:cNvSpPr/>
            <p:nvPr/>
          </p:nvSpPr>
          <p:spPr>
            <a:xfrm>
              <a:off x="2651040" y="525600"/>
              <a:ext cx="3270240" cy="26096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</p:grpSp>
      <p:pic>
        <p:nvPicPr>
          <p:cNvPr id="834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43"/>
          </p:nvPr>
        </p:nvSpPr>
        <p:spPr>
          <a:xfrm>
            <a:off x="304920" y="6476760"/>
            <a:ext cx="21333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44"/>
          </p:nvPr>
        </p:nvSpPr>
        <p:spPr>
          <a:xfrm>
            <a:off x="6705720" y="6477120"/>
            <a:ext cx="2286000" cy="26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resset.c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45"/>
          </p:nvPr>
        </p:nvSpPr>
        <p:spPr>
          <a:xfrm>
            <a:off x="3657240" y="647676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5C31B-6299-4C02-BD56-31CBCECA488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6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877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878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879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 type="dt" idx="46"/>
          </p:nvPr>
        </p:nvSpPr>
        <p:spPr>
          <a:xfrm>
            <a:off x="499680" y="6428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012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年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月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8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日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 type="ftr" idx="47"/>
          </p:nvPr>
        </p:nvSpPr>
        <p:spPr>
          <a:xfrm>
            <a:off x="3143160" y="6428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A147E-E1AB-41E4-93FA-493A7DBA4DB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 type="sldNum" idx="48"/>
          </p:nvPr>
        </p:nvSpPr>
        <p:spPr>
          <a:xfrm>
            <a:off x="6571800" y="6428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resset.c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0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921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922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923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 type="dt" idx="49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012-11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 type="ftr" idx="50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F63C9-0DE4-4350-BD78-150B3C926BB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PlaceHolder 5"/>
          <p:cNvSpPr>
            <a:spLocks noGrp="1"/>
          </p:cNvSpPr>
          <p:nvPr>
            <p:ph type="sldNum" idx="51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AS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编程技术</a:t>
            </a:r>
            <a:fld id="{A192382A-2A8E-4A5B-9703-4E84746E084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4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965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966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967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 type="dt" idx="52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 type="ftr" idx="53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 type="sldNum" idx="54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4D2C8-3140-4C52-8D34-F7246184779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8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1009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1010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1011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 type="dt" idx="55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 type="ftr" idx="56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015" name="PlaceHolder 5"/>
          <p:cNvSpPr>
            <a:spLocks noGrp="1"/>
          </p:cNvSpPr>
          <p:nvPr>
            <p:ph type="sldNum" idx="57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DCB93-AFD3-4704-A4D5-9FEAC1BD72B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resset.c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51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2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1053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1054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1055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 type="dt" idx="58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 type="ftr" idx="59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059" name="PlaceHolder 5"/>
          <p:cNvSpPr>
            <a:spLocks noGrp="1"/>
          </p:cNvSpPr>
          <p:nvPr>
            <p:ph type="sldNum" idx="60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96C55-40B8-403B-A43D-7389DFF1448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6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1097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1098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1099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 type="dt" idx="61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 type="ftr" idx="62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 type="sldNum" idx="63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595BF-758E-418B-83A5-E3DB67D3B0C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0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1141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1142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1143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 type="dt" idx="64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146" name="PlaceHolder 4"/>
          <p:cNvSpPr>
            <a:spLocks noGrp="1"/>
          </p:cNvSpPr>
          <p:nvPr>
            <p:ph type="ftr" idx="65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147" name="PlaceHolder 5"/>
          <p:cNvSpPr>
            <a:spLocks noGrp="1"/>
          </p:cNvSpPr>
          <p:nvPr>
            <p:ph type="sldNum" idx="66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11B75-04A3-4036-A994-70A7CAE7E83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4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1185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1186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1187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89" name="PlaceHolder 3"/>
          <p:cNvSpPr>
            <a:spLocks noGrp="1"/>
          </p:cNvSpPr>
          <p:nvPr>
            <p:ph type="dt" idx="67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190" name="PlaceHolder 4"/>
          <p:cNvSpPr>
            <a:spLocks noGrp="1"/>
          </p:cNvSpPr>
          <p:nvPr>
            <p:ph type="ftr" idx="68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191" name="PlaceHolder 5"/>
          <p:cNvSpPr>
            <a:spLocks noGrp="1"/>
          </p:cNvSpPr>
          <p:nvPr>
            <p:ph type="sldNum" idx="69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2F57D-775A-46A3-B0B0-01D63DF7489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8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1229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1230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1231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33" name="PlaceHolder 3"/>
          <p:cNvSpPr>
            <a:spLocks noGrp="1"/>
          </p:cNvSpPr>
          <p:nvPr>
            <p:ph type="dt" idx="70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234" name="PlaceHolder 4"/>
          <p:cNvSpPr>
            <a:spLocks noGrp="1"/>
          </p:cNvSpPr>
          <p:nvPr>
            <p:ph type="ftr" idx="71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235" name="PlaceHolder 5"/>
          <p:cNvSpPr>
            <a:spLocks noGrp="1"/>
          </p:cNvSpPr>
          <p:nvPr>
            <p:ph type="sldNum" idx="72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8D6DA-4D41-4F42-938C-3983B21B302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2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1273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1274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1275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77" name="PlaceHolder 3"/>
          <p:cNvSpPr>
            <a:spLocks noGrp="1"/>
          </p:cNvSpPr>
          <p:nvPr>
            <p:ph type="dt" idx="73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278" name="PlaceHolder 4"/>
          <p:cNvSpPr>
            <a:spLocks noGrp="1"/>
          </p:cNvSpPr>
          <p:nvPr>
            <p:ph type="ftr" idx="74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279" name="PlaceHolder 5"/>
          <p:cNvSpPr>
            <a:spLocks noGrp="1"/>
          </p:cNvSpPr>
          <p:nvPr>
            <p:ph type="sldNum" idx="75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AB8AA-6701-40FB-A212-3ED74299196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6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1317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1318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1319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 type="dt" idx="76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322" name="PlaceHolder 4"/>
          <p:cNvSpPr>
            <a:spLocks noGrp="1"/>
          </p:cNvSpPr>
          <p:nvPr>
            <p:ph type="ftr" idx="77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323" name="PlaceHolder 5"/>
          <p:cNvSpPr>
            <a:spLocks noGrp="1"/>
          </p:cNvSpPr>
          <p:nvPr>
            <p:ph type="sldNum" idx="78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64BD9-4C22-489A-BF4E-BA1EC6E6948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4"/>
    <p:sldLayoutId id="2147483975" r:id="rId5"/>
    <p:sldLayoutId id="2147483976" r:id="rId6"/>
    <p:sldLayoutId id="2147483977" r:id="rId7"/>
    <p:sldLayoutId id="2147483978" r:id="rId8"/>
    <p:sldLayoutId id="2147483979" r:id="rId9"/>
    <p:sldLayoutId id="2147483980" r:id="rId10"/>
    <p:sldLayoutId id="2147483981" r:id="rId11"/>
    <p:sldLayoutId id="2147483982" r:id="rId12"/>
    <p:sldLayoutId id="2147483983" r:id="rId13"/>
    <p:sldLayoutId id="2147483984" r:id="rId14"/>
    <p:sldLayoutId id="2147483985" r:id="rId15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0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1361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1362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1363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64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4"/>
    <p:sldLayoutId id="2147483988" r:id="rId5"/>
    <p:sldLayoutId id="2147483989" r:id="rId6"/>
    <p:sldLayoutId id="2147483990" r:id="rId7"/>
    <p:sldLayoutId id="2147483991" r:id="rId8"/>
    <p:sldLayoutId id="2147483992" r:id="rId9"/>
    <p:sldLayoutId id="2147483993" r:id="rId10"/>
    <p:sldLayoutId id="2147483994" r:id="rId11"/>
    <p:sldLayoutId id="2147483995" r:id="rId12"/>
    <p:sldLayoutId id="2147483996" r:id="rId13"/>
    <p:sldLayoutId id="2147483997" r:id="rId14"/>
    <p:sldLayoutId id="2147483998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27"/>
          <p:cNvSpPr/>
          <p:nvPr/>
        </p:nvSpPr>
        <p:spPr>
          <a:xfrm>
            <a:off x="0" y="0"/>
            <a:ext cx="9144000" cy="182880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grpSp>
        <p:nvGrpSpPr>
          <p:cNvPr id="89" name="Group 15"/>
          <p:cNvGrpSpPr/>
          <p:nvPr/>
        </p:nvGrpSpPr>
        <p:grpSpPr>
          <a:xfrm>
            <a:off x="152280" y="380880"/>
            <a:ext cx="6838920" cy="3365640"/>
            <a:chOff x="152280" y="380880"/>
            <a:chExt cx="6838920" cy="3365640"/>
          </a:xfrm>
        </p:grpSpPr>
        <p:sp>
          <p:nvSpPr>
            <p:cNvPr id="90" name="Freeform 16"/>
            <p:cNvSpPr/>
            <p:nvPr/>
          </p:nvSpPr>
          <p:spPr>
            <a:xfrm>
              <a:off x="277560" y="530280"/>
              <a:ext cx="2011680" cy="30765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214200" y="824040"/>
              <a:ext cx="54000" cy="442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701640" y="1019160"/>
              <a:ext cx="61920" cy="50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1942920" y="1108080"/>
              <a:ext cx="155520" cy="1173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1190520" y="1717560"/>
              <a:ext cx="250920" cy="1335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1396800" y="1819440"/>
              <a:ext cx="157320" cy="648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1563480" y="1860480"/>
              <a:ext cx="60480" cy="288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1652400" y="1865160"/>
              <a:ext cx="19080" cy="399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1361880" y="522360"/>
              <a:ext cx="285840" cy="1396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1488960" y="457200"/>
              <a:ext cx="231840" cy="954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1814400" y="568440"/>
              <a:ext cx="370080" cy="3016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1" name="Freeform 27"/>
            <p:cNvSpPr/>
            <p:nvPr/>
          </p:nvSpPr>
          <p:spPr>
            <a:xfrm>
              <a:off x="1811160" y="438120"/>
              <a:ext cx="69840" cy="586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2" name="Freeform 28"/>
            <p:cNvSpPr/>
            <p:nvPr/>
          </p:nvSpPr>
          <p:spPr>
            <a:xfrm>
              <a:off x="1677960" y="549360"/>
              <a:ext cx="102960" cy="666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3" name="Freeform 29"/>
            <p:cNvSpPr/>
            <p:nvPr/>
          </p:nvSpPr>
          <p:spPr>
            <a:xfrm>
              <a:off x="1785960" y="561960"/>
              <a:ext cx="85680" cy="396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1739880" y="504720"/>
              <a:ext cx="101520" cy="540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1697040" y="453960"/>
              <a:ext cx="69840" cy="381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6" name="Freeform 32"/>
            <p:cNvSpPr/>
            <p:nvPr/>
          </p:nvSpPr>
          <p:spPr>
            <a:xfrm>
              <a:off x="1877760" y="458640"/>
              <a:ext cx="181080" cy="1224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7" name="Freeform 33"/>
            <p:cNvSpPr/>
            <p:nvPr/>
          </p:nvSpPr>
          <p:spPr>
            <a:xfrm>
              <a:off x="152280" y="847800"/>
              <a:ext cx="39600" cy="23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8" name="Freeform 34"/>
            <p:cNvSpPr/>
            <p:nvPr/>
          </p:nvSpPr>
          <p:spPr>
            <a:xfrm>
              <a:off x="1353960" y="1658880"/>
              <a:ext cx="25560" cy="190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1358640" y="1698480"/>
              <a:ext cx="25560" cy="190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1682640" y="1908360"/>
              <a:ext cx="23760" cy="187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1" name="Freeform 37"/>
            <p:cNvSpPr/>
            <p:nvPr/>
          </p:nvSpPr>
          <p:spPr>
            <a:xfrm>
              <a:off x="1879560" y="1139760"/>
              <a:ext cx="60120" cy="288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2" name="Freeform 38"/>
            <p:cNvSpPr/>
            <p:nvPr/>
          </p:nvSpPr>
          <p:spPr>
            <a:xfrm>
              <a:off x="1720800" y="814320"/>
              <a:ext cx="60120" cy="288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3" name="Freeform 39"/>
            <p:cNvSpPr/>
            <p:nvPr/>
          </p:nvSpPr>
          <p:spPr>
            <a:xfrm>
              <a:off x="1823760" y="530280"/>
              <a:ext cx="61920" cy="284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4" name="Freeform 40"/>
            <p:cNvSpPr/>
            <p:nvPr/>
          </p:nvSpPr>
          <p:spPr>
            <a:xfrm>
              <a:off x="1923840" y="701640"/>
              <a:ext cx="60480" cy="288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5" name="Freeform 41"/>
            <p:cNvSpPr/>
            <p:nvPr/>
          </p:nvSpPr>
          <p:spPr>
            <a:xfrm>
              <a:off x="1949400" y="380880"/>
              <a:ext cx="1104840" cy="5493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6" name="Freeform 42"/>
            <p:cNvSpPr/>
            <p:nvPr/>
          </p:nvSpPr>
          <p:spPr>
            <a:xfrm>
              <a:off x="2287440" y="673200"/>
              <a:ext cx="61920" cy="381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7" name="Freeform 43"/>
            <p:cNvSpPr/>
            <p:nvPr/>
          </p:nvSpPr>
          <p:spPr>
            <a:xfrm>
              <a:off x="2736720" y="777960"/>
              <a:ext cx="203400" cy="856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8" name="Freeform 44"/>
            <p:cNvSpPr/>
            <p:nvPr/>
          </p:nvSpPr>
          <p:spPr>
            <a:xfrm>
              <a:off x="2896920" y="519120"/>
              <a:ext cx="61920" cy="381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9" name="Freeform 45"/>
            <p:cNvSpPr/>
            <p:nvPr/>
          </p:nvSpPr>
          <p:spPr>
            <a:xfrm>
              <a:off x="3324240" y="468360"/>
              <a:ext cx="245880" cy="1000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0" name="Freeform 46"/>
            <p:cNvSpPr/>
            <p:nvPr/>
          </p:nvSpPr>
          <p:spPr>
            <a:xfrm>
              <a:off x="3477960" y="520560"/>
              <a:ext cx="76320" cy="334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1" name="Freeform 47"/>
            <p:cNvSpPr/>
            <p:nvPr/>
          </p:nvSpPr>
          <p:spPr>
            <a:xfrm>
              <a:off x="3014640" y="952560"/>
              <a:ext cx="172800" cy="2095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2" name="Freeform 48"/>
            <p:cNvSpPr/>
            <p:nvPr/>
          </p:nvSpPr>
          <p:spPr>
            <a:xfrm>
              <a:off x="2928960" y="1028880"/>
              <a:ext cx="109440" cy="1076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3" name="Freeform 49"/>
            <p:cNvSpPr/>
            <p:nvPr/>
          </p:nvSpPr>
          <p:spPr>
            <a:xfrm>
              <a:off x="5605200" y="2843280"/>
              <a:ext cx="752760" cy="7858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4" name="Freeform 50"/>
            <p:cNvSpPr/>
            <p:nvPr/>
          </p:nvSpPr>
          <p:spPr>
            <a:xfrm>
              <a:off x="5838840" y="2428920"/>
              <a:ext cx="506160" cy="3333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5" name="Freeform 51"/>
            <p:cNvSpPr/>
            <p:nvPr/>
          </p:nvSpPr>
          <p:spPr>
            <a:xfrm>
              <a:off x="5852880" y="2432160"/>
              <a:ext cx="493920" cy="3348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6" name="Freeform 52"/>
            <p:cNvSpPr/>
            <p:nvPr/>
          </p:nvSpPr>
          <p:spPr>
            <a:xfrm>
              <a:off x="6218280" y="3654360"/>
              <a:ext cx="71280" cy="921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7" name="Freeform 53"/>
            <p:cNvSpPr/>
            <p:nvPr/>
          </p:nvSpPr>
          <p:spPr>
            <a:xfrm>
              <a:off x="6433920" y="3511440"/>
              <a:ext cx="260640" cy="1350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8" name="Freeform 54"/>
            <p:cNvSpPr/>
            <p:nvPr/>
          </p:nvSpPr>
          <p:spPr>
            <a:xfrm>
              <a:off x="6703920" y="3432240"/>
              <a:ext cx="165240" cy="1461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9" name="Freeform 55"/>
            <p:cNvSpPr/>
            <p:nvPr/>
          </p:nvSpPr>
          <p:spPr>
            <a:xfrm>
              <a:off x="6791400" y="3367080"/>
              <a:ext cx="58680" cy="414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0" name="Freeform 56"/>
            <p:cNvSpPr/>
            <p:nvPr/>
          </p:nvSpPr>
          <p:spPr>
            <a:xfrm>
              <a:off x="4056120" y="2595600"/>
              <a:ext cx="195120" cy="3189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1" name="Freeform 57"/>
            <p:cNvSpPr/>
            <p:nvPr/>
          </p:nvSpPr>
          <p:spPr>
            <a:xfrm>
              <a:off x="4900680" y="2100240"/>
              <a:ext cx="77760" cy="968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2" name="Freeform 58"/>
            <p:cNvSpPr/>
            <p:nvPr/>
          </p:nvSpPr>
          <p:spPr>
            <a:xfrm>
              <a:off x="5429160" y="2205000"/>
              <a:ext cx="176040" cy="2905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3" name="Freeform 59"/>
            <p:cNvSpPr/>
            <p:nvPr/>
          </p:nvSpPr>
          <p:spPr>
            <a:xfrm>
              <a:off x="5279760" y="2114640"/>
              <a:ext cx="114480" cy="2174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4" name="Freeform 60"/>
            <p:cNvSpPr/>
            <p:nvPr/>
          </p:nvSpPr>
          <p:spPr>
            <a:xfrm>
              <a:off x="5357880" y="2289240"/>
              <a:ext cx="63360" cy="2080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5" name="Freeform 61"/>
            <p:cNvSpPr/>
            <p:nvPr/>
          </p:nvSpPr>
          <p:spPr>
            <a:xfrm>
              <a:off x="5429160" y="2506680"/>
              <a:ext cx="103320" cy="856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6" name="Freeform 62"/>
            <p:cNvSpPr/>
            <p:nvPr/>
          </p:nvSpPr>
          <p:spPr>
            <a:xfrm>
              <a:off x="5594400" y="2355840"/>
              <a:ext cx="131760" cy="185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7" name="Freeform 63"/>
            <p:cNvSpPr/>
            <p:nvPr/>
          </p:nvSpPr>
          <p:spPr>
            <a:xfrm>
              <a:off x="5549760" y="1692360"/>
              <a:ext cx="34920" cy="1126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8" name="Freeform 64"/>
            <p:cNvSpPr/>
            <p:nvPr/>
          </p:nvSpPr>
          <p:spPr>
            <a:xfrm>
              <a:off x="5572080" y="1881360"/>
              <a:ext cx="96840" cy="1872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9" name="Freeform 65"/>
            <p:cNvSpPr/>
            <p:nvPr/>
          </p:nvSpPr>
          <p:spPr>
            <a:xfrm>
              <a:off x="5640120" y="2128680"/>
              <a:ext cx="101880" cy="1256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0" name="Freeform 66"/>
            <p:cNvSpPr/>
            <p:nvPr/>
          </p:nvSpPr>
          <p:spPr>
            <a:xfrm>
              <a:off x="5761080" y="2352600"/>
              <a:ext cx="45720" cy="77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1" name="Freeform 67"/>
            <p:cNvSpPr/>
            <p:nvPr/>
          </p:nvSpPr>
          <p:spPr>
            <a:xfrm>
              <a:off x="5735520" y="2482920"/>
              <a:ext cx="28440" cy="270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2" name="Freeform 68"/>
            <p:cNvSpPr/>
            <p:nvPr/>
          </p:nvSpPr>
          <p:spPr>
            <a:xfrm>
              <a:off x="5778360" y="2467080"/>
              <a:ext cx="71640" cy="586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3" name="Freeform 69"/>
            <p:cNvSpPr/>
            <p:nvPr/>
          </p:nvSpPr>
          <p:spPr>
            <a:xfrm>
              <a:off x="5887800" y="2577960"/>
              <a:ext cx="38160" cy="525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4" name="Freeform 70"/>
            <p:cNvSpPr/>
            <p:nvPr/>
          </p:nvSpPr>
          <p:spPr>
            <a:xfrm>
              <a:off x="6311880" y="2511360"/>
              <a:ext cx="73080" cy="745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5" name="Freeform 71"/>
            <p:cNvSpPr/>
            <p:nvPr/>
          </p:nvSpPr>
          <p:spPr>
            <a:xfrm>
              <a:off x="5681520" y="2604960"/>
              <a:ext cx="73080" cy="795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6" name="Freeform 72"/>
            <p:cNvSpPr/>
            <p:nvPr/>
          </p:nvSpPr>
          <p:spPr>
            <a:xfrm>
              <a:off x="5603760" y="2635200"/>
              <a:ext cx="50760" cy="428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7" name="Freeform 73"/>
            <p:cNvSpPr/>
            <p:nvPr/>
          </p:nvSpPr>
          <p:spPr>
            <a:xfrm>
              <a:off x="5570280" y="2589120"/>
              <a:ext cx="38160" cy="493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8" name="Freeform 74"/>
            <p:cNvSpPr/>
            <p:nvPr/>
          </p:nvSpPr>
          <p:spPr>
            <a:xfrm>
              <a:off x="5624280" y="2606760"/>
              <a:ext cx="54000" cy="381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9" name="Freeform 75"/>
            <p:cNvSpPr/>
            <p:nvPr/>
          </p:nvSpPr>
          <p:spPr>
            <a:xfrm>
              <a:off x="5546520" y="2079720"/>
              <a:ext cx="42840" cy="871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50" name="Freeform 76"/>
            <p:cNvSpPr/>
            <p:nvPr/>
          </p:nvSpPr>
          <p:spPr>
            <a:xfrm>
              <a:off x="5627520" y="2065320"/>
              <a:ext cx="30240" cy="874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51" name="Freeform 77"/>
            <p:cNvSpPr/>
            <p:nvPr/>
          </p:nvSpPr>
          <p:spPr>
            <a:xfrm>
              <a:off x="5662440" y="2038320"/>
              <a:ext cx="15840" cy="396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52" name="Freeform 78"/>
            <p:cNvSpPr/>
            <p:nvPr/>
          </p:nvSpPr>
          <p:spPr>
            <a:xfrm>
              <a:off x="5678280" y="2057400"/>
              <a:ext cx="33480" cy="763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53" name="Freeform 79"/>
            <p:cNvSpPr/>
            <p:nvPr/>
          </p:nvSpPr>
          <p:spPr>
            <a:xfrm>
              <a:off x="5251320" y="2166840"/>
              <a:ext cx="19080" cy="428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54" name="Freeform 80"/>
            <p:cNvSpPr/>
            <p:nvPr/>
          </p:nvSpPr>
          <p:spPr>
            <a:xfrm>
              <a:off x="5235480" y="2130480"/>
              <a:ext cx="15840" cy="23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55" name="Freeform 81"/>
            <p:cNvSpPr/>
            <p:nvPr/>
          </p:nvSpPr>
          <p:spPr>
            <a:xfrm>
              <a:off x="5229000" y="2102040"/>
              <a:ext cx="19080" cy="219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56" name="Freeform 82"/>
            <p:cNvSpPr/>
            <p:nvPr/>
          </p:nvSpPr>
          <p:spPr>
            <a:xfrm>
              <a:off x="5209920" y="2038320"/>
              <a:ext cx="17640" cy="302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57" name="Freeform 83"/>
            <p:cNvSpPr/>
            <p:nvPr/>
          </p:nvSpPr>
          <p:spPr>
            <a:xfrm>
              <a:off x="5213160" y="2077920"/>
              <a:ext cx="25560" cy="208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58" name="Freeform 84"/>
            <p:cNvSpPr/>
            <p:nvPr/>
          </p:nvSpPr>
          <p:spPr>
            <a:xfrm>
              <a:off x="6540480" y="3067200"/>
              <a:ext cx="71280" cy="950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59" name="Freeform 85"/>
            <p:cNvSpPr/>
            <p:nvPr/>
          </p:nvSpPr>
          <p:spPr>
            <a:xfrm>
              <a:off x="6906960" y="2989440"/>
              <a:ext cx="84240" cy="727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60" name="Freeform 86"/>
            <p:cNvSpPr/>
            <p:nvPr/>
          </p:nvSpPr>
          <p:spPr>
            <a:xfrm>
              <a:off x="6653160" y="2949480"/>
              <a:ext cx="27000" cy="367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61" name="Freeform 87"/>
            <p:cNvSpPr/>
            <p:nvPr/>
          </p:nvSpPr>
          <p:spPr>
            <a:xfrm>
              <a:off x="6640560" y="2914560"/>
              <a:ext cx="31680" cy="270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62" name="Freeform 88"/>
            <p:cNvSpPr/>
            <p:nvPr/>
          </p:nvSpPr>
          <p:spPr>
            <a:xfrm>
              <a:off x="6397560" y="2606760"/>
              <a:ext cx="38160" cy="522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63" name="Freeform 89"/>
            <p:cNvSpPr/>
            <p:nvPr/>
          </p:nvSpPr>
          <p:spPr>
            <a:xfrm>
              <a:off x="6451560" y="2674800"/>
              <a:ext cx="41040" cy="525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64" name="Freeform 90"/>
            <p:cNvSpPr/>
            <p:nvPr/>
          </p:nvSpPr>
          <p:spPr>
            <a:xfrm>
              <a:off x="6494400" y="2774880"/>
              <a:ext cx="44280" cy="446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65" name="Freeform 91"/>
            <p:cNvSpPr/>
            <p:nvPr/>
          </p:nvSpPr>
          <p:spPr>
            <a:xfrm>
              <a:off x="6548400" y="2759040"/>
              <a:ext cx="44280" cy="414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66" name="Freeform 92"/>
            <p:cNvSpPr/>
            <p:nvPr/>
          </p:nvSpPr>
          <p:spPr>
            <a:xfrm>
              <a:off x="6532560" y="2701800"/>
              <a:ext cx="41040" cy="320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67" name="Freeform 93"/>
            <p:cNvSpPr/>
            <p:nvPr/>
          </p:nvSpPr>
          <p:spPr>
            <a:xfrm>
              <a:off x="6491160" y="2662200"/>
              <a:ext cx="41400" cy="554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68" name="Freeform 94"/>
            <p:cNvSpPr/>
            <p:nvPr/>
          </p:nvSpPr>
          <p:spPr>
            <a:xfrm>
              <a:off x="6440400" y="2637000"/>
              <a:ext cx="38160" cy="410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69" name="Freeform 95"/>
            <p:cNvSpPr/>
            <p:nvPr/>
          </p:nvSpPr>
          <p:spPr>
            <a:xfrm>
              <a:off x="6503760" y="2720880"/>
              <a:ext cx="38160" cy="414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70" name="Freeform 96"/>
            <p:cNvSpPr/>
            <p:nvPr/>
          </p:nvSpPr>
          <p:spPr>
            <a:xfrm>
              <a:off x="3948120" y="539640"/>
              <a:ext cx="223560" cy="1717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71" name="Freeform 97"/>
            <p:cNvSpPr/>
            <p:nvPr/>
          </p:nvSpPr>
          <p:spPr>
            <a:xfrm>
              <a:off x="4081320" y="704880"/>
              <a:ext cx="63720" cy="190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72" name="Freeform 98"/>
            <p:cNvSpPr/>
            <p:nvPr/>
          </p:nvSpPr>
          <p:spPr>
            <a:xfrm>
              <a:off x="4406760" y="457200"/>
              <a:ext cx="66600" cy="446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73" name="Freeform 99"/>
            <p:cNvSpPr/>
            <p:nvPr/>
          </p:nvSpPr>
          <p:spPr>
            <a:xfrm>
              <a:off x="4454280" y="477720"/>
              <a:ext cx="79560" cy="320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74" name="Freeform 100"/>
            <p:cNvSpPr/>
            <p:nvPr/>
          </p:nvSpPr>
          <p:spPr>
            <a:xfrm>
              <a:off x="4540320" y="482760"/>
              <a:ext cx="79200" cy="50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75" name="Freeform 101"/>
            <p:cNvSpPr/>
            <p:nvPr/>
          </p:nvSpPr>
          <p:spPr>
            <a:xfrm>
              <a:off x="5094360" y="525600"/>
              <a:ext cx="139680" cy="489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76" name="Freeform 102"/>
            <p:cNvSpPr/>
            <p:nvPr/>
          </p:nvSpPr>
          <p:spPr>
            <a:xfrm>
              <a:off x="5236920" y="523800"/>
              <a:ext cx="73080" cy="381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77" name="Freeform 103"/>
            <p:cNvSpPr/>
            <p:nvPr/>
          </p:nvSpPr>
          <p:spPr>
            <a:xfrm>
              <a:off x="5203800" y="569880"/>
              <a:ext cx="58680" cy="270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78" name="Freeform 104"/>
            <p:cNvSpPr/>
            <p:nvPr/>
          </p:nvSpPr>
          <p:spPr>
            <a:xfrm>
              <a:off x="5603760" y="925560"/>
              <a:ext cx="120600" cy="1810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79" name="Freeform 105"/>
            <p:cNvSpPr/>
            <p:nvPr/>
          </p:nvSpPr>
          <p:spPr>
            <a:xfrm>
              <a:off x="5700600" y="1112760"/>
              <a:ext cx="87480" cy="1238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80" name="Freeform 106"/>
            <p:cNvSpPr/>
            <p:nvPr/>
          </p:nvSpPr>
          <p:spPr>
            <a:xfrm>
              <a:off x="5643360" y="1239840"/>
              <a:ext cx="173160" cy="2998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81" name="Freeform 107"/>
            <p:cNvSpPr/>
            <p:nvPr/>
          </p:nvSpPr>
          <p:spPr>
            <a:xfrm>
              <a:off x="3959280" y="439920"/>
              <a:ext cx="82440" cy="475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82" name="Freeform 108"/>
            <p:cNvSpPr/>
            <p:nvPr/>
          </p:nvSpPr>
          <p:spPr>
            <a:xfrm>
              <a:off x="3789360" y="453960"/>
              <a:ext cx="30240" cy="349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83" name="Freeform 109"/>
            <p:cNvSpPr/>
            <p:nvPr/>
          </p:nvSpPr>
          <p:spPr>
            <a:xfrm>
              <a:off x="3827520" y="452520"/>
              <a:ext cx="58680" cy="428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84" name="Freeform 110"/>
            <p:cNvSpPr/>
            <p:nvPr/>
          </p:nvSpPr>
          <p:spPr>
            <a:xfrm>
              <a:off x="3924360" y="438120"/>
              <a:ext cx="31680" cy="255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85" name="Freeform 111"/>
            <p:cNvSpPr/>
            <p:nvPr/>
          </p:nvSpPr>
          <p:spPr>
            <a:xfrm>
              <a:off x="3895560" y="466560"/>
              <a:ext cx="23760" cy="208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86" name="Freeform 112"/>
            <p:cNvSpPr/>
            <p:nvPr/>
          </p:nvSpPr>
          <p:spPr>
            <a:xfrm>
              <a:off x="5705280" y="492120"/>
              <a:ext cx="28800" cy="525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87" name="Freeform 113"/>
            <p:cNvSpPr/>
            <p:nvPr/>
          </p:nvSpPr>
          <p:spPr>
            <a:xfrm>
              <a:off x="4302000" y="2797200"/>
              <a:ext cx="49320" cy="284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88" name="Freeform 114"/>
            <p:cNvSpPr/>
            <p:nvPr/>
          </p:nvSpPr>
          <p:spPr>
            <a:xfrm>
              <a:off x="4365360" y="2786040"/>
              <a:ext cx="16200" cy="23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89" name="Freeform 115"/>
            <p:cNvSpPr/>
            <p:nvPr/>
          </p:nvSpPr>
          <p:spPr>
            <a:xfrm>
              <a:off x="4259160" y="2541600"/>
              <a:ext cx="14400" cy="23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90" name="Freeform 116"/>
            <p:cNvSpPr/>
            <p:nvPr/>
          </p:nvSpPr>
          <p:spPr>
            <a:xfrm>
              <a:off x="4354560" y="2425680"/>
              <a:ext cx="17280" cy="302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91" name="Freeform 117"/>
            <p:cNvSpPr/>
            <p:nvPr/>
          </p:nvSpPr>
          <p:spPr>
            <a:xfrm>
              <a:off x="4316400" y="2424240"/>
              <a:ext cx="17280" cy="298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92" name="Freeform 118"/>
            <p:cNvSpPr/>
            <p:nvPr/>
          </p:nvSpPr>
          <p:spPr>
            <a:xfrm>
              <a:off x="4298760" y="2459160"/>
              <a:ext cx="15840" cy="23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93" name="Freeform 119"/>
            <p:cNvSpPr/>
            <p:nvPr/>
          </p:nvSpPr>
          <p:spPr>
            <a:xfrm>
              <a:off x="4259160" y="2513160"/>
              <a:ext cx="14400" cy="23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94" name="Freeform 120"/>
            <p:cNvSpPr/>
            <p:nvPr/>
          </p:nvSpPr>
          <p:spPr>
            <a:xfrm>
              <a:off x="4289400" y="2492280"/>
              <a:ext cx="15840" cy="23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95" name="Freeform 121"/>
            <p:cNvSpPr/>
            <p:nvPr/>
          </p:nvSpPr>
          <p:spPr>
            <a:xfrm>
              <a:off x="3125520" y="923760"/>
              <a:ext cx="16200" cy="241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96" name="Freeform 122"/>
            <p:cNvSpPr/>
            <p:nvPr/>
          </p:nvSpPr>
          <p:spPr>
            <a:xfrm>
              <a:off x="3028680" y="870120"/>
              <a:ext cx="16200" cy="23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97" name="Freeform 123"/>
            <p:cNvSpPr/>
            <p:nvPr/>
          </p:nvSpPr>
          <p:spPr>
            <a:xfrm>
              <a:off x="2651040" y="525600"/>
              <a:ext cx="3270240" cy="26096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</p:grpSp>
      <p:pic>
        <p:nvPicPr>
          <p:cNvPr id="198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dt" idx="7"/>
          </p:nvPr>
        </p:nvSpPr>
        <p:spPr>
          <a:xfrm>
            <a:off x="304920" y="6476760"/>
            <a:ext cx="21333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 type="ftr" idx="8"/>
          </p:nvPr>
        </p:nvSpPr>
        <p:spPr>
          <a:xfrm>
            <a:off x="6705720" y="6477120"/>
            <a:ext cx="2286000" cy="26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resset.c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 type="sldNum" idx="9"/>
          </p:nvPr>
        </p:nvSpPr>
        <p:spPr>
          <a:xfrm>
            <a:off x="3657240" y="647676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3B4DF-B912-4343-BD16-E3C47ED4A5C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241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242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10"/>
          </p:nvPr>
        </p:nvSpPr>
        <p:spPr>
          <a:xfrm>
            <a:off x="499680" y="6428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012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年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月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8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日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ftr" idx="11"/>
          </p:nvPr>
        </p:nvSpPr>
        <p:spPr>
          <a:xfrm>
            <a:off x="3143160" y="6428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E9B2F-8839-4525-BF44-80D59CDA860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sldNum" idx="12"/>
          </p:nvPr>
        </p:nvSpPr>
        <p:spPr>
          <a:xfrm>
            <a:off x="6571800" y="6428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resset.c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285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286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287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13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14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15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91092-B957-4991-9832-88C96F36A94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329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330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16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17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18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173CA-AFBF-4EE5-9185-894B06D3D35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373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374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375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19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ftr" idx="20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sldNum" idx="21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563AA-3782-4B97-8156-3888CC46CC4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417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418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419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 type="dt" idx="22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 type="ftr" idx="23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 type="sldNum" idx="24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F23B6-5C45-44C6-A42D-C02875BE15B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461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462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463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25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26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27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515E0-1939-49C9-A54C-579B295AB08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4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4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4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4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4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4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4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4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9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4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4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4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Rectangle 6"/>
          <p:cNvSpPr/>
          <p:nvPr/>
        </p:nvSpPr>
        <p:spPr>
          <a:xfrm>
            <a:off x="3708000" y="3929760"/>
            <a:ext cx="21420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c6a8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80808"/>
                </a:solidFill>
                <a:latin typeface="黑体"/>
                <a:ea typeface="黑体"/>
              </a:rPr>
              <a:t>清华大学经济管理学院   朱世武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409" name="Rectangle 6"/>
          <p:cNvSpPr/>
          <p:nvPr/>
        </p:nvSpPr>
        <p:spPr>
          <a:xfrm>
            <a:off x="3071880" y="4500720"/>
            <a:ext cx="38512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c6a8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zhushw@sem.tsinghua.edu.cn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zhushw@resset.cn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410" name="Rectangle 7"/>
          <p:cNvSpPr/>
          <p:nvPr/>
        </p:nvSpPr>
        <p:spPr>
          <a:xfrm>
            <a:off x="3064680" y="5322600"/>
            <a:ext cx="611676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c6a8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</a:rPr>
              <a:t>Zhu Shiwu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</a:rPr>
              <a:t>School of Economics and Management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, 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</a:rPr>
              <a:t>Tsinghua University </a:t>
            </a:r>
            <a:br>
              <a:rPr sz="1800"/>
            </a:b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1258920" y="1341000"/>
            <a:ext cx="6624720" cy="20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7030a0"/>
                </a:solidFill>
                <a:latin typeface="Arial"/>
                <a:ea typeface="宋体"/>
              </a:rPr>
              <a:t>第</a:t>
            </a:r>
            <a:r>
              <a:rPr b="1" i="1" lang="en-US" sz="4400" spc="-1" strike="noStrike">
                <a:solidFill>
                  <a:srgbClr val="7030a0"/>
                </a:solidFill>
                <a:latin typeface="Arial"/>
                <a:ea typeface="宋体"/>
              </a:rPr>
              <a:t>16</a:t>
            </a:r>
            <a:r>
              <a:rPr b="1" i="1" lang="zh-CN" sz="4400" spc="-1" strike="noStrike">
                <a:solidFill>
                  <a:srgbClr val="7030a0"/>
                </a:solidFill>
                <a:latin typeface="Arial"/>
                <a:ea typeface="宋体"/>
              </a:rPr>
              <a:t>章 宏编程技术</a:t>
            </a:r>
            <a:endParaRPr b="1" i="1" lang="en-US" sz="4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4" name="Picture 2" descr=""/>
          <p:cNvPicPr/>
          <p:nvPr/>
        </p:nvPicPr>
        <p:blipFill>
          <a:blip r:embed="rId1"/>
          <a:srcRect l="0" t="6251" r="630" b="0"/>
          <a:stretch/>
        </p:blipFill>
        <p:spPr>
          <a:xfrm>
            <a:off x="1171440" y="1071720"/>
            <a:ext cx="6758280" cy="51433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2c6a89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/>
          </p:nvPr>
        </p:nvSpPr>
        <p:spPr>
          <a:xfrm>
            <a:off x="856800" y="928800"/>
            <a:ext cx="8286840" cy="560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16</a:t>
            </a:r>
            <a:r>
              <a:rPr b="0" lang="zh-CN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.5 </a:t>
            </a:r>
            <a:r>
              <a:rPr b="0" lang="zh-CN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宏变量的值为一段完整的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SAS</a:t>
            </a:r>
            <a:r>
              <a:rPr b="0" lang="zh-CN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程序段。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%le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plot=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%st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proc gplot data=a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plot clpr*date=</a:t>
            </a:r>
            <a:r>
              <a:rPr b="1" lang="en-US" sz="16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symbol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v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=star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=join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1" lang="en-US" sz="16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=red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; 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)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例中，必须使用</a:t>
            </a:r>
            <a:r>
              <a:rPr b="0" lang="zh-CN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%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STR</a:t>
            </a:r>
            <a:r>
              <a:rPr b="0" lang="zh-CN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函数围住宏变量的值，在以后的程序中可以用</a:t>
            </a:r>
            <a:r>
              <a:rPr b="0" lang="zh-CN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&amp;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PLOT</a:t>
            </a:r>
            <a:r>
              <a:rPr b="0" lang="zh-CN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来引用这段程序。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%le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m=2000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%le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n=1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a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se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ResDat.stk000002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wher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year(date)=&amp;m and month(date)=&amp;n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&amp;plot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title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600" spc="-1" strike="noStrike">
                <a:solidFill>
                  <a:srgbClr val="800080"/>
                </a:solidFill>
                <a:latin typeface="Times New Roman"/>
                <a:ea typeface="宋体"/>
              </a:rPr>
              <a:t>"&amp;m </a:t>
            </a:r>
            <a:r>
              <a:rPr b="0" lang="zh-CN" sz="1600" spc="-1" strike="noStrike">
                <a:solidFill>
                  <a:srgbClr val="800080"/>
                </a:solidFill>
                <a:latin typeface="Times New Roman"/>
                <a:ea typeface="宋体"/>
              </a:rPr>
              <a:t>年 </a:t>
            </a:r>
            <a:r>
              <a:rPr b="0" lang="zh-CN" sz="1600" spc="-1" strike="noStrike">
                <a:solidFill>
                  <a:srgbClr val="800080"/>
                </a:solidFill>
                <a:latin typeface="Times New Roman"/>
                <a:ea typeface="宋体"/>
              </a:rPr>
              <a:t>&amp;</a:t>
            </a:r>
            <a:r>
              <a:rPr b="0" lang="en-US" sz="1600" spc="-1" strike="noStrike">
                <a:solidFill>
                  <a:srgbClr val="800080"/>
                </a:solidFill>
                <a:latin typeface="Times New Roman"/>
                <a:ea typeface="宋体"/>
              </a:rPr>
              <a:t>n </a:t>
            </a:r>
            <a:r>
              <a:rPr b="0" lang="zh-CN" sz="1600" spc="-1" strike="noStrike">
                <a:solidFill>
                  <a:srgbClr val="800080"/>
                </a:solidFill>
                <a:latin typeface="Times New Roman"/>
                <a:ea typeface="宋体"/>
              </a:rPr>
              <a:t>月份收盘价时序图</a:t>
            </a:r>
            <a:r>
              <a:rPr b="0" lang="zh-CN" sz="1600" spc="-1" strike="noStrike">
                <a:solidFill>
                  <a:srgbClr val="800080"/>
                </a:solidFill>
                <a:latin typeface="Times New Roman"/>
                <a:ea typeface="宋体"/>
              </a:rPr>
              <a:t>"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例中，如果不执行宏</a:t>
            </a:r>
            <a:r>
              <a:rPr b="0" lang="zh-CN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&amp;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PLOT</a:t>
            </a:r>
            <a:r>
              <a:rPr b="0" lang="zh-CN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步的程序时，可将其设定为空值（</a:t>
            </a:r>
            <a:r>
              <a:rPr b="0" lang="zh-CN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%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LET PLOT= ;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）。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6" name="Picture 2" descr=""/>
          <p:cNvPicPr/>
          <p:nvPr/>
        </p:nvPicPr>
        <p:blipFill>
          <a:blip r:embed="rId1"/>
          <a:stretch/>
        </p:blipFill>
        <p:spPr>
          <a:xfrm>
            <a:off x="1057320" y="857160"/>
            <a:ext cx="7029360" cy="56008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2c6a89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/>
          </p:nvPr>
        </p:nvSpPr>
        <p:spPr>
          <a:xfrm>
            <a:off x="1357200" y="856800"/>
            <a:ext cx="6019920" cy="54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16</a:t>
            </a:r>
            <a:r>
              <a:rPr b="0" lang="zh-CN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.6 </a:t>
            </a:r>
            <a:r>
              <a:rPr b="0" lang="zh-CN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宏变量的嵌套引用。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%le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m=2000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%le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n=1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%le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xvar=date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%le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yvar=clpr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%le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plot=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%st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proc gplot data=a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title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"&amp;m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年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&amp;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n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月份收盘价时序图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"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plo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&amp;yvar*&amp;xvar=</a:t>
            </a:r>
            <a:r>
              <a:rPr b="1" lang="en-US" sz="16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symbol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v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=star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=join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1" lang="en-US" sz="16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=red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; 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)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a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se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ResDat.stk000002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wher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year(date)=&amp;m and month(date)=&amp;n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&amp;plot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600" spc="-1" strike="noStrike">
                <a:solidFill>
                  <a:srgbClr val="000080"/>
                </a:solidFill>
                <a:latin typeface="Times New Roman"/>
                <a:ea typeface="宋体"/>
              </a:rPr>
              <a:t>prin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titl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600" spc="-1" strike="noStrike">
                <a:solidFill>
                  <a:srgbClr val="800080"/>
                </a:solidFill>
                <a:latin typeface="Times New Roman"/>
                <a:ea typeface="宋体"/>
              </a:rPr>
              <a:t>"&amp;m </a:t>
            </a:r>
            <a:r>
              <a:rPr b="0" lang="zh-CN" sz="1600" spc="-1" strike="noStrike">
                <a:solidFill>
                  <a:srgbClr val="800080"/>
                </a:solidFill>
                <a:latin typeface="Times New Roman"/>
                <a:ea typeface="宋体"/>
              </a:rPr>
              <a:t>年 </a:t>
            </a:r>
            <a:r>
              <a:rPr b="0" lang="zh-CN" sz="1600" spc="-1" strike="noStrike">
                <a:solidFill>
                  <a:srgbClr val="800080"/>
                </a:solidFill>
                <a:latin typeface="Times New Roman"/>
                <a:ea typeface="宋体"/>
              </a:rPr>
              <a:t>&amp;</a:t>
            </a:r>
            <a:r>
              <a:rPr b="0" lang="en-US" sz="1600" spc="-1" strike="noStrike">
                <a:solidFill>
                  <a:srgbClr val="800080"/>
                </a:solidFill>
                <a:latin typeface="Times New Roman"/>
                <a:ea typeface="宋体"/>
              </a:rPr>
              <a:t>n </a:t>
            </a:r>
            <a:r>
              <a:rPr b="0" lang="zh-CN" sz="1600" spc="-1" strike="noStrike">
                <a:solidFill>
                  <a:srgbClr val="800080"/>
                </a:solidFill>
                <a:latin typeface="Times New Roman"/>
                <a:ea typeface="宋体"/>
              </a:rPr>
              <a:t>月份收盘价</a:t>
            </a:r>
            <a:r>
              <a:rPr b="0" lang="zh-CN" sz="1600" spc="-1" strike="noStrike">
                <a:solidFill>
                  <a:srgbClr val="800080"/>
                </a:solidFill>
                <a:latin typeface="Times New Roman"/>
                <a:ea typeface="宋体"/>
              </a:rPr>
              <a:t>"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8" name="Picture 2" descr=""/>
          <p:cNvPicPr/>
          <p:nvPr/>
        </p:nvPicPr>
        <p:blipFill>
          <a:blip r:embed="rId1"/>
          <a:stretch/>
        </p:blipFill>
        <p:spPr>
          <a:xfrm>
            <a:off x="1057320" y="900000"/>
            <a:ext cx="7029360" cy="56008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2c6a89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2060"/>
                </a:solidFill>
                <a:latin typeface="Times New Roman"/>
                <a:ea typeface="宋体"/>
              </a:rPr>
              <a:t>如何隔开宏变量引用和文本</a:t>
            </a:r>
            <a:r>
              <a:rPr b="0" lang="zh-TW" sz="2800" spc="-1" strike="noStrike">
                <a:solidFill>
                  <a:srgbClr val="002060"/>
                </a:solidFill>
                <a:latin typeface="Times New Roman"/>
                <a:ea typeface="新細明體"/>
              </a:rPr>
              <a:t> </a:t>
            </a:r>
            <a:endParaRPr b="1" i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30" name="PlaceHolder 2"/>
          <p:cNvSpPr>
            <a:spLocks noGrp="1"/>
          </p:cNvSpPr>
          <p:nvPr>
            <p:ph/>
          </p:nvPr>
        </p:nvSpPr>
        <p:spPr>
          <a:xfrm>
            <a:off x="857160" y="1571400"/>
            <a:ext cx="77724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92d05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在混合使用宏变量引用和文本的时候，会遇到宏变量后面紧跟着文本的情况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92d05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如定义宏变量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nam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后，当使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&amp;name1,&amp;name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时，如果不定义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name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name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这两个宏变量，系统就会提示这两个宏变量并不存在，因为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AS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识别宏变量的时候，自动将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name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name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当成了宏变量的名称。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92d05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在宏的引用过程中，当词段扫描器识别一个宏变量名称时，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&amp;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开始直到遇到一个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AS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名称中不允许出现的字符为止。所以空格等一些不允许出现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AS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名称中的字符就可以作为分隔符出现，但是为了不显示这些分隔符，一般使用句号来作为分隔符使用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/>
          </p:nvPr>
        </p:nvSpPr>
        <p:spPr>
          <a:xfrm>
            <a:off x="857160" y="1142640"/>
            <a:ext cx="7772400" cy="185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例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16.7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隔开宏变量引用和文本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%l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name=Resdat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%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&amp;name^1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%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&amp;name.1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%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&amp;name..sheet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32" name="矩形 3"/>
          <p:cNvSpPr/>
          <p:nvPr/>
        </p:nvSpPr>
        <p:spPr>
          <a:xfrm>
            <a:off x="1357200" y="3714840"/>
            <a:ext cx="5214960" cy="2571840"/>
          </a:xfrm>
          <a:prstGeom prst="rect">
            <a:avLst/>
          </a:prstGeom>
          <a:noFill/>
          <a:ln w="25560">
            <a:solidFill>
              <a:srgbClr val="348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1    %let name=Resdat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2    %PUT &amp;name^1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Resdat^1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3    %put &amp;name.1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Resdat1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4    %put &amp;name..sheet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Resdat.sheet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433" name="TextBox 4"/>
          <p:cNvSpPr/>
          <p:nvPr/>
        </p:nvSpPr>
        <p:spPr>
          <a:xfrm>
            <a:off x="1285920" y="321480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日志窗口信息：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2060"/>
                </a:solidFill>
                <a:latin typeface="Times New Roman"/>
                <a:ea typeface="宋体"/>
              </a:rPr>
              <a:t>显示宏变量值 </a:t>
            </a:r>
            <a:endParaRPr b="1" i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35" name="PlaceHolder 2"/>
          <p:cNvSpPr>
            <a:spLocks noGrp="1"/>
          </p:cNvSpPr>
          <p:nvPr>
            <p:ph/>
          </p:nvPr>
        </p:nvSpPr>
        <p:spPr>
          <a:xfrm>
            <a:off x="1000080" y="1500120"/>
            <a:ext cx="721512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显示宏变量的最简单方法是使用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%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put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，它将文本输出到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AS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的日志窗口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格式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%PUT &lt;text | _all_ | _automatic_ | _global_ | _local_ | _user_&gt;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 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1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6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.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8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显示宏变量的值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_null_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%l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a=first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%l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b=macro variable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%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&amp;a !!! &amp;b !!!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LOG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窗口显示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36" name="矩形 4"/>
          <p:cNvSpPr/>
          <p:nvPr/>
        </p:nvSpPr>
        <p:spPr>
          <a:xfrm>
            <a:off x="1143000" y="5500800"/>
            <a:ext cx="3143160" cy="500040"/>
          </a:xfrm>
          <a:prstGeom prst="rect">
            <a:avLst/>
          </a:prstGeom>
          <a:noFill/>
          <a:ln w="25560">
            <a:solidFill>
              <a:srgbClr val="348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first !!! macro variable !!!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2060"/>
                </a:solidFill>
                <a:latin typeface="Times New Roman"/>
                <a:ea typeface="宋体"/>
              </a:rPr>
              <a:t>间接引用宏变量</a:t>
            </a:r>
            <a:r>
              <a:rPr b="0" lang="zh-TW" sz="2800" spc="-1" strike="noStrike">
                <a:solidFill>
                  <a:srgbClr val="002060"/>
                </a:solidFill>
                <a:latin typeface="Times New Roman"/>
                <a:ea typeface="新細明體"/>
              </a:rPr>
              <a:t> </a:t>
            </a:r>
            <a:endParaRPr b="1" i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38" name="PlaceHolder 2"/>
          <p:cNvSpPr>
            <a:spLocks noGrp="1"/>
          </p:cNvSpPr>
          <p:nvPr>
            <p:ph/>
          </p:nvPr>
        </p:nvSpPr>
        <p:spPr>
          <a:xfrm>
            <a:off x="857160" y="1356840"/>
            <a:ext cx="785808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对一系列的宏变量引用，如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data1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，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data2, data3,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这一系列中部分文本是固定的名称，而另一部分是变化的数字。这时就可以采取间接引用方式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16.9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间接引用宏变量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%l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data1=x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%l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data2=y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%l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data3=z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%macro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test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%d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i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%to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%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&amp;&amp;data&amp;i;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*&amp;data&amp;i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不能用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*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%e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%men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test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%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test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39" name="矩形 3"/>
          <p:cNvSpPr/>
          <p:nvPr/>
        </p:nvSpPr>
        <p:spPr>
          <a:xfrm>
            <a:off x="6357960" y="5286240"/>
            <a:ext cx="714240" cy="1143000"/>
          </a:xfrm>
          <a:prstGeom prst="rect">
            <a:avLst/>
          </a:prstGeom>
          <a:solidFill>
            <a:srgbClr val="4ab1e4"/>
          </a:solidFill>
          <a:ln w="25560">
            <a:solidFill>
              <a:srgbClr val="348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440" name="TextBox 4"/>
          <p:cNvSpPr/>
          <p:nvPr/>
        </p:nvSpPr>
        <p:spPr>
          <a:xfrm>
            <a:off x="4429080" y="5357880"/>
            <a:ext cx="19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LOG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窗口显示：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Times New Roman"/>
                <a:ea typeface="宋体"/>
              </a:rPr>
              <a:t>宏变量范围</a:t>
            </a:r>
            <a:r>
              <a:rPr b="1" lang="zh-TW" sz="2800" spc="-1" strike="noStrike">
                <a:solidFill>
                  <a:srgbClr val="002060"/>
                </a:solidFill>
                <a:latin typeface="Times New Roman"/>
                <a:ea typeface="新細明體"/>
              </a:rPr>
              <a:t> </a:t>
            </a:r>
            <a:endParaRPr b="1" i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42" name="PlaceHolder 2"/>
          <p:cNvSpPr>
            <a:spLocks noGrp="1"/>
          </p:cNvSpPr>
          <p:nvPr>
            <p:ph/>
          </p:nvPr>
        </p:nvSpPr>
        <p:spPr>
          <a:xfrm>
            <a:off x="857160" y="1928880"/>
            <a:ext cx="7772400" cy="23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buClr>
                <a:srgbClr val="92d05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宏变量以使用范围分为全局宏变量和局部宏变量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92d05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全局变量可以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SAS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对话运行期间使用并且可以在程序的任何地方引用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92d05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局部变量则只能在创建该局部变量的宏中使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在这个宏之外，这个局部变量就没有任何意义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428760" y="71424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Arial Narrow"/>
                <a:ea typeface="宋体"/>
              </a:rPr>
              <a:t>本章内容提要</a:t>
            </a:r>
            <a:endParaRPr b="1" i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785880" y="1571760"/>
            <a:ext cx="750096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宏变量；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宏；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宏参数；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宏表达式；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宏引用；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数据步接口程序；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宏程序语句和宏函数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571320" y="642960"/>
            <a:ext cx="51433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Times New Roman"/>
                <a:ea typeface="宋体"/>
              </a:rPr>
              <a:t>宏</a:t>
            </a:r>
            <a:r>
              <a:rPr b="1" lang="zh-CN" sz="3000" spc="-1" strike="noStrike">
                <a:solidFill>
                  <a:srgbClr val="002060"/>
                </a:solidFill>
                <a:latin typeface="Times New Roman"/>
                <a:ea typeface="宋体"/>
              </a:rPr>
              <a:t> </a:t>
            </a:r>
            <a:endParaRPr b="1" i="1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44" name="PlaceHolder 2"/>
          <p:cNvSpPr>
            <a:spLocks noGrp="1"/>
          </p:cNvSpPr>
          <p:nvPr>
            <p:ph/>
          </p:nvPr>
        </p:nvSpPr>
        <p:spPr>
          <a:xfrm>
            <a:off x="856800" y="1785600"/>
            <a:ext cx="7239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宏是被编辑过的可以从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SAS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程序中调用的程序。同宏变量一样，一般可以使用宏来产生文本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80808"/>
                </a:solidFill>
                <a:latin typeface="Times New Roman"/>
                <a:ea typeface="新細明體"/>
              </a:rPr>
              <a:t>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定义宏的格式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  <a:ea typeface="宋体"/>
              </a:rPr>
              <a:t>%Macr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A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文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80"/>
                </a:solidFill>
                <a:latin typeface="Times New Roman"/>
                <a:ea typeface="宋体"/>
              </a:rPr>
              <a:t>%</a:t>
            </a:r>
            <a:r>
              <a:rPr b="1" lang="en-US" sz="2400" spc="-1" strike="noStrike">
                <a:solidFill>
                  <a:srgbClr val="000080"/>
                </a:solidFill>
                <a:latin typeface="Times New Roman"/>
                <a:ea typeface="宋体"/>
              </a:rPr>
              <a:t>me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MAC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/>
          </p:nvPr>
        </p:nvSpPr>
        <p:spPr>
          <a:xfrm>
            <a:off x="1600200" y="1828440"/>
            <a:ext cx="7238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1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6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.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10 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定义宏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plot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  <a:ea typeface="宋体"/>
              </a:rPr>
              <a:t>%macr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l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roc gplot data=ResDat.stk000002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itle2 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  <a:ea typeface="宋体"/>
              </a:rPr>
              <a:t>"</a:t>
            </a:r>
            <a:r>
              <a:rPr b="0" lang="zh-CN" sz="2400" spc="-1" strike="noStrike">
                <a:solidFill>
                  <a:srgbClr val="800080"/>
                </a:solidFill>
                <a:latin typeface="Times New Roman"/>
                <a:ea typeface="宋体"/>
              </a:rPr>
              <a:t>收盘价时序图</a:t>
            </a:r>
            <a:r>
              <a:rPr b="0" lang="zh-CN" sz="2400" spc="-1" strike="noStrike">
                <a:solidFill>
                  <a:srgbClr val="800080"/>
                </a:solidFill>
                <a:latin typeface="Times New Roman"/>
                <a:ea typeface="宋体"/>
              </a:rPr>
              <a:t>"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lot clpr*date=</a:t>
            </a:r>
            <a:r>
              <a:rPr b="1" lang="en-US" sz="24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ymbol1 v=star i=join r=</a:t>
            </a:r>
            <a:r>
              <a:rPr b="1" lang="en-US" sz="24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c=red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  <a:ea typeface="宋体"/>
              </a:rPr>
              <a:t>%me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plot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1600200" y="9903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调用一个宏 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47" name="PlaceHolder 2"/>
          <p:cNvSpPr>
            <a:spLocks noGrp="1"/>
          </p:cNvSpPr>
          <p:nvPr>
            <p:ph/>
          </p:nvPr>
        </p:nvSpPr>
        <p:spPr>
          <a:xfrm>
            <a:off x="1600200" y="2057040"/>
            <a:ext cx="7238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用一个百分号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(%)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加宏名字就可以调用该宏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948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80808"/>
                </a:solidFill>
                <a:latin typeface="Times New Roman"/>
                <a:ea typeface="宋体"/>
              </a:rPr>
              <a:t> </a:t>
            </a:r>
            <a:endParaRPr b="0" lang="en-US" sz="1000" spc="-1" strike="noStrike">
              <a:solidFill>
                <a:srgbClr val="080808"/>
              </a:solidFill>
              <a:latin typeface="Arial"/>
            </a:endParaRPr>
          </a:p>
          <a:p>
            <a:pPr marL="3394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1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6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.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11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定义并调用宏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plo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94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%macr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lo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94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roc gplot data=ResDat.stk000002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94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title2 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"</a:t>
            </a:r>
            <a:r>
              <a:rPr b="0" lang="zh-CN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收盘价时序图</a:t>
            </a:r>
            <a:r>
              <a:rPr b="0" lang="zh-CN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"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94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lot clpr*date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94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ymbol1 v=star i=join r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c=red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94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%me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plot; 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*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以上定义宏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plot*/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94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%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lo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       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*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调用宏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*/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94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8" name="Picture 4" descr=""/>
          <p:cNvPicPr/>
          <p:nvPr/>
        </p:nvPicPr>
        <p:blipFill>
          <a:blip r:embed="rId1"/>
          <a:stretch/>
        </p:blipFill>
        <p:spPr>
          <a:xfrm>
            <a:off x="1000080" y="928800"/>
            <a:ext cx="7029360" cy="56005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2c6a89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2060"/>
                </a:solidFill>
                <a:latin typeface="Times New Roman"/>
                <a:ea typeface="宋体"/>
              </a:rPr>
              <a:t>改变宏内宏变量的值 </a:t>
            </a:r>
            <a:endParaRPr b="1" i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857160" y="1428480"/>
            <a:ext cx="77724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.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改变宏内宏变量的值，分以下几步完成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定义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l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  <a:ea typeface="宋体"/>
              </a:rPr>
              <a:t>%macr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l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roc gplot data=</a:t>
            </a:r>
            <a:r>
              <a:rPr b="0" lang="en-US" sz="2400" spc="-1" strike="noStrike">
                <a:solidFill>
                  <a:srgbClr val="008080"/>
                </a:solidFill>
                <a:latin typeface="Times New Roman"/>
                <a:ea typeface="宋体"/>
              </a:rPr>
              <a:t>ResDat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amp;dat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itle2 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  <a:ea typeface="宋体"/>
              </a:rPr>
              <a:t>"&amp;pr </a:t>
            </a:r>
            <a:r>
              <a:rPr b="0" lang="zh-CN" sz="2400" spc="-1" strike="noStrike">
                <a:solidFill>
                  <a:srgbClr val="800080"/>
                </a:solidFill>
                <a:latin typeface="Times New Roman"/>
                <a:ea typeface="宋体"/>
              </a:rPr>
              <a:t>时序图</a:t>
            </a:r>
            <a:r>
              <a:rPr b="0" lang="zh-CN" sz="2400" spc="-1" strike="noStrike">
                <a:solidFill>
                  <a:srgbClr val="800080"/>
                </a:solidFill>
                <a:latin typeface="Times New Roman"/>
                <a:ea typeface="宋体"/>
              </a:rPr>
              <a:t>"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lot &amp;price*date=</a:t>
            </a:r>
            <a:r>
              <a:rPr b="1" lang="en-US" sz="24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ymbol1 v=star i=join r=</a:t>
            </a:r>
            <a:r>
              <a:rPr b="1" lang="en-US" sz="24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c=red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  <a:ea typeface="宋体"/>
              </a:rPr>
              <a:t>%me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plot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/>
          </p:nvPr>
        </p:nvSpPr>
        <p:spPr>
          <a:xfrm>
            <a:off x="857160" y="856800"/>
            <a:ext cx="777240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定义宏变量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%l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dat=stk000002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%l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pr=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收盘价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%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l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price=clpr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 </a:t>
            </a:r>
            <a:endParaRPr b="0" lang="en-US" sz="1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调用宏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lo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%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lo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 </a:t>
            </a:r>
            <a:endParaRPr b="0" lang="en-US" sz="1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改变宏变量的值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%l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dat=stk000002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%l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pr=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最高价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%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l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price=hipr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 </a:t>
            </a:r>
            <a:endParaRPr b="0" lang="en-US" sz="1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再次调用宏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lo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%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lo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  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以上各段程序可以连在一起运行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2" name="Picture 5" descr="“Clpr * Date”图"/>
          <p:cNvPicPr/>
          <p:nvPr/>
        </p:nvPicPr>
        <p:blipFill>
          <a:blip r:embed="rId1"/>
          <a:stretch/>
        </p:blipFill>
        <p:spPr>
          <a:xfrm>
            <a:off x="500040" y="85716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2060"/>
                </a:solidFill>
                <a:latin typeface="Times New Roman"/>
                <a:ea typeface="宋体"/>
              </a:rPr>
              <a:t>宏参数 </a:t>
            </a:r>
            <a:endParaRPr b="1" i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857160" y="1428480"/>
            <a:ext cx="77724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宏变量和宏结合在一起是一种强有力的编程方法。但应用起来并不十分方便。最常用的是在宏中使用宏参数。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宏参数是一种特殊的宏变量，是定义在宏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%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ACRO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内的宏变量。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/>
          </p:nvPr>
        </p:nvSpPr>
        <p:spPr>
          <a:xfrm>
            <a:off x="857160" y="1428480"/>
            <a:ext cx="77724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.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创建宏参数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  <a:ea typeface="宋体"/>
              </a:rPr>
              <a:t>%macr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plot(dat,pr,price)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roc gplot data=</a:t>
            </a:r>
            <a:r>
              <a:rPr b="0" lang="en-US" sz="2400" spc="-1" strike="noStrike">
                <a:solidFill>
                  <a:srgbClr val="008080"/>
                </a:solidFill>
                <a:latin typeface="Times New Roman"/>
                <a:ea typeface="宋体"/>
              </a:rPr>
              <a:t>ResDat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amp;dat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itle2 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  <a:ea typeface="宋体"/>
              </a:rPr>
              <a:t>"&amp;pr </a:t>
            </a:r>
            <a:r>
              <a:rPr b="0" lang="zh-CN" sz="2400" spc="-1" strike="noStrike">
                <a:solidFill>
                  <a:srgbClr val="800080"/>
                </a:solidFill>
                <a:latin typeface="Times New Roman"/>
                <a:ea typeface="宋体"/>
              </a:rPr>
              <a:t>时序图</a:t>
            </a:r>
            <a:r>
              <a:rPr b="0" lang="zh-CN" sz="2400" spc="-1" strike="noStrike">
                <a:solidFill>
                  <a:srgbClr val="800080"/>
                </a:solidFill>
                <a:latin typeface="Times New Roman"/>
                <a:ea typeface="宋体"/>
              </a:rPr>
              <a:t>"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lot &amp;price*date=</a:t>
            </a:r>
            <a:r>
              <a:rPr b="1" lang="en-US" sz="24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ymbol1 v=star i=join r=</a:t>
            </a:r>
            <a:r>
              <a:rPr b="1" lang="en-US" sz="24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c=red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  <a:ea typeface="宋体"/>
              </a:rPr>
              <a:t>%me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plot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例中，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%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ACR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括号内定义的宏变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AT, P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RIC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称为宏参数。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/>
          </p:nvPr>
        </p:nvSpPr>
        <p:spPr>
          <a:xfrm>
            <a:off x="857160" y="17146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通过给宏参数赋值来调用宏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%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l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stk000002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收盘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lpr)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例中，运行时，宏处理器把第一个值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tk00000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赋给第一个宏参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第二个值（收盘价）赋给第二个宏变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以此类推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/>
          </p:nvPr>
        </p:nvSpPr>
        <p:spPr>
          <a:xfrm>
            <a:off x="1142640" y="1856880"/>
            <a:ext cx="762012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宏工具是一种可以用来扩展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AS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功能，减少普通工作文本输入量的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AS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工具。宏工具可以给一段文本或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AS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程序命名，并通过引用这个名称来使用这段程序或文本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宏工具的功能非常强大，使用宏工具来完成以下任务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>
              <a:lnSpc>
                <a:spcPct val="10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使用宏变量实现文本替代；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>
              <a:lnSpc>
                <a:spcPct val="10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使用宏产生程序语句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>
              <a:lnSpc>
                <a:spcPct val="10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使用宏循环及条件判断语句完成程序交互。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 type="title"/>
          </p:nvPr>
        </p:nvSpPr>
        <p:spPr>
          <a:xfrm>
            <a:off x="928800" y="642600"/>
            <a:ext cx="72388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70c0"/>
                </a:solidFill>
                <a:latin typeface="Times New Roman"/>
                <a:ea typeface="宋体"/>
              </a:rPr>
              <a:t>概述</a:t>
            </a:r>
            <a:r>
              <a:rPr b="1" lang="zh-TW" sz="3000" spc="-1" strike="noStrike">
                <a:solidFill>
                  <a:srgbClr val="0070c0"/>
                </a:solidFill>
                <a:latin typeface="Times New Roman"/>
                <a:ea typeface="新細明體"/>
              </a:rPr>
              <a:t> </a:t>
            </a:r>
            <a:endParaRPr b="1" i="1" lang="en-US" sz="3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7" name="Picture 4" descr=""/>
          <p:cNvPicPr/>
          <p:nvPr/>
        </p:nvPicPr>
        <p:blipFill>
          <a:blip r:embed="rId1"/>
          <a:stretch/>
        </p:blipFill>
        <p:spPr>
          <a:xfrm>
            <a:off x="1057320" y="857160"/>
            <a:ext cx="7029360" cy="56008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2c6a89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/>
          </p:nvPr>
        </p:nvSpPr>
        <p:spPr>
          <a:xfrm>
            <a:off x="856800" y="1214280"/>
            <a:ext cx="8001000" cy="44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例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16.14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多次执行宏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%macro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plot(dat,pr,price)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roc gplot data=</a:t>
            </a:r>
            <a:r>
              <a:rPr b="0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ResDat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&amp;dat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title2 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"&amp;pr </a:t>
            </a:r>
            <a:r>
              <a:rPr b="0" lang="zh-CN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时序图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"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lot &amp;price*date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ymbol1 v=star i=join r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c=red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%men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plot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%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lot(stk000002, 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收盘价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clpr)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%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lot(stk000002, 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最高价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hipr)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例中，对宏参数赋一次值，宏执行一次。这里，宏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PLOT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被执行两次。对参数分配的值只在宏执行过程中有效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9" name="Picture 4" descr=""/>
          <p:cNvPicPr/>
          <p:nvPr/>
        </p:nvPicPr>
        <p:blipFill>
          <a:blip r:embed="rId1"/>
          <a:stretch/>
        </p:blipFill>
        <p:spPr>
          <a:xfrm>
            <a:off x="0" y="857160"/>
            <a:ext cx="4572000" cy="57866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2c6a89"/>
            </a:outerShdw>
          </a:effectLst>
        </p:spPr>
      </p:pic>
      <p:pic>
        <p:nvPicPr>
          <p:cNvPr id="1460" name="Picture 5" descr=""/>
          <p:cNvPicPr/>
          <p:nvPr/>
        </p:nvPicPr>
        <p:blipFill>
          <a:blip r:embed="rId2"/>
          <a:stretch/>
        </p:blipFill>
        <p:spPr>
          <a:xfrm>
            <a:off x="4643280" y="843120"/>
            <a:ext cx="4500720" cy="58006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2c6a89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/>
          </p:nvPr>
        </p:nvSpPr>
        <p:spPr>
          <a:xfrm>
            <a:off x="1071360" y="1285920"/>
            <a:ext cx="731196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使用宏参数的优点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可以少写几个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%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let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；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保证该宏参数变量在宏之外的程序部分不被引用；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调用宏时并不需要知道这些宏参数的名字，只要知道相应的取值。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2060"/>
                </a:solidFill>
                <a:latin typeface="Times New Roman"/>
                <a:ea typeface="宋体"/>
              </a:rPr>
              <a:t>宏参数赋值</a:t>
            </a:r>
            <a:endParaRPr b="1" i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63" name="PlaceHolder 2"/>
          <p:cNvSpPr>
            <a:spLocks noGrp="1"/>
          </p:cNvSpPr>
          <p:nvPr>
            <p:ph/>
          </p:nvPr>
        </p:nvSpPr>
        <p:spPr>
          <a:xfrm>
            <a:off x="857160" y="1428480"/>
            <a:ext cx="77724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.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创建宏参数时直接赋值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  <a:ea typeface="宋体"/>
              </a:rPr>
              <a:t>%macr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plot(dat=stk000002, pr=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收盘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rice=clpr)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roc gplot data=</a:t>
            </a:r>
            <a:r>
              <a:rPr b="0" lang="en-US" sz="2400" spc="-1" strike="noStrike">
                <a:solidFill>
                  <a:srgbClr val="008080"/>
                </a:solidFill>
                <a:latin typeface="Times New Roman"/>
                <a:ea typeface="宋体"/>
              </a:rPr>
              <a:t>ResDat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amp;dat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itle2 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  <a:ea typeface="宋体"/>
              </a:rPr>
              <a:t>"&amp;pr </a:t>
            </a:r>
            <a:r>
              <a:rPr b="0" lang="zh-CN" sz="2400" spc="-1" strike="noStrike">
                <a:solidFill>
                  <a:srgbClr val="800080"/>
                </a:solidFill>
                <a:latin typeface="Times New Roman"/>
                <a:ea typeface="宋体"/>
              </a:rPr>
              <a:t>时序图</a:t>
            </a:r>
            <a:r>
              <a:rPr b="0" lang="zh-CN" sz="2400" spc="-1" strike="noStrike">
                <a:solidFill>
                  <a:srgbClr val="800080"/>
                </a:solidFill>
                <a:latin typeface="Times New Roman"/>
                <a:ea typeface="宋体"/>
              </a:rPr>
              <a:t>"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lot &amp;price*date=</a:t>
            </a:r>
            <a:r>
              <a:rPr b="1" lang="en-US" sz="24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ymbol1 v=star i=join r=</a:t>
            </a:r>
            <a:r>
              <a:rPr b="1" lang="en-US" sz="24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c=red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  <a:ea typeface="宋体"/>
              </a:rPr>
              <a:t>%me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plot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%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l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/>
          </p:nvPr>
        </p:nvSpPr>
        <p:spPr>
          <a:xfrm>
            <a:off x="857160" y="1428480"/>
            <a:ext cx="77724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.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运行宏时赋值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  <a:ea typeface="宋体"/>
              </a:rPr>
              <a:t>%macr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plot(dat,pr,price)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roc gplot data=</a:t>
            </a:r>
            <a:r>
              <a:rPr b="0" lang="en-US" sz="2400" spc="-1" strike="noStrike">
                <a:solidFill>
                  <a:srgbClr val="008080"/>
                </a:solidFill>
                <a:latin typeface="Times New Roman"/>
                <a:ea typeface="宋体"/>
              </a:rPr>
              <a:t>ResDat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amp;dat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itle2 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  <a:ea typeface="宋体"/>
              </a:rPr>
              <a:t>"&amp;pr </a:t>
            </a:r>
            <a:r>
              <a:rPr b="0" lang="zh-CN" sz="2400" spc="-1" strike="noStrike">
                <a:solidFill>
                  <a:srgbClr val="800080"/>
                </a:solidFill>
                <a:latin typeface="Times New Roman"/>
                <a:ea typeface="宋体"/>
              </a:rPr>
              <a:t>时序图</a:t>
            </a:r>
            <a:r>
              <a:rPr b="0" lang="zh-CN" sz="2400" spc="-1" strike="noStrike">
                <a:solidFill>
                  <a:srgbClr val="800080"/>
                </a:solidFill>
                <a:latin typeface="Times New Roman"/>
                <a:ea typeface="宋体"/>
              </a:rPr>
              <a:t>"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lot &amp;price*date=</a:t>
            </a:r>
            <a:r>
              <a:rPr b="1" lang="en-US" sz="24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ymbol1 v=star i=join r=</a:t>
            </a:r>
            <a:r>
              <a:rPr b="1" lang="en-US" sz="24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c=red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  <a:ea typeface="宋体"/>
              </a:rPr>
              <a:t>%me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plot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%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l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stk000002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收盘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lpr)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%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l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stk000002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最高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ipr)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Times New Roman"/>
                <a:ea typeface="宋体"/>
              </a:rPr>
              <a:t>宏调用宏</a:t>
            </a:r>
            <a:br>
              <a:rPr sz="2800"/>
            </a:br>
            <a:endParaRPr b="1" i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/>
          </p:nvPr>
        </p:nvSpPr>
        <p:spPr>
          <a:xfrm>
            <a:off x="856800" y="1285560"/>
            <a:ext cx="378612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产生数据集宏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%macro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reate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ata temp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et </a:t>
            </a:r>
            <a:r>
              <a:rPr b="0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ResDat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&amp;dat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if year(date)=&amp;year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%men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create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画时序图宏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%macro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lot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roc gplot data=temp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title2 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"&amp;pr  &amp;year1 </a:t>
            </a:r>
            <a:r>
              <a:rPr b="0" lang="zh-CN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时序图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"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lot &amp;price*date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ymbol1 v=star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i=join r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c=red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%men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plot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67" name="TextBox 7"/>
          <p:cNvSpPr/>
          <p:nvPr/>
        </p:nvSpPr>
        <p:spPr>
          <a:xfrm>
            <a:off x="5072040" y="1285920"/>
            <a:ext cx="36432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宏调用宏：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%macro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alyze(dat, year, pr,price,year1)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; </a:t>
            </a:r>
            <a:r>
              <a:rPr b="1" i="1" lang="en-US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/*</a:t>
            </a:r>
            <a:r>
              <a:rPr b="1" i="1" lang="zh-CN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产生数据集</a:t>
            </a:r>
            <a:r>
              <a:rPr b="1" i="1" lang="en-US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TEMP*/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ot;  </a:t>
            </a:r>
            <a:r>
              <a:rPr b="1" i="1" lang="en-US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/*</a:t>
            </a:r>
            <a:r>
              <a:rPr b="1" i="1" lang="zh-CN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作图</a:t>
            </a:r>
            <a:r>
              <a:rPr b="1" i="1" lang="zh-CN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*</a:t>
            </a:r>
            <a:r>
              <a:rPr b="1" i="1" lang="en-US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/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%men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alyze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运行宏：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alyze(stk000002, </a:t>
            </a:r>
            <a:r>
              <a:rPr b="1" i="1" lang="en-US" sz="20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2000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收盘价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clpr,</a:t>
            </a:r>
            <a:r>
              <a:rPr b="1" i="1" lang="en-US" sz="20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2000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Ru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/>
          </p:nvPr>
        </p:nvSpPr>
        <p:spPr>
          <a:xfrm>
            <a:off x="857160" y="857160"/>
            <a:ext cx="77724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例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16.17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运行完整的宏调用宏程序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%macro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reate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ata temp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et </a:t>
            </a:r>
            <a:r>
              <a:rPr b="0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ResDat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&amp;dat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if year(date)=&amp;year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%men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create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%macro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lot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roc gplot data=temp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title2 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"&amp;pr  &amp;year1 </a:t>
            </a:r>
            <a:r>
              <a:rPr b="0" lang="zh-CN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时序图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"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lot &amp;price*date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ymbol1 v=star i=join r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c=red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%men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plot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/>
          </p:nvPr>
        </p:nvSpPr>
        <p:spPr>
          <a:xfrm>
            <a:off x="857160" y="1428480"/>
            <a:ext cx="77724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%macro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analyze(dat, year, pr,price,year1)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%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* create the data set TEMP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%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reate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%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* plot the variables selected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%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lot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%men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analyze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%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nalyze(stk000002, </a:t>
            </a:r>
            <a:r>
              <a:rPr b="1" i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2000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 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收盘价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clpr,</a:t>
            </a:r>
            <a:r>
              <a:rPr b="1" i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2000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)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0" name="Picture 4" descr=""/>
          <p:cNvPicPr/>
          <p:nvPr/>
        </p:nvPicPr>
        <p:blipFill>
          <a:blip r:embed="rId1"/>
          <a:stretch/>
        </p:blipFill>
        <p:spPr>
          <a:xfrm>
            <a:off x="1057320" y="900000"/>
            <a:ext cx="7029360" cy="56008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2c6a89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2060"/>
                </a:solidFill>
                <a:latin typeface="Times New Roman"/>
                <a:ea typeface="宋体"/>
              </a:rPr>
              <a:t>宏变量 </a:t>
            </a:r>
            <a:endParaRPr b="1" i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856800" y="1428480"/>
            <a:ext cx="671508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定义宏变量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宏程序语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%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E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来定义宏变量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%l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DSN=ResDat.class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例中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S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是宏变量名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esDat.clas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宏变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S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值。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Times New Roman"/>
                <a:ea typeface="宋体"/>
              </a:rPr>
              <a:t>条件表达式</a:t>
            </a:r>
            <a:br>
              <a:rPr sz="2800"/>
            </a:br>
            <a:endParaRPr b="1" i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/>
          </p:nvPr>
        </p:nvSpPr>
        <p:spPr>
          <a:xfrm>
            <a:off x="857160" y="1428480"/>
            <a:ext cx="777240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例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16.18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用条件表达式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%if-%then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定义宏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%macro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analyze(getdata, dat, year, pr,price,year1)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%i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&amp;getdata=yes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%the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%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reate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%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lot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%men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analyze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%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nalyze(yes, stk000002, </a:t>
            </a:r>
            <a:r>
              <a:rPr b="1" i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2000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 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收盘价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clpr,</a:t>
            </a:r>
            <a:r>
              <a:rPr b="1" i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2000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)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%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nalyze(no, stk000002, </a:t>
            </a:r>
            <a:r>
              <a:rPr b="1" i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2000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 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最高价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hipr,</a:t>
            </a:r>
            <a:r>
              <a:rPr b="1" i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2000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)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/>
          </p:nvPr>
        </p:nvSpPr>
        <p:spPr>
          <a:xfrm>
            <a:off x="857160" y="928440"/>
            <a:ext cx="777240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例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16.19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多个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%THEN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分句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%macro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analyze(getdata, dat, year, pr,price,year1)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title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%i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&amp;getdata=yes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%then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%d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%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reate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title3 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"Data Set Created for The Plot"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%e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%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lot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%men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analyze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%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nalyze(yes, stk000002, </a:t>
            </a:r>
            <a:r>
              <a:rPr b="1" i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2000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 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收盘价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clpr,</a:t>
            </a:r>
            <a:r>
              <a:rPr b="1" i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2000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)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%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nalyze(no, stk000002, </a:t>
            </a:r>
            <a:r>
              <a:rPr b="1" i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2000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 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最高价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hipr,</a:t>
            </a:r>
            <a:r>
              <a:rPr b="1" i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2000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)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PlaceHolder 1"/>
          <p:cNvSpPr>
            <a:spLocks noGrp="1"/>
          </p:cNvSpPr>
          <p:nvPr>
            <p:ph/>
          </p:nvPr>
        </p:nvSpPr>
        <p:spPr>
          <a:xfrm>
            <a:off x="857160" y="928440"/>
            <a:ext cx="77724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对于上述的宏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analyze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，如果用下面语句来调用它，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%analyze(YES, stk000002, 2000,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收盘价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,clpr,2000);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　宏处理器就不能调用宏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Create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来产生数据集，因为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%IF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条件是小写字符值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yes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。为了避免这种情况出现，可以使用宏函数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%upcase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例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16.20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大小写字符的统一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%macro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analyze(getdata, dat, year, pr,price,year1)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%i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%upca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&amp;getdata)=YES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%the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%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reate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%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lot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%men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analyze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*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这样无论是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yes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或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YES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，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%IF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条件就都成立了。即：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*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%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nalyze(yes, stk000002, </a:t>
            </a:r>
            <a:r>
              <a:rPr b="1" i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2000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 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收盘价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clpr,</a:t>
            </a:r>
            <a:r>
              <a:rPr b="1" i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2000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)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%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nalyze(no, stk000002, </a:t>
            </a:r>
            <a:r>
              <a:rPr b="1" i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2000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 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最高价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hipr,</a:t>
            </a:r>
            <a:r>
              <a:rPr b="1" i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2000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)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%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nalyze(YES, stk000002, </a:t>
            </a:r>
            <a:r>
              <a:rPr b="1" i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999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 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收盘价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clpr,</a:t>
            </a:r>
            <a:r>
              <a:rPr b="1" i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999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)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%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nalyze(YES, stk000002, </a:t>
            </a:r>
            <a:r>
              <a:rPr b="1" i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999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 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最高价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hipr,</a:t>
            </a:r>
            <a:r>
              <a:rPr b="1" i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999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)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Times New Roman"/>
                <a:ea typeface="宋体"/>
              </a:rPr>
              <a:t>生成重复文本</a:t>
            </a:r>
            <a:br>
              <a:rPr sz="2800"/>
            </a:br>
            <a:endParaRPr b="1" i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76" name="PlaceHolder 2"/>
          <p:cNvSpPr>
            <a:spLocks noGrp="1"/>
          </p:cNvSpPr>
          <p:nvPr>
            <p:ph/>
          </p:nvPr>
        </p:nvSpPr>
        <p:spPr>
          <a:xfrm>
            <a:off x="857160" y="1428480"/>
            <a:ext cx="77724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例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16.21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定义生成重复文本宏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%macro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names(name, number)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%d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n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%to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&amp;number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&amp;name&amp;n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%e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%men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names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例中，宏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names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通过宏参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number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和宏变量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n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可以生成一系列的名字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AT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中调用宏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NAM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%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nam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dsn,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)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产生下列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at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步语句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ATA DSN1 DSN2 DSN3 DSN4 DSN5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Text Box 4"/>
          <p:cNvSpPr/>
          <p:nvPr/>
        </p:nvSpPr>
        <p:spPr>
          <a:xfrm>
            <a:off x="1643040" y="1785960"/>
            <a:ext cx="6480360" cy="442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620  %end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621  %mend names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622  data %names(dsn, 5)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623  run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NOTE: </a:t>
            </a:r>
            <a:r>
              <a:rPr b="0" lang="zh-TW" sz="2000" spc="-1" strike="noStrike">
                <a:solidFill>
                  <a:srgbClr val="080808"/>
                </a:solidFill>
                <a:latin typeface="Times New Roman"/>
              </a:rPr>
              <a:t>数据集 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WORK.DSN1 </a:t>
            </a:r>
            <a:r>
              <a:rPr b="0" lang="zh-TW" sz="2000" spc="-1" strike="noStrike">
                <a:solidFill>
                  <a:srgbClr val="080808"/>
                </a:solidFill>
                <a:latin typeface="Times New Roman"/>
              </a:rPr>
              <a:t>有 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1 </a:t>
            </a:r>
            <a:r>
              <a:rPr b="0" lang="zh-TW" sz="2000" spc="-1" strike="noStrike">
                <a:solidFill>
                  <a:srgbClr val="080808"/>
                </a:solidFill>
                <a:latin typeface="Times New Roman"/>
              </a:rPr>
              <a:t>个观测和 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0 </a:t>
            </a:r>
            <a:r>
              <a:rPr b="0" lang="zh-TW" sz="2000" spc="-1" strike="noStrike">
                <a:solidFill>
                  <a:srgbClr val="080808"/>
                </a:solidFill>
                <a:latin typeface="Times New Roman"/>
              </a:rPr>
              <a:t>个变量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NOTE: </a:t>
            </a:r>
            <a:r>
              <a:rPr b="0" lang="zh-TW" sz="2000" spc="-1" strike="noStrike">
                <a:solidFill>
                  <a:srgbClr val="080808"/>
                </a:solidFill>
                <a:latin typeface="Times New Roman"/>
              </a:rPr>
              <a:t>数据集 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WORK.DSN2 </a:t>
            </a:r>
            <a:r>
              <a:rPr b="0" lang="zh-TW" sz="2000" spc="-1" strike="noStrike">
                <a:solidFill>
                  <a:srgbClr val="080808"/>
                </a:solidFill>
                <a:latin typeface="Times New Roman"/>
              </a:rPr>
              <a:t>有 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1 </a:t>
            </a:r>
            <a:r>
              <a:rPr b="0" lang="zh-TW" sz="2000" spc="-1" strike="noStrike">
                <a:solidFill>
                  <a:srgbClr val="080808"/>
                </a:solidFill>
                <a:latin typeface="Times New Roman"/>
              </a:rPr>
              <a:t>个观测和 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0 </a:t>
            </a:r>
            <a:r>
              <a:rPr b="0" lang="zh-TW" sz="2000" spc="-1" strike="noStrike">
                <a:solidFill>
                  <a:srgbClr val="080808"/>
                </a:solidFill>
                <a:latin typeface="Times New Roman"/>
              </a:rPr>
              <a:t>个变量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NOTE: </a:t>
            </a:r>
            <a:r>
              <a:rPr b="0" lang="zh-TW" sz="2000" spc="-1" strike="noStrike">
                <a:solidFill>
                  <a:srgbClr val="080808"/>
                </a:solidFill>
                <a:latin typeface="Times New Roman"/>
              </a:rPr>
              <a:t>数据集 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WORK.DSN3 </a:t>
            </a:r>
            <a:r>
              <a:rPr b="0" lang="zh-TW" sz="2000" spc="-1" strike="noStrike">
                <a:solidFill>
                  <a:srgbClr val="080808"/>
                </a:solidFill>
                <a:latin typeface="Times New Roman"/>
              </a:rPr>
              <a:t>有 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1 </a:t>
            </a:r>
            <a:r>
              <a:rPr b="0" lang="zh-TW" sz="2000" spc="-1" strike="noStrike">
                <a:solidFill>
                  <a:srgbClr val="080808"/>
                </a:solidFill>
                <a:latin typeface="Times New Roman"/>
              </a:rPr>
              <a:t>个观测和 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0 </a:t>
            </a:r>
            <a:r>
              <a:rPr b="0" lang="zh-TW" sz="2000" spc="-1" strike="noStrike">
                <a:solidFill>
                  <a:srgbClr val="080808"/>
                </a:solidFill>
                <a:latin typeface="Times New Roman"/>
              </a:rPr>
              <a:t>个变量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NOTE: </a:t>
            </a:r>
            <a:r>
              <a:rPr b="0" lang="zh-TW" sz="2000" spc="-1" strike="noStrike">
                <a:solidFill>
                  <a:srgbClr val="080808"/>
                </a:solidFill>
                <a:latin typeface="Times New Roman"/>
              </a:rPr>
              <a:t>数据集 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WORK.DSN4 </a:t>
            </a:r>
            <a:r>
              <a:rPr b="0" lang="zh-TW" sz="2000" spc="-1" strike="noStrike">
                <a:solidFill>
                  <a:srgbClr val="080808"/>
                </a:solidFill>
                <a:latin typeface="Times New Roman"/>
              </a:rPr>
              <a:t>有 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1 </a:t>
            </a:r>
            <a:r>
              <a:rPr b="0" lang="zh-TW" sz="2000" spc="-1" strike="noStrike">
                <a:solidFill>
                  <a:srgbClr val="080808"/>
                </a:solidFill>
                <a:latin typeface="Times New Roman"/>
              </a:rPr>
              <a:t>个观测和 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0 </a:t>
            </a:r>
            <a:r>
              <a:rPr b="0" lang="zh-TW" sz="2000" spc="-1" strike="noStrike">
                <a:solidFill>
                  <a:srgbClr val="080808"/>
                </a:solidFill>
                <a:latin typeface="Times New Roman"/>
              </a:rPr>
              <a:t>个变量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NOTE: </a:t>
            </a:r>
            <a:r>
              <a:rPr b="0" lang="zh-TW" sz="2000" spc="-1" strike="noStrike">
                <a:solidFill>
                  <a:srgbClr val="080808"/>
                </a:solidFill>
                <a:latin typeface="Times New Roman"/>
              </a:rPr>
              <a:t>数据集 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WORK.DSN5 </a:t>
            </a:r>
            <a:r>
              <a:rPr b="0" lang="zh-TW" sz="2000" spc="-1" strike="noStrike">
                <a:solidFill>
                  <a:srgbClr val="080808"/>
                </a:solidFill>
                <a:latin typeface="Times New Roman"/>
              </a:rPr>
              <a:t>有 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1 </a:t>
            </a:r>
            <a:r>
              <a:rPr b="0" lang="zh-TW" sz="2000" spc="-1" strike="noStrike">
                <a:solidFill>
                  <a:srgbClr val="080808"/>
                </a:solidFill>
                <a:latin typeface="Times New Roman"/>
              </a:rPr>
              <a:t>个观测和 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0 </a:t>
            </a:r>
            <a:r>
              <a:rPr b="0" lang="zh-TW" sz="2000" spc="-1" strike="noStrike">
                <a:solidFill>
                  <a:srgbClr val="080808"/>
                </a:solidFill>
                <a:latin typeface="Times New Roman"/>
              </a:rPr>
              <a:t>个变量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NOTE: “DATA </a:t>
            </a:r>
            <a:r>
              <a:rPr b="0" lang="zh-TW" sz="2000" spc="-1" strike="noStrike">
                <a:solidFill>
                  <a:srgbClr val="080808"/>
                </a:solidFill>
                <a:latin typeface="Times New Roman"/>
              </a:rPr>
              <a:t>语句”所用时间（总处理时间）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      </a:t>
            </a:r>
            <a:r>
              <a:rPr b="0" lang="zh-TW" sz="2000" spc="-1" strike="noStrike">
                <a:solidFill>
                  <a:srgbClr val="080808"/>
                </a:solidFill>
                <a:latin typeface="Times New Roman"/>
              </a:rPr>
              <a:t>实际时间         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0.06 </a:t>
            </a:r>
            <a:r>
              <a:rPr b="0" lang="zh-TW" sz="2000" spc="-1" strike="noStrike">
                <a:solidFill>
                  <a:srgbClr val="080808"/>
                </a:solidFill>
                <a:latin typeface="Times New Roman"/>
              </a:rPr>
              <a:t>秒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80808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CPU </a:t>
            </a:r>
            <a:r>
              <a:rPr b="0" lang="zh-TW" sz="2000" spc="-1" strike="noStrike">
                <a:solidFill>
                  <a:srgbClr val="080808"/>
                </a:solidFill>
                <a:latin typeface="Times New Roman"/>
              </a:rPr>
              <a:t>时间         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0.04 </a:t>
            </a:r>
            <a:r>
              <a:rPr b="0" lang="zh-TW" sz="2000" spc="-1" strike="noStrike">
                <a:solidFill>
                  <a:srgbClr val="080808"/>
                </a:solidFill>
                <a:latin typeface="Times New Roman"/>
              </a:rPr>
              <a:t>秒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478" name="Text Box 5"/>
          <p:cNvSpPr/>
          <p:nvPr/>
        </p:nvSpPr>
        <p:spPr>
          <a:xfrm>
            <a:off x="1357200" y="1143000"/>
            <a:ext cx="2808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LOG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</a:rPr>
              <a:t>窗口显示：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PlaceHolder 1"/>
          <p:cNvSpPr>
            <a:spLocks noGrp="1"/>
          </p:cNvSpPr>
          <p:nvPr>
            <p:ph/>
          </p:nvPr>
        </p:nvSpPr>
        <p:spPr>
          <a:xfrm>
            <a:off x="857160" y="1428480"/>
            <a:ext cx="777240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例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16.22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生成某个引用的词尾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%macro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namesx(name, number)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%d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n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%to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&amp;number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&amp;name.x&amp;n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%e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%men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namesx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例中，在成生一系列名子的同时，在前缀和数字之间放一个字母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X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调用宏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NAMESEX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%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namesx(dsn, </a:t>
            </a:r>
            <a:r>
              <a:rPr b="1" i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5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)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产生如下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data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步语句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DATA DSNX1 DSNX2 DSNX3 DSNX4 DSNX5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Arial"/>
                <a:ea typeface="宋体"/>
              </a:rPr>
              <a:t>宏表达式</a:t>
            </a:r>
            <a:br>
              <a:rPr sz="2800"/>
            </a:br>
            <a:endParaRPr b="1" i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81" name="PlaceHolder 2"/>
          <p:cNvSpPr>
            <a:spLocks noGrp="1"/>
          </p:cNvSpPr>
          <p:nvPr>
            <p:ph/>
          </p:nvPr>
        </p:nvSpPr>
        <p:spPr>
          <a:xfrm>
            <a:off x="857160" y="1214280"/>
            <a:ext cx="3571920" cy="5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Times New Roman"/>
                <a:ea typeface="宋体"/>
              </a:rPr>
              <a:t>宏处理器如何处理算术表达式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82" name="TextBox 3"/>
          <p:cNvSpPr/>
          <p:nvPr/>
        </p:nvSpPr>
        <p:spPr>
          <a:xfrm>
            <a:off x="1071720" y="1857240"/>
            <a:ext cx="6429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默认的来说，宏处理器使用整数算法对数值进行计算，这时默认只有整数和十六进制的整数值可以进行数值计算。其它的如带有小数点的数值文本，则不会被自动转换。只有使用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%sysevalf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函数来将带有小数点的数值文本在表达式被解析的时候，算术文本暂时被转换成数值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例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16.23 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宏处理器处理算术表达式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%l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x=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%eva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+1)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%l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=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%eva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0*4)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%l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z=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%eva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5/3)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%pu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=&amp;x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%pu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=&amp;y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%pu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=&amp;z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/*%PUT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语句会在日志窗口中展示下列信息：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a=2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b=40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c=1 */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/>
          </p:nvPr>
        </p:nvSpPr>
        <p:spPr>
          <a:xfrm>
            <a:off x="857160" y="1428480"/>
            <a:ext cx="77724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例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16.24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使用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%sysevalf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函数处理算术表达式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%l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x=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%syseval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9.0+2.0)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%l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y=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%syseval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9.5+2.8)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%l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z=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%syseval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9.0/3.2)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%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9.0+2.0 = &amp;x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%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9.5+2.8 = &amp;y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%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9.0/3.2= &amp;z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*%PUT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语句会在日志窗口中展示下列信息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9.0+2.0 = 11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9.5+2.8 = 12.3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9.0/3.2 = 2.8125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/>
          </p:nvPr>
        </p:nvSpPr>
        <p:spPr>
          <a:xfrm>
            <a:off x="857160" y="1428480"/>
            <a:ext cx="7772400" cy="15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一个逻辑表达式返回一个值，这个值可以被判断为正确还是错误，任何非零的数值都是正确的，而零就是错误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%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%syseval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2&gt;1)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%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%syseval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1&gt;2)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*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日志窗口会显示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1 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和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0 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也就是第一个是正确的，第二个是错误的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*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85" name="文本占位符 2"/>
          <p:cNvSpPr/>
          <p:nvPr/>
        </p:nvSpPr>
        <p:spPr>
          <a:xfrm>
            <a:off x="857160" y="857160"/>
            <a:ext cx="35719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宏处理器如何处理逻辑表达式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2060"/>
                </a:solidFill>
                <a:latin typeface="Times New Roman"/>
                <a:ea typeface="宋体"/>
              </a:rPr>
              <a:t>数据步接口程序 </a:t>
            </a:r>
            <a:endParaRPr b="1" i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/>
          </p:nvPr>
        </p:nvSpPr>
        <p:spPr>
          <a:xfrm>
            <a:off x="857160" y="14288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宏处理器只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AT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步或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ROC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步的编译期间起作用。如果想用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数据步产生的信息值创建宏变量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以便于在后面的程序中使用，可以用下面的编程技术。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下面两个接口程序可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AT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步执行期间创建宏变量，指定它们的值，及重新得到它们的值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数据步接口程序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1488" name="Object 4"/>
          <p:cNvGraphicFramePr/>
          <p:nvPr/>
        </p:nvGraphicFramePr>
        <p:xfrm>
          <a:off x="1184400" y="3786120"/>
          <a:ext cx="7086600" cy="1214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8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4400" y="3786120"/>
                    <a:ext cx="7086600" cy="121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571320" y="642960"/>
            <a:ext cx="51433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引用宏变量 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19" name=""/>
          <p:cNvSpPr txBox="1"/>
          <p:nvPr/>
        </p:nvSpPr>
        <p:spPr>
          <a:xfrm>
            <a:off x="1600200" y="1980720"/>
            <a:ext cx="7238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在宏变量前加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&amp;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来引用宏变量的值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80808"/>
                </a:solidFill>
                <a:latin typeface="Times New Roman"/>
                <a:ea typeface="宋体"/>
              </a:rPr>
              <a:t> </a:t>
            </a:r>
            <a:endParaRPr b="0" lang="en-US" sz="1000" spc="-1" strike="noStrike">
              <a:solidFill>
                <a:srgbClr val="080808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16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.1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引用宏变量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A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%l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a=ResDat.class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a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&amp;a 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上段程序等价于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a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ResDat.class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2060"/>
                </a:solidFill>
                <a:latin typeface="Times New Roman"/>
                <a:ea typeface="宋体"/>
              </a:rPr>
              <a:t>应用举例</a:t>
            </a:r>
            <a:endParaRPr b="1" i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/>
          </p:nvPr>
        </p:nvSpPr>
        <p:spPr>
          <a:xfrm>
            <a:off x="785880" y="928440"/>
            <a:ext cx="77724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例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16.25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由数据步产生的信息值创建宏变量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%macr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rea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ata temp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et </a:t>
            </a:r>
            <a:r>
              <a:rPr b="0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ResDat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&amp;dat  end=final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if year(date)=&amp;year  then 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o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n+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output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end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if final then call symput(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number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 n);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*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创建的宏变量为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number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，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其值为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n*/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run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%me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create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%macr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lo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roc gplot data=temp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title2 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"&amp;pr  &amp;year1 </a:t>
            </a:r>
            <a:r>
              <a:rPr b="0" lang="zh-CN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时序图</a:t>
            </a:r>
            <a:r>
              <a:rPr b="0" lang="zh-CN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"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lot &amp;price*date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ymbol1 v=star i=join r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c=red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%me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plot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/>
          </p:nvPr>
        </p:nvSpPr>
        <p:spPr>
          <a:xfrm>
            <a:off x="857160" y="1428840"/>
            <a:ext cx="777240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%macr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analyze(getdata, dat, year, pr,price,year1)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%i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%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upca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&amp;getdata)=YES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%the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%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rea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footnote 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"Plot of &amp;number Observations"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%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lo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%me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analyze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%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nalyz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yes, stk000002,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999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收盘价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lpr,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999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)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%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nalyz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yes, stk000002,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200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收盘价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lpr,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200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)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%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nalyz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yes, stk000002,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200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收盘价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lpr,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200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)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例中，由于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YMPUT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子程序用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BEST12.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的格式输出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N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的值，故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NUMBER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的值居右。为了使该值居左，在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YMPUT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子程序中使用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LEFT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函数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3" name="Picture 4" descr=""/>
          <p:cNvPicPr/>
          <p:nvPr/>
        </p:nvPicPr>
        <p:blipFill>
          <a:blip r:embed="rId1"/>
          <a:stretch/>
        </p:blipFill>
        <p:spPr>
          <a:xfrm>
            <a:off x="1057320" y="900000"/>
            <a:ext cx="7029360" cy="56008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2c6a89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4" name="Picture 2" descr=""/>
          <p:cNvPicPr/>
          <p:nvPr/>
        </p:nvPicPr>
        <p:blipFill>
          <a:blip r:embed="rId1"/>
          <a:stretch/>
        </p:blipFill>
        <p:spPr>
          <a:xfrm>
            <a:off x="1057320" y="900000"/>
            <a:ext cx="7029360" cy="56008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2c6a89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5" name="Picture 2" descr=""/>
          <p:cNvPicPr/>
          <p:nvPr/>
        </p:nvPicPr>
        <p:blipFill>
          <a:blip r:embed="rId1"/>
          <a:stretch/>
        </p:blipFill>
        <p:spPr>
          <a:xfrm>
            <a:off x="1057320" y="900000"/>
            <a:ext cx="7029360" cy="56008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2c6a89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PlaceHolder 1"/>
          <p:cNvSpPr>
            <a:spLocks noGrp="1"/>
          </p:cNvSpPr>
          <p:nvPr>
            <p:ph/>
          </p:nvPr>
        </p:nvSpPr>
        <p:spPr>
          <a:xfrm>
            <a:off x="785880" y="928800"/>
            <a:ext cx="777240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例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16.26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在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YMPUT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子程序中使用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LEFT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函数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A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x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cal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symput(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num1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x)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cal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symput(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num2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left(x))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cal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symput(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num3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trim(left(put(x,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8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))));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%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num1 = ***&amp;num1***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%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num2 = ***&amp;num2***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%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num3 = ***&amp;num3***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97" name="矩形 3"/>
          <p:cNvSpPr/>
          <p:nvPr/>
        </p:nvSpPr>
        <p:spPr>
          <a:xfrm>
            <a:off x="2928960" y="4786200"/>
            <a:ext cx="3071880" cy="1500480"/>
          </a:xfrm>
          <a:prstGeom prst="rect">
            <a:avLst/>
          </a:prstGeom>
          <a:solidFill>
            <a:srgbClr val="4ab1e4"/>
          </a:solidFill>
          <a:ln w="25560">
            <a:solidFill>
              <a:srgbClr val="348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um1 = ***           1*** 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um2 = ***1           *** 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um3 = ***1***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498" name="矩形 7"/>
          <p:cNvSpPr/>
          <p:nvPr/>
        </p:nvSpPr>
        <p:spPr>
          <a:xfrm>
            <a:off x="1118160" y="4786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结果显示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Arial"/>
                <a:ea typeface="宋体"/>
              </a:rPr>
              <a:t>宏程序语句和宏函数</a:t>
            </a:r>
            <a:br>
              <a:rPr sz="2800"/>
            </a:br>
            <a:endParaRPr b="1" i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00" name="TextBox 14"/>
          <p:cNvSpPr/>
          <p:nvPr/>
        </p:nvSpPr>
        <p:spPr>
          <a:xfrm>
            <a:off x="1285920" y="1214280"/>
            <a:ext cx="671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宏功能包括很多宏程序语句和宏函数。下面列出部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系统有效的宏程序设计语句和宏函数。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graphicFrame>
        <p:nvGraphicFramePr>
          <p:cNvPr id="1501" name=""/>
          <p:cNvGraphicFramePr/>
          <p:nvPr/>
        </p:nvGraphicFramePr>
        <p:xfrm>
          <a:off x="1285920" y="2700360"/>
          <a:ext cx="7381800" cy="3657600"/>
        </p:xfrm>
        <a:graphic>
          <a:graphicData uri="http://schemas.openxmlformats.org/drawingml/2006/table">
            <a:tbl>
              <a:tblPr/>
              <a:tblGrid>
                <a:gridCol w="2333520"/>
                <a:gridCol w="5048280"/>
              </a:tblGrid>
              <a:tr h="305280">
                <a:tc>
                  <a:txBody>
                    <a:bodyPr lIns="18000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语句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18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18000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用途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18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18000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％</a:t>
                      </a: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Do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18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条件处理至一个匹配的</a:t>
                      </a: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%END</a:t>
                      </a:r>
                      <a:r>
                        <a:rPr b="0" lang="zh-CN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语句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18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18000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％</a:t>
                      </a: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Do%Until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18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重复循环直到条件为真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18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18000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％</a:t>
                      </a: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End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18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结束</a:t>
                      </a: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%DO</a:t>
                      </a:r>
                      <a:r>
                        <a:rPr b="0" lang="zh-CN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组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18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18000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％</a:t>
                      </a: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Global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18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创建全局宏变量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18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18000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%If-%Then/%Else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18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有条件执行宏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18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18000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％</a:t>
                      </a: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Input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18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为宏变量提供值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18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18000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％</a:t>
                      </a: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Let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18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创建宏变量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18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18000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％</a:t>
                      </a: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Macro-Name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18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调用宏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18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18000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％</a:t>
                      </a: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Macro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18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定义宏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18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18000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％</a:t>
                      </a: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Mend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18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结束宏定义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18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18000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％</a:t>
                      </a: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Put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18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18000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输出文件到</a:t>
                      </a: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LOG</a:t>
                      </a:r>
                      <a:r>
                        <a:rPr b="0" lang="zh-CN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窗口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18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2" name="TextBox 16"/>
          <p:cNvSpPr/>
          <p:nvPr/>
        </p:nvSpPr>
        <p:spPr>
          <a:xfrm>
            <a:off x="2286000" y="2214720"/>
            <a:ext cx="47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表</a:t>
            </a: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 </a:t>
            </a:r>
            <a:r>
              <a:rPr b="1" lang="zh-CN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部分宏程序设计语句及用途 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2060"/>
                </a:solidFill>
                <a:latin typeface="Times New Roman"/>
                <a:ea typeface="宋体"/>
              </a:rPr>
              <a:t>宏函数 </a:t>
            </a:r>
            <a:endParaRPr b="1" i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/>
          </p:nvPr>
        </p:nvSpPr>
        <p:spPr>
          <a:xfrm>
            <a:off x="1856880" y="1356840"/>
            <a:ext cx="4286520" cy="3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a59a55"/>
                </a:solidFill>
                <a:latin typeface="Times New Roman"/>
                <a:ea typeface="宋体"/>
              </a:rPr>
              <a:t> </a:t>
            </a:r>
            <a:r>
              <a:rPr b="1" lang="zh-CN" sz="2000" spc="-1" strike="noStrike">
                <a:solidFill>
                  <a:srgbClr val="002060"/>
                </a:solidFill>
                <a:latin typeface="Times New Roman"/>
                <a:ea typeface="宋体"/>
              </a:rPr>
              <a:t>表</a:t>
            </a: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宋体"/>
              </a:rPr>
              <a:t>2 </a:t>
            </a:r>
            <a:r>
              <a:rPr b="1" lang="zh-CN" sz="2000" spc="-1" strike="noStrike">
                <a:solidFill>
                  <a:srgbClr val="002060"/>
                </a:solidFill>
                <a:latin typeface="Times New Roman"/>
                <a:ea typeface="宋体"/>
              </a:rPr>
              <a:t>宏计算函数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1505" name=""/>
          <p:cNvGraphicFramePr/>
          <p:nvPr/>
        </p:nvGraphicFramePr>
        <p:xfrm>
          <a:off x="1928880" y="1785960"/>
          <a:ext cx="5357880" cy="1800360"/>
        </p:xfrm>
        <a:graphic>
          <a:graphicData uri="http://schemas.openxmlformats.org/drawingml/2006/table">
            <a:tbl>
              <a:tblPr/>
              <a:tblGrid>
                <a:gridCol w="1579320"/>
                <a:gridCol w="3778560"/>
              </a:tblGrid>
              <a:tr h="601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函数名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说明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598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％</a:t>
                      </a: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Eval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计算算术和逻辑表达式 整数格式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6001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%SYSEVALF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计算算术和逻辑表达式 浮点格式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6" name="文本占位符 2"/>
          <p:cNvSpPr/>
          <p:nvPr/>
        </p:nvSpPr>
        <p:spPr>
          <a:xfrm>
            <a:off x="2000160" y="3857760"/>
            <a:ext cx="42865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a59a55"/>
                </a:solidFill>
                <a:latin typeface="Times New Roman"/>
                <a:ea typeface="Times New Roman"/>
              </a:rPr>
              <a:t> </a:t>
            </a:r>
            <a:r>
              <a:rPr b="1" lang="zh-CN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表</a:t>
            </a: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 </a:t>
            </a:r>
            <a:r>
              <a:rPr b="1" lang="zh-CN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宏引用函数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  <p:graphicFrame>
        <p:nvGraphicFramePr>
          <p:cNvPr id="1507" name=""/>
          <p:cNvGraphicFramePr/>
          <p:nvPr/>
        </p:nvGraphicFramePr>
        <p:xfrm>
          <a:off x="2000160" y="4286160"/>
          <a:ext cx="5286600" cy="1727280"/>
        </p:xfrm>
        <a:graphic>
          <a:graphicData uri="http://schemas.openxmlformats.org/drawingml/2006/table">
            <a:tbl>
              <a:tblPr/>
              <a:tblGrid>
                <a:gridCol w="1276560"/>
                <a:gridCol w="4010040"/>
              </a:tblGrid>
              <a:tr h="43200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函数名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说明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%Nrstr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引用固定文本，包括</a:t>
                      </a: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r>
                        <a:rPr b="0" lang="zh-CN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和</a:t>
                      </a: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&amp;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%Quote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引用一个除％和</a:t>
                      </a: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&amp;</a:t>
                      </a:r>
                      <a:r>
                        <a:rPr b="0" lang="zh-CN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之外的可分辩值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%Str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引用除％和</a:t>
                      </a: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&amp;</a:t>
                      </a:r>
                      <a:r>
                        <a:rPr b="0" lang="zh-CN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之外的固定文本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/>
          </p:nvPr>
        </p:nvSpPr>
        <p:spPr>
          <a:xfrm>
            <a:off x="857160" y="1428480"/>
            <a:ext cx="77724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例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16.27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用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%EVAL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函数计算宏表达式的值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%l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x=100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%l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y=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%ev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&amp;x+200)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%l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z=&amp;x+200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%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y=&amp;y z=&amp;z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提交上述程序后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Log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窗口显示的结果为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例中，宏变量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Y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的值是一数值，而宏变量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Z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的值是字符串”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00+200”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09" name="矩形 3"/>
          <p:cNvSpPr/>
          <p:nvPr/>
        </p:nvSpPr>
        <p:spPr>
          <a:xfrm>
            <a:off x="1714680" y="4429080"/>
            <a:ext cx="4786200" cy="500040"/>
          </a:xfrm>
          <a:prstGeom prst="rect">
            <a:avLst/>
          </a:prstGeom>
          <a:noFill/>
          <a:ln w="25560">
            <a:solidFill>
              <a:srgbClr val="348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=300   z=100+200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/>
          </p:nvPr>
        </p:nvSpPr>
        <p:spPr>
          <a:xfrm>
            <a:off x="857160" y="928440"/>
            <a:ext cx="77724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例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16.28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用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%substr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函数生成某字符串的子串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%substr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&amp;sysday,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)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例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16.29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用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%QOUTE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函数引用一个可分辩的值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%macro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dept(X)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%i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%quo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&amp;X)=fn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%then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%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Financial Department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%el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%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other Department 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%men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dept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%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ept(fn)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%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ept(math)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cxnSp>
        <p:nvCxnSpPr>
          <p:cNvPr id="1511" name="直接箭头连接符 4"/>
          <p:cNvCxnSpPr/>
          <p:nvPr/>
        </p:nvCxnSpPr>
        <p:spPr>
          <a:xfrm>
            <a:off x="2714400" y="5000760"/>
            <a:ext cx="1500840" cy="2160"/>
          </a:xfrm>
          <a:prstGeom prst="straightConnector1">
            <a:avLst/>
          </a:prstGeom>
          <a:ln w="9360">
            <a:solidFill>
              <a:srgbClr val="44aee3"/>
            </a:solidFill>
            <a:miter/>
            <a:tailEnd len="med" type="arrow" w="med"/>
          </a:ln>
        </p:spPr>
      </p:cxnSp>
      <p:sp>
        <p:nvSpPr>
          <p:cNvPr id="1512" name="矩形 5"/>
          <p:cNvSpPr/>
          <p:nvPr/>
        </p:nvSpPr>
        <p:spPr>
          <a:xfrm>
            <a:off x="4357800" y="4714920"/>
            <a:ext cx="3643200" cy="642960"/>
          </a:xfrm>
          <a:prstGeom prst="rect">
            <a:avLst/>
          </a:prstGeom>
          <a:noFill/>
          <a:ln w="25560">
            <a:solidFill>
              <a:srgbClr val="348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Financial Department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other Department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"/>
          <p:cNvSpPr txBox="1"/>
          <p:nvPr/>
        </p:nvSpPr>
        <p:spPr>
          <a:xfrm>
            <a:off x="1523520" y="1828440"/>
            <a:ext cx="7239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16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.2 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宏处理器只能在双引号内进行替代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%l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a=january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p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  <a:ea typeface="宋体"/>
              </a:rPr>
              <a:t>"This is the time series plot for &amp;A"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例中，在引号内引用宏变量的值时必须用双引号。因为宏处理器只能在双引号内进行替代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WordArt 2"/>
          <p:cNvSpPr txBox="1"/>
          <p:nvPr/>
        </p:nvSpPr>
        <p:spPr>
          <a:xfrm>
            <a:off x="1214280" y="342900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4ab1e4"/>
                </a:solidFill>
                <a:effectLst>
                  <a:outerShdw dist="53966" dir="2700000" blurRad="0" rotWithShape="0">
                    <a:srgbClr val="080808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4ab1e4"/>
              </a:solidFill>
              <a:effectLst>
                <a:outerShdw dist="53966" dir="2700000" blurRad="0" rotWithShape="0">
                  <a:srgbClr val="080808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Text Box 4"/>
          <p:cNvSpPr/>
          <p:nvPr/>
        </p:nvSpPr>
        <p:spPr>
          <a:xfrm>
            <a:off x="1619280" y="1628640"/>
            <a:ext cx="6335640" cy="3049560"/>
          </a:xfrm>
          <a:prstGeom prst="rect">
            <a:avLst/>
          </a:prstGeom>
          <a:noFill/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606  %let a=january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607  data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608  put  "This is the time series plot for &amp;A"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609  run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This is the time series plot for january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NOTE: </a:t>
            </a:r>
            <a:r>
              <a:rPr b="0" lang="zh-TW" sz="2000" spc="-1" strike="noStrike">
                <a:solidFill>
                  <a:srgbClr val="080808"/>
                </a:solidFill>
                <a:latin typeface="Times New Roman"/>
              </a:rPr>
              <a:t>数据集 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WORK.DATA1 </a:t>
            </a:r>
            <a:r>
              <a:rPr b="0" lang="zh-TW" sz="2000" spc="-1" strike="noStrike">
                <a:solidFill>
                  <a:srgbClr val="080808"/>
                </a:solidFill>
                <a:latin typeface="Times New Roman"/>
              </a:rPr>
              <a:t>有 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1 </a:t>
            </a:r>
            <a:r>
              <a:rPr b="0" lang="zh-TW" sz="2000" spc="-1" strike="noStrike">
                <a:solidFill>
                  <a:srgbClr val="080808"/>
                </a:solidFill>
                <a:latin typeface="Times New Roman"/>
              </a:rPr>
              <a:t>个观测和 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0 </a:t>
            </a:r>
            <a:r>
              <a:rPr b="0" lang="zh-TW" sz="2000" spc="-1" strike="noStrike">
                <a:solidFill>
                  <a:srgbClr val="080808"/>
                </a:solidFill>
                <a:latin typeface="Times New Roman"/>
              </a:rPr>
              <a:t>个变量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NOTE: “DATA </a:t>
            </a:r>
            <a:r>
              <a:rPr b="0" lang="zh-TW" sz="2000" spc="-1" strike="noStrike">
                <a:solidFill>
                  <a:srgbClr val="080808"/>
                </a:solidFill>
                <a:latin typeface="Times New Roman"/>
              </a:rPr>
              <a:t>语句”所用时间（总处理时间）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      </a:t>
            </a:r>
            <a:r>
              <a:rPr b="0" lang="zh-TW" sz="2000" spc="-1" strike="noStrike">
                <a:solidFill>
                  <a:srgbClr val="080808"/>
                </a:solidFill>
                <a:latin typeface="Times New Roman"/>
              </a:rPr>
              <a:t>实际时间         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0.01 </a:t>
            </a:r>
            <a:r>
              <a:rPr b="0" lang="zh-TW" sz="2000" spc="-1" strike="noStrike">
                <a:solidFill>
                  <a:srgbClr val="080808"/>
                </a:solidFill>
                <a:latin typeface="Times New Roman"/>
              </a:rPr>
              <a:t>秒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80808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CPU </a:t>
            </a:r>
            <a:r>
              <a:rPr b="0" lang="zh-TW" sz="2000" spc="-1" strike="noStrike">
                <a:solidFill>
                  <a:srgbClr val="080808"/>
                </a:solidFill>
                <a:latin typeface="Times New Roman"/>
              </a:rPr>
              <a:t>时间         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0.01 </a:t>
            </a:r>
            <a:r>
              <a:rPr b="0" lang="zh-TW" sz="2000" spc="-1" strike="noStrike">
                <a:solidFill>
                  <a:srgbClr val="080808"/>
                </a:solidFill>
                <a:latin typeface="Times New Roman"/>
              </a:rPr>
              <a:t>秒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"/>
          <p:cNvSpPr txBox="1"/>
          <p:nvPr/>
        </p:nvSpPr>
        <p:spPr>
          <a:xfrm>
            <a:off x="1600200" y="1523520"/>
            <a:ext cx="7238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16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.3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多次引用宏变量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298440" indent="-29844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%l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a=ResDat.class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298440" indent="-29844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male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298440" indent="-29844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&amp;a 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298440" indent="-29844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sex=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M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298440" indent="-29844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298440" indent="-29844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it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"SUBSET OF &amp;A"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298440" indent="-29844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female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298440" indent="-29844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&amp;a 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298440" indent="-29844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sex=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F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298440" indent="-29844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298440" indent="-29844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it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"SUBSET OF &amp;A"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298440" indent="-29844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"/>
          <p:cNvSpPr txBox="1"/>
          <p:nvPr/>
        </p:nvSpPr>
        <p:spPr>
          <a:xfrm>
            <a:off x="1000080" y="928800"/>
            <a:ext cx="74772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16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.4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改变宏变量的值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%l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m=2000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%l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n=1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a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ResDat.stk000002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year(date)=&amp;m  and  month(date)=&amp;n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gplo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a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itle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"&amp;m </a:t>
            </a:r>
            <a:r>
              <a:rPr b="0" lang="zh-CN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年 </a:t>
            </a:r>
            <a:r>
              <a:rPr b="0" lang="zh-CN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&amp;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n </a:t>
            </a:r>
            <a:r>
              <a:rPr b="0" lang="zh-CN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月份收盘价时序图</a:t>
            </a:r>
            <a:r>
              <a:rPr b="0" lang="zh-CN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"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plo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clpr*date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symbol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star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join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red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例中，改变宏变量的值，如：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%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LET N=2,3,4,5,...,12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可以分别得到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12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个月的时序图。不过，更好的方法是用宏循环来实现这里的要求。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4T03:57:00Z</dcterms:created>
  <dc:creator>微软用户</dc:creator>
  <dc:description/>
  <dc:language>en-US</dc:language>
  <cp:lastModifiedBy>RESSET</cp:lastModifiedBy>
  <dcterms:modified xsi:type="dcterms:W3CDTF">2013-02-18T01:46:23Z</dcterms:modified>
  <cp:revision>370</cp:revision>
  <dc:subject/>
  <dc:title>第1章 SAS软件入门</dc:title>
</cp:coreProperties>
</file>