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950C-71FB-46E5-804D-F58C46B767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DF4B-356B-47ED-A9B9-B146F93683D1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待会一起演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9D94-235B-4EB0-A259-E529FD1498C9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502D-9F16-4BBF-A588-7FB4CE56CDA4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0A0F-3BFC-4691-AF99-876683E8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107-8E7C-4376-98E3-72EDC404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416CF-BC98-4444-94A1-132D6316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292F0-C9FF-4712-98BE-7A572A3A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E3F2A-C384-4D34-9B47-9A5429EF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C219D-9323-435C-A58C-61A824F2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DE46F-6AA4-4FED-ABFA-7F48890C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821B8-1A82-4E60-AA9C-43BDD510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CF777-612D-4C21-B9DB-E18B7147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BE7FE-3ADC-4FFD-86B9-87581E24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3599C-BB1C-4680-95DD-66515D9B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729DE-2E83-4B79-B48C-36EF9102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EB4-3CA6-444F-8558-16893AA3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AA6DB-341F-4749-9551-C074A509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43F22-F6B3-43E1-BB7C-3E1EAE74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CB7B4-0FED-4009-B2B9-77527095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AE97C-9115-433A-84FB-60350BEF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12347-F292-4139-BAB8-349ADCF0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F205D-C32A-4C5C-AC0D-696E7389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C520C-7CB3-40EA-92BD-8CFE5831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FDBCF-BE17-4FA5-8C54-7BC74EEB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49405-0979-4903-B181-FF33A7D0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A05A0-D2F6-432E-974F-3704AA24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C08-FC6E-4ECE-8D1F-5E0102A1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3FF20-16DF-4B4A-8CD7-45A5C005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4D3D6-98C0-4203-AA36-13B55862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BCE18-7C1B-4CF8-A033-CA92A041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139F2-8936-418B-AED5-45BCF140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32EAF-0754-40BE-9076-AC0D50CD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4AC72-EF7E-45C1-A403-089DA0B0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C1778-0CA7-44E0-9C76-199504B0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4CAF8-EF98-4A4C-9C85-7E423139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79C7E-B8F0-45F1-9BFB-E0C13275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11FE5-52E8-4A78-AD5E-0FB2FC59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0CD2-F800-4849-907C-44430E03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FA6EB-6604-4D46-B45B-811F06D6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F7FAB-10B1-4BBB-B01F-5A4AAD57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E0D13-BD05-46CB-978F-9FDB0A21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9AB18-EC23-419E-A39E-7245BD6B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FEF27-7763-413C-AA94-748EF14C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53218-703D-4145-A905-1BA50E0F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3D9A9-57A5-4940-9773-F9C54CBA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E7775-FB8D-4B8E-B241-6A9931F4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2F75F-3004-45F3-9A4A-9440735C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EF02B-3EC6-42A7-8004-48B01318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2A75-57E9-49AD-93ED-1B878CBA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A572E-AE77-44A0-B4A6-E102946D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DA128-F62A-4F83-978C-A9B2C232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78D9D-2576-414C-9583-12A7DCD4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28941-6293-4FEE-9680-3E3B67CA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159A3-70F1-451D-90BF-E125683A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0F88-DFCC-42C7-8805-639DF739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F616-DEB5-4BDD-9848-9577A552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24B6-7C4E-4A0F-B60D-C79EFA6A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82EA-6575-4662-9525-47582010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DA42-54F3-45F4-97BD-3DA81C13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5FD-AB61-43AE-AEF6-DAF32051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A334-E033-44C9-86AD-9638F5FC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D237-079E-41E8-B230-45187093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A21C-B4D2-45CA-9EDC-673F2A5E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2F74-731B-4D3E-A898-D786E446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B4D3-490A-4FD7-BD48-86CD2FFB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4FB66-0B00-407F-BA96-00385472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E6AD-CCC9-4A7C-983C-DE264252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6E03F-A814-4E93-BB47-DFBDDA95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526C7-CAF8-4B93-9E69-2F4356A6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BC54-D155-4437-8D74-653B03E4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AF4-BF06-4D5A-A892-14217F39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010D1-56E1-4C33-B0D0-A9C996B4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BAD25-DF5B-4198-9913-AC49D222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364EE-714A-415E-A098-2038FA84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44D6B-CAF2-417C-A2C5-E7B67306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92A82-1533-45DB-AC14-4F03FDDE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DD1CA-58C4-4C88-BA3C-AF4F42B6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C4790-D0D6-4798-BE5F-7567F63B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62843-46BA-4FC4-98C2-00535C63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E5522-4314-40E8-ABAE-8A65F07B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59A8C-032D-491A-A28C-4F49EDCF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721-4173-4780-A927-B694F288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10747-F2C9-4F1D-AE9C-EE1833FD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31C53-4E27-43D1-9283-C50FFA5C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03AA5-3A6A-4045-ADEE-37075DAD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D6535-53BB-4967-A685-5C57C7E5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92335-8C28-47C0-A7FA-D10E364B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26DE4-4578-4A91-9258-04DC5BA5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A58CC-5AC7-4743-A83B-9794B963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20971-D822-46F4-93C6-FFA4C012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E48D8-98B0-4D85-97FD-A328AF15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EBDE1-2991-486A-8C3E-89FD588C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9E2-D223-4D34-88C2-8759D9B5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B0C29-FA21-478A-A81F-ADC09636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6329A-9A32-4D4E-9FEF-CDFCC481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7EF04-8E85-4EF4-8942-6D07BC4C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21A14-7C87-48F5-BA78-FD606220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D4D68-0285-4B35-A6E5-33B6E4EA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68A2F-1844-459B-BFC9-01194AD9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ACD73-D4C1-43A0-8CCE-58774898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2F476-06E7-485C-92FB-FBB48DCB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DECE3-E2DD-4D52-B2C5-52DB89CA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F3716-F0C8-463E-B944-B5FF0FDA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26B-6A25-44D2-8182-F50A5E5D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A56EA-61A9-4DC8-9753-2AD32569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D250F-DEDF-4DF0-8B8F-2D06C7BF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79440-7490-43AC-96FC-1D1DFBAE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91883-B1AE-4339-AAB5-F6668472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02BE8-5553-4E46-B830-1AF2FAB7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D8375-CB65-4E24-B6D9-77A46DE4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56E39-EBCE-4F56-ABA6-A27D43B3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7A881-CA01-4C3B-A530-7B1245F1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122B7-3285-462F-96C5-AB43C702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F3E5A-A97E-4C72-A6F9-EE63D48D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46C-1CB9-49CC-8457-896DE089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E6905-D807-4E8F-9B68-5B47FE7A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138E9-0D4F-41C7-B003-4D9F7463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175D1-08BA-4141-9BAA-7C3BEBA0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B0290-F1A3-4E9A-89F2-CB7BBCA2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91E78-44A7-4D83-9D7F-A74252E6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EB80E-652C-42D6-82FF-F60BE88D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FE918-BA53-4F02-8B49-1EFE1A44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450DD-BA5A-4F97-9AD5-4694DE59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CCD5E-A3B3-4A4C-9C2C-96154BCE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377A7-3F9C-4FED-839B-0AD967EF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26B-D972-4E91-8BE5-B5A891E4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8A65A-D548-492F-818C-B3EC6A1D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31268-F53F-44D0-A156-22BFE686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C98C5-EA6B-43B8-8F1D-2AD378F3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6706D-FA87-4564-98BB-1ACDAE6D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6084E-2F9A-4A2E-B1A0-716F0E7E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5EE13-52C1-4E95-93DF-3A939609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D9674-E32E-4E95-9E26-4C10FF90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A0264-A20B-40A1-9C14-96BF62F0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E155D-CEE1-47D0-A2A7-6EEA4541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E3EC2-AC1F-4E35-8ED1-BF58F638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C82-EC0E-4D14-98EA-00328F31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4E5EB-8591-433B-93D0-9ACD3DC4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CDC59-D910-4449-A7BB-7699BF2B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8C1A4-F25E-483D-9BB1-83F86820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9AE27-0731-4EB3-887B-87F762BF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8A51F-3A35-4DF9-95D5-DA0D1E06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D245E-9B3F-4E7C-A3D0-B03727A3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4A52B-B951-413D-A4E6-BF235F97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2F95C-09CC-4930-884B-5D20781F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2F1F2-4E6E-4C86-B1DC-0C8B562A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26A2B-8199-41B9-AB8C-DCBDB7A0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0060-76E5-47E3-9847-698CEE5567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856E-16F7-49FF-A550-CEB7A2B57F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C33B-01B0-457F-84C5-18246CD81D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F6EF-7154-4285-B788-C273D7A95F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9488-2065-4EFF-930D-C62987F1B6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A371-D3A3-460F-8B53-1BD031463E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EFC5-1F4A-483B-A94E-FD642AAD2C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C7D9-ABE0-4A0D-86CB-B8CB10F8FD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D154-01B4-4F70-8E46-63B4E9D6E1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7913-A39D-4828-BE5E-036173F2E2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6D2C-4FF9-4648-83B8-4810691849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6"/>
          <p:cNvSpPr/>
          <p:nvPr/>
        </p:nvSpPr>
        <p:spPr>
          <a:xfrm>
            <a:off x="3591360" y="3929760"/>
            <a:ext cx="237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1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SAS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软件入门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工具栏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142640" y="1071720"/>
            <a:ext cx="532908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不同窗口状态下工具栏显示不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资源管理器窗口工具栏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143000" y="2214720"/>
            <a:ext cx="6553080" cy="36324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3"/>
          <p:cNvSpPr/>
          <p:nvPr/>
        </p:nvSpPr>
        <p:spPr>
          <a:xfrm>
            <a:off x="1143000" y="3357720"/>
            <a:ext cx="5329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宋体"/>
              </a:rPr>
              <a:t>编辑器窗口工具栏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3" name="Picture 4" descr=""/>
          <p:cNvPicPr/>
          <p:nvPr/>
        </p:nvPicPr>
        <p:blipFill>
          <a:blip r:embed="rId2"/>
          <a:stretch/>
        </p:blipFill>
        <p:spPr>
          <a:xfrm>
            <a:off x="1143000" y="4071960"/>
            <a:ext cx="6553080" cy="350640"/>
          </a:xfrm>
          <a:prstGeom prst="rect">
            <a:avLst/>
          </a:prstGeom>
          <a:ln w="0">
            <a:noFill/>
          </a:ln>
        </p:spPr>
      </p:pic>
      <p:sp>
        <p:nvSpPr>
          <p:cNvPr id="684" name="矩形 7"/>
          <p:cNvSpPr/>
          <p:nvPr/>
        </p:nvSpPr>
        <p:spPr>
          <a:xfrm>
            <a:off x="928800" y="4786200"/>
            <a:ext cx="700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最为常用的两个工具是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提交程序工具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     </a:t>
            </a:r>
            <a:r>
              <a:rPr b="0" lang="en-US" sz="2800" spc="-1" strike="noStrike" baseline="-25000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中断运行程序工具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5" name="图片 9" descr=""/>
          <p:cNvPicPr/>
          <p:nvPr/>
        </p:nvPicPr>
        <p:blipFill>
          <a:blip r:embed="rId3"/>
          <a:srcRect l="53907" t="6556" r="43074" b="89702"/>
          <a:stretch/>
        </p:blipFill>
        <p:spPr>
          <a:xfrm>
            <a:off x="6929280" y="49291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686" name="图片 1" descr=""/>
          <p:cNvPicPr/>
          <p:nvPr/>
        </p:nvPicPr>
        <p:blipFill>
          <a:blip r:embed="rId4"/>
          <a:srcRect l="59019" t="6608" r="38128" b="89950"/>
          <a:stretch/>
        </p:blipFill>
        <p:spPr>
          <a:xfrm>
            <a:off x="4000680" y="5286240"/>
            <a:ext cx="2998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工具定制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57120" y="1287000"/>
            <a:ext cx="5943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工具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=&gt;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定制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=&gt;“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定制”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89" name="Picture 8" descr=""/>
          <p:cNvPicPr/>
          <p:nvPr/>
        </p:nvPicPr>
        <p:blipFill>
          <a:blip r:embed="rId1"/>
          <a:stretch/>
        </p:blipFill>
        <p:spPr>
          <a:xfrm>
            <a:off x="2000160" y="2143080"/>
            <a:ext cx="40323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命令行窗口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命令行中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可以快速完成一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 ，如键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y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查看功能键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ubm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提交程序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92" name="Picture 6" descr=""/>
          <p:cNvPicPr/>
          <p:nvPr/>
        </p:nvPicPr>
        <p:blipFill>
          <a:blip r:embed="rId1"/>
          <a:stretch/>
        </p:blipFill>
        <p:spPr>
          <a:xfrm>
            <a:off x="1643040" y="2714760"/>
            <a:ext cx="5472000" cy="4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资源管理器窗口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071720" y="1356840"/>
            <a:ext cx="76579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资源管理器窗口下，可以执行基本的 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任务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新的逻辑库和文件快捷方式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新的逻辑库成员和目录条目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打开和编辑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SAS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“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树状结构”的资源管理器窗口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96" name="Picture 5" descr=""/>
          <p:cNvPicPr/>
          <p:nvPr/>
        </p:nvPicPr>
        <p:blipFill>
          <a:blip r:embed="rId1"/>
          <a:srcRect l="30443" t="20010" r="44761" b="38578"/>
          <a:stretch/>
        </p:blipFill>
        <p:spPr>
          <a:xfrm>
            <a:off x="2571840" y="1785960"/>
            <a:ext cx="3105000" cy="3887640"/>
          </a:xfrm>
          <a:prstGeom prst="rect">
            <a:avLst/>
          </a:prstGeom>
          <a:ln w="0">
            <a:noFill/>
          </a:ln>
        </p:spPr>
      </p:pic>
      <p:sp>
        <p:nvSpPr>
          <p:cNvPr id="697" name="矩形 4"/>
          <p:cNvSpPr/>
          <p:nvPr/>
        </p:nvSpPr>
        <p:spPr>
          <a:xfrm>
            <a:off x="857160" y="5929200"/>
            <a:ext cx="70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默认的是“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只显示内容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”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资源管理器窗口。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打开</a:t>
            </a:r>
            <a:r>
              <a:rPr b="1" lang="en-US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SAS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资源管理器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57120" y="1500120"/>
            <a:ext cx="822960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操作环境，可以使用以下方法打开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资源管理器”窗口（打开树视图和列表视图）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菜单：    视图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=&gt; SAS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资源管理器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命令：    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EXPLORE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工具栏：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SAS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资源管理器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快捷键：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CTRL+W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00" name="图片 2" descr=""/>
          <p:cNvPicPr/>
          <p:nvPr/>
        </p:nvPicPr>
        <p:blipFill>
          <a:blip r:embed="rId1"/>
          <a:srcRect l="45480" t="6708" r="51748" b="89864"/>
          <a:stretch/>
        </p:blipFill>
        <p:spPr>
          <a:xfrm>
            <a:off x="5572080" y="3643200"/>
            <a:ext cx="35712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结果窗口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294920"/>
            <a:ext cx="461484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可以通过结果窗口对程序的输出结果进行浏览和管理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用一种或多种格式（或类型）产生输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默认类型是“列表”输出（如右图的“查询结果”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输出类型包括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TM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“输出数据集”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ostScri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03" name="图片 10" descr=""/>
          <p:cNvPicPr/>
          <p:nvPr/>
        </p:nvPicPr>
        <p:blipFill>
          <a:blip r:embed="rId1"/>
          <a:srcRect l="0" t="10222" r="75798" b="60179"/>
          <a:stretch/>
        </p:blipFill>
        <p:spPr>
          <a:xfrm>
            <a:off x="5429160" y="2000160"/>
            <a:ext cx="25383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增强型编辑器窗口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矩形 3"/>
          <p:cNvSpPr/>
          <p:nvPr/>
        </p:nvSpPr>
        <p:spPr>
          <a:xfrm>
            <a:off x="611280" y="128592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三种方式同时打开多个编辑器窗口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分别运行不同程序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如图所示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06" name="图片 1" descr=""/>
          <p:cNvPicPr/>
          <p:nvPr/>
        </p:nvPicPr>
        <p:blipFill>
          <a:blip r:embed="rId1"/>
          <a:srcRect l="25169" t="10849" r="20577" b="46387"/>
          <a:stretch/>
        </p:blipFill>
        <p:spPr>
          <a:xfrm>
            <a:off x="3857760" y="2214720"/>
            <a:ext cx="4786200" cy="2931840"/>
          </a:xfrm>
          <a:prstGeom prst="rect">
            <a:avLst/>
          </a:prstGeom>
          <a:ln w="0">
            <a:noFill/>
          </a:ln>
        </p:spPr>
      </p:pic>
      <p:sp>
        <p:nvSpPr>
          <p:cNvPr id="707" name="TextBox 5"/>
          <p:cNvSpPr/>
          <p:nvPr/>
        </p:nvSpPr>
        <p:spPr>
          <a:xfrm>
            <a:off x="309600" y="2276640"/>
            <a:ext cx="34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Times New Roman"/>
              </a:rPr>
              <a:t>菜单方式 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:  1.</a:t>
            </a:r>
            <a:r>
              <a:rPr b="1" lang="zh-CN" sz="1800" spc="-1" strike="noStrike">
                <a:solidFill>
                  <a:srgbClr val="0070c0"/>
                </a:solidFill>
                <a:latin typeface="Times New Roman"/>
              </a:rPr>
              <a:t>文件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=&gt;</a:t>
            </a:r>
            <a:r>
              <a:rPr b="1" lang="zh-CN" sz="1800" spc="-1" strike="noStrike">
                <a:solidFill>
                  <a:srgbClr val="0070c0"/>
                </a:solidFill>
                <a:latin typeface="Times New Roman"/>
              </a:rPr>
              <a:t>新建程序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2.</a:t>
            </a:r>
            <a:r>
              <a:rPr b="1" lang="zh-CN" sz="1800" spc="-1" strike="noStrike">
                <a:solidFill>
                  <a:srgbClr val="0070c0"/>
                </a:solidFill>
                <a:latin typeface="Times New Roman"/>
              </a:rPr>
              <a:t>视图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=&gt;</a:t>
            </a:r>
            <a:r>
              <a:rPr b="1" lang="zh-CN" sz="1800" spc="-1" strike="noStrike">
                <a:solidFill>
                  <a:srgbClr val="0070c0"/>
                </a:solidFill>
                <a:latin typeface="Times New Roman"/>
              </a:rPr>
              <a:t>增强型编辑器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Times New Roman"/>
              </a:rPr>
              <a:t>快捷方式 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:  CTRL+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Times New Roman"/>
              </a:rPr>
              <a:t>工具栏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: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2"/>
          <a:srcRect l="26634" t="6604" r="70623" b="89940"/>
          <a:stretch/>
        </p:blipFill>
        <p:spPr>
          <a:xfrm>
            <a:off x="1500120" y="3143160"/>
            <a:ext cx="297000" cy="2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日志窗口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857160" y="1500120"/>
            <a:ext cx="7239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日志”窗口用来查看程序运行信息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提交的程序语句；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系统消息和错误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程序运行速度和时间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日志”窗口中的元素根据以下类型呈现不同的颜色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程序行　黑色：以语句标号开始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提示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蓝色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：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开始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警告　　</a:t>
            </a:r>
            <a:r>
              <a:rPr b="0" lang="zh-CN" sz="2000" spc="-1" strike="noStrike">
                <a:solidFill>
                  <a:srgbClr val="339933"/>
                </a:solidFill>
                <a:latin typeface="Times New Roman"/>
              </a:rPr>
              <a:t>绿色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：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ARNIN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开始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错误　　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红色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：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ERRO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开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1213920" y="857160"/>
            <a:ext cx="6000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提交如下程序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观察日志窗口不同颜色的显示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x=0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at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x=0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a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x=0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软件功能模块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工作界面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操作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4"/>
          <p:cNvSpPr/>
          <p:nvPr/>
        </p:nvSpPr>
        <p:spPr>
          <a:xfrm>
            <a:off x="857160" y="1214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观察日志中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种颜色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3" name="矩形 3"/>
          <p:cNvSpPr/>
          <p:nvPr/>
        </p:nvSpPr>
        <p:spPr>
          <a:xfrm>
            <a:off x="3500280" y="857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程序行　黑色：以语句标号开始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提示　　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蓝色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：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NOT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开始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警告　　</a:t>
            </a:r>
            <a:r>
              <a:rPr b="0" lang="zh-CN" sz="1800" spc="-1" strike="noStrike">
                <a:solidFill>
                  <a:srgbClr val="339933"/>
                </a:solidFill>
                <a:latin typeface="Times New Roman"/>
              </a:rPr>
              <a:t>绿色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：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WARNIN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开始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错误　　</a:t>
            </a: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红色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：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ERROR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开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rcRect l="24313" t="10535" r="19356" b="27831"/>
          <a:stretch/>
        </p:blipFill>
        <p:spPr>
          <a:xfrm>
            <a:off x="857160" y="2071800"/>
            <a:ext cx="721512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输出窗口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矩形 4"/>
          <p:cNvSpPr/>
          <p:nvPr/>
        </p:nvSpPr>
        <p:spPr>
          <a:xfrm>
            <a:off x="1222920" y="1428840"/>
            <a:ext cx="28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输出窗口用来查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程序的输出结果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7" name="Rectangle 17"/>
          <p:cNvSpPr/>
          <p:nvPr/>
        </p:nvSpPr>
        <p:spPr>
          <a:xfrm>
            <a:off x="857160" y="210888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按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提交如下程序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界面如下所示：</a:t>
            </a:r>
            <a:r>
              <a:rPr b="0" lang="zh-CN" sz="1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1357200" y="2571840"/>
          <a:ext cx="5924520" cy="639720"/>
        </p:xfrm>
        <a:graphic>
          <a:graphicData uri="http://schemas.openxmlformats.org/drawingml/2006/table">
            <a:tbl>
              <a:tblPr/>
              <a:tblGrid>
                <a:gridCol w="5924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roc print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data=sashelp.class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un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9" name="图片 6" descr=""/>
          <p:cNvPicPr/>
          <p:nvPr/>
        </p:nvPicPr>
        <p:blipFill>
          <a:blip r:embed="rId1"/>
          <a:srcRect l="29256" t="16931" r="10426" b="61854"/>
          <a:stretch/>
        </p:blipFill>
        <p:spPr>
          <a:xfrm>
            <a:off x="1357200" y="3500280"/>
            <a:ext cx="5857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参数设置</a:t>
            </a:r>
            <a:r>
              <a:rPr b="1" lang="en-US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28760" y="1285560"/>
            <a:ext cx="8229600" cy="12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要设置输出类型，可使用菜单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工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数选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”标签，进入参数选择窗口进行设置如下图所示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22" name="Picture 6" descr=""/>
          <p:cNvPicPr/>
          <p:nvPr/>
        </p:nvPicPr>
        <p:blipFill>
          <a:blip r:embed="rId1"/>
          <a:stretch/>
        </p:blipFill>
        <p:spPr>
          <a:xfrm>
            <a:off x="1928880" y="2143080"/>
            <a:ext cx="4680000" cy="360540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7"/>
          <p:cNvSpPr/>
          <p:nvPr/>
        </p:nvSpPr>
        <p:spPr>
          <a:xfrm>
            <a:off x="1143000" y="59292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点选创建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HTM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时，输出结果同时展现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HTM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文件中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56760" y="999720"/>
            <a:ext cx="82803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运行如下程序语句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会产生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TML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输出结果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所示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a=sashelp.cla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un;</a:t>
            </a:r>
            <a:br>
              <a:rPr sz="1800"/>
            </a:br>
            <a:endParaRPr b="1" i="1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25" name="图片 4" descr=""/>
          <p:cNvPicPr/>
          <p:nvPr/>
        </p:nvPicPr>
        <p:blipFill>
          <a:blip r:embed="rId1"/>
          <a:srcRect l="24560" t="10378" r="27420" b="31682"/>
          <a:stretch/>
        </p:blipFill>
        <p:spPr>
          <a:xfrm>
            <a:off x="2428920" y="2214720"/>
            <a:ext cx="316368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en-US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SAS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窗口操作 </a:t>
            </a:r>
            <a:br>
              <a:rPr sz="2800"/>
            </a:b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文件浏览及操作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8080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增加目录、数据表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点选目标逻辑库（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hel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外）。选择新建， 就可以按照提示增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加目录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表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粘贴数据表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要复制粘贴逻辑库中的数据表和其它文件，只需在资源管理器窗口中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入源逻辑库选择数据表，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trl+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然后进入到目标逻辑库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trl+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就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把这些表复制过来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新建逻辑库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*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用菜单操作建立逻辑库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SASLib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在逻辑库级别，在空白处按右键，选择新建，或在菜单栏选择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工具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=&gt;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新建逻辑库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打开如下对话框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在打开对话框中输入逻辑库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名称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“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Lib”,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引擎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默认，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路径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“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:\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”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点确定即建立新的逻辑库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Lib,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可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资源管理器中查看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30" name="Picture 2" descr=""/>
          <p:cNvPicPr/>
          <p:nvPr/>
        </p:nvPicPr>
        <p:blipFill>
          <a:blip r:embed="rId1"/>
          <a:srcRect l="23146" t="10022" r="31104" b="46625"/>
          <a:stretch/>
        </p:blipFill>
        <p:spPr>
          <a:xfrm>
            <a:off x="1643040" y="2928960"/>
            <a:ext cx="4687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程序编辑窗口操作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提交程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直接按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3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或者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8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提交程序，或点选工具条中的提交按钮        ，或者在命令框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中输入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bmit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命令或者在菜单栏中选择“运行”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—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“提交”菜单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请用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4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种方式提交下面程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print data=sashelp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储存程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可以保存为其它格式的文本，也可以直接以编辑器的方式来储存，直接点选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文件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=&gt;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保存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选择路径就可以保存这些程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33" name="图片 9" descr=""/>
          <p:cNvPicPr/>
          <p:nvPr/>
        </p:nvPicPr>
        <p:blipFill>
          <a:blip r:embed="rId1"/>
          <a:srcRect l="53907" t="6556" r="43074" b="89702"/>
          <a:stretch/>
        </p:blipFill>
        <p:spPr>
          <a:xfrm>
            <a:off x="6516720" y="1773360"/>
            <a:ext cx="297000" cy="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功能键窗口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28400" y="1714680"/>
            <a:ext cx="468612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中，一些键或组合已经被赋予特定功能，这就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通过下列方式打开功能键窗口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Times New Roman"/>
                <a:ea typeface="宋体"/>
              </a:rPr>
              <a:t>工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  <a:ea typeface="宋体"/>
              </a:rPr>
              <a:t>功能键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者在命令行中输入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宋体"/>
              </a:rPr>
              <a:t>KEY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 </a:t>
            </a:r>
            <a:r>
              <a:rPr b="0" lang="zh-CN" sz="2000" spc="-1" strike="noStrike">
                <a:solidFill>
                  <a:srgbClr val="4ab1e4"/>
                </a:solidFill>
                <a:latin typeface="Times New Roman"/>
                <a:ea typeface="宋体"/>
              </a:rPr>
              <a:t>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者按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宋体"/>
              </a:rPr>
              <a:t>F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系统默认设置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4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召回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36" name="Picture 6" descr=""/>
          <p:cNvPicPr/>
          <p:nvPr/>
        </p:nvPicPr>
        <p:blipFill>
          <a:blip r:embed="rId1"/>
          <a:srcRect l="0" t="0" r="0" b="29201"/>
          <a:stretch/>
        </p:blipFill>
        <p:spPr>
          <a:xfrm>
            <a:off x="5286240" y="1214280"/>
            <a:ext cx="2880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457200" y="1294920"/>
            <a:ext cx="475776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按上述方式打开功能键窗口，然后在“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F12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后输入“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lea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，输入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EN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V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命令来保存修改，退出。之后在不同窗口按“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F12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，查看效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相当于“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TRL+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，清除功能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功能键窗口操作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39" name="Picture 6" descr=""/>
          <p:cNvPicPr/>
          <p:nvPr/>
        </p:nvPicPr>
        <p:blipFill>
          <a:blip r:embed="rId1"/>
          <a:srcRect l="0" t="0" r="0" b="29201"/>
          <a:stretch/>
        </p:blipFill>
        <p:spPr>
          <a:xfrm>
            <a:off x="5286240" y="1214280"/>
            <a:ext cx="2880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数据集导入和导出（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SAS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数据集与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EXCEL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表转换）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785520" y="1295280"/>
            <a:ext cx="7643880" cy="15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数据集的导出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*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例：导出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SASHELP</a:t>
            </a: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逻辑库下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CLASS</a:t>
            </a: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文件到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EXC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步：点选文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导出数据，进入选择输出数据文件界面，通过下拉菜单选择要导出文件的逻辑库名称和数据文件名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42" name="Picture 2" descr=""/>
          <p:cNvPicPr/>
          <p:nvPr/>
        </p:nvPicPr>
        <p:blipFill>
          <a:blip r:embed="rId1"/>
          <a:stretch/>
        </p:blipFill>
        <p:spPr>
          <a:xfrm>
            <a:off x="1643040" y="2898720"/>
            <a:ext cx="528624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 Narrow"/>
                <a:ea typeface="宋体"/>
              </a:rPr>
              <a:t>本章操作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294920"/>
            <a:ext cx="822960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工作界面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——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重要功能键：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5, F6, F7, Ctrl+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命令行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Key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资源管理器窗口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trl+w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Times New Roman"/>
                <a:ea typeface="宋体"/>
              </a:rPr>
              <a:t>输出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*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7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增强型编辑器窗口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5, Ctrl+n(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产生多个编辑器窗口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窗口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*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新建逻辑库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复制粘贴数据表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提交程序的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种方式：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F3 , F8) ,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命令行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Submit)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菜单， 工具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导入和导出：菜单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 Import, Expor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51" name="图片 9" descr=""/>
          <p:cNvPicPr/>
          <p:nvPr/>
        </p:nvPicPr>
        <p:blipFill>
          <a:blip r:embed="rId1"/>
          <a:stretch/>
        </p:blipFill>
        <p:spPr>
          <a:xfrm>
            <a:off x="7480440" y="4127400"/>
            <a:ext cx="3888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642960" y="1294920"/>
            <a:ext cx="785808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步：点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进入到选择输出格式界面。通过下拉菜单选择想要输出的格式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soft Excel workboo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然后点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xt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44" name="图片 10" descr=""/>
          <p:cNvPicPr/>
          <p:nvPr/>
        </p:nvPicPr>
        <p:blipFill>
          <a:blip r:embed="rId1"/>
          <a:srcRect l="23290" t="10697" r="18529" b="39555"/>
          <a:stretch/>
        </p:blipFill>
        <p:spPr>
          <a:xfrm>
            <a:off x="1500120" y="2428920"/>
            <a:ext cx="5429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642600" y="129528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步：进入设定输出文件位置和名称界面，通过浏览按钮选择输出位置，并键入输出文件的名称（比如新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ass.xl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放在桌面上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46" name="Picture 5" descr=""/>
          <p:cNvPicPr/>
          <p:nvPr/>
        </p:nvPicPr>
        <p:blipFill>
          <a:blip r:embed="rId1"/>
          <a:srcRect l="28889" t="55730" r="33289" b="22559"/>
          <a:stretch/>
        </p:blipFill>
        <p:spPr>
          <a:xfrm>
            <a:off x="1143000" y="2428920"/>
            <a:ext cx="58579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Box 3"/>
          <p:cNvSpPr/>
          <p:nvPr/>
        </p:nvSpPr>
        <p:spPr>
          <a:xfrm>
            <a:off x="714240" y="114300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四步：点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进入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Export Wizar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画面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Export Wizar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和后面要介绍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Wizar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转换数据文件的工具。在这个画面中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Wizar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要求对这个输出过程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命名，这时可以直接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完成输出，或者命名为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eet1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48" name="Picture 5" descr=""/>
          <p:cNvPicPr/>
          <p:nvPr/>
        </p:nvPicPr>
        <p:blipFill>
          <a:blip r:embed="rId1"/>
          <a:stretch/>
        </p:blipFill>
        <p:spPr>
          <a:xfrm>
            <a:off x="1187280" y="2747880"/>
            <a:ext cx="63374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五步：如果上一步选择命名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会生产一段与前述导出数据集操作相同的程序，并提示是否要保存这段程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50" name="图片 4" descr=""/>
          <p:cNvPicPr/>
          <p:nvPr/>
        </p:nvPicPr>
        <p:blipFill>
          <a:blip r:embed="rId1"/>
          <a:srcRect l="11575" t="7839" r="41193" b="52679"/>
          <a:stretch/>
        </p:blipFill>
        <p:spPr>
          <a:xfrm>
            <a:off x="857160" y="2357280"/>
            <a:ext cx="6286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928800" y="1428840"/>
            <a:ext cx="704376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将这段程序储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GM1.sas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放于桌面，点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nis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按钮，就会产生程序文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GM1.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打开如图所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TextBox 3"/>
          <p:cNvSpPr/>
          <p:nvPr/>
        </p:nvSpPr>
        <p:spPr>
          <a:xfrm>
            <a:off x="1000080" y="7858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生成的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s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程序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53" name="Picture 6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5905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数据集导入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*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例：将上步导出的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EXCEL</a:t>
            </a: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文件导入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WORK</a:t>
            </a: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逻辑库命名为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CLASS</a:t>
            </a:r>
            <a:endParaRPr b="1" i="1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928800" y="1714320"/>
            <a:ext cx="68292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步：文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导入数据，选择导入数据文件的类型，和导出程序一样，选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相关格式。然后点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56" name="图片 28" descr=""/>
          <p:cNvPicPr/>
          <p:nvPr/>
        </p:nvPicPr>
        <p:blipFill>
          <a:blip r:embed="rId1"/>
          <a:srcRect l="23327" t="10459" r="18824" b="39698"/>
          <a:stretch/>
        </p:blipFill>
        <p:spPr>
          <a:xfrm>
            <a:off x="1428840" y="2786040"/>
            <a:ext cx="5500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999720" y="1295280"/>
            <a:ext cx="635796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步：进入到选择导入数据文件的画面，选择刚刚导出的文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ass.xl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如图所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58" name="图片 13" descr=""/>
          <p:cNvPicPr/>
          <p:nvPr/>
        </p:nvPicPr>
        <p:blipFill>
          <a:blip r:embed="rId1"/>
          <a:srcRect l="27933" t="25359" r="22271" b="52976"/>
          <a:stretch/>
        </p:blipFill>
        <p:spPr>
          <a:xfrm>
            <a:off x="1143000" y="2357280"/>
            <a:ext cx="6108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矩形 2"/>
          <p:cNvSpPr/>
          <p:nvPr/>
        </p:nvSpPr>
        <p:spPr>
          <a:xfrm>
            <a:off x="1214280" y="1357200"/>
            <a:ext cx="721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第三步：进入到选择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tab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的画面，这里选择下拉列表中的“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heet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。如图所示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60" name="Picture 5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761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1"/>
          <p:cNvSpPr/>
          <p:nvPr/>
        </p:nvSpPr>
        <p:spPr>
          <a:xfrm>
            <a:off x="1071720" y="149616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第四步：选择要导入的数据文件所在的逻辑库及文件名称，这里选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work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临时库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las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文件名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62" name="图片 37" descr=""/>
          <p:cNvPicPr/>
          <p:nvPr/>
        </p:nvPicPr>
        <p:blipFill>
          <a:blip r:embed="rId1"/>
          <a:srcRect l="23106" t="10222" r="18750" b="39555"/>
          <a:stretch/>
        </p:blipFill>
        <p:spPr>
          <a:xfrm>
            <a:off x="1428840" y="2357280"/>
            <a:ext cx="52149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矩形 3"/>
          <p:cNvSpPr/>
          <p:nvPr/>
        </p:nvSpPr>
        <p:spPr>
          <a:xfrm>
            <a:off x="1071720" y="100008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第五步：进入到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mport Wizar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画面，给前面的导入过程产生一段程序，并提示是否储存这个程序，如不想存储则直接点击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Finish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按钮。这里将程序命名为“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PGM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，并放于桌面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64" name="图片 16" descr=""/>
          <p:cNvPicPr/>
          <p:nvPr/>
        </p:nvPicPr>
        <p:blipFill>
          <a:blip r:embed="rId1"/>
          <a:srcRect l="24877" t="10887" r="17717" b="40126"/>
          <a:stretch/>
        </p:blipFill>
        <p:spPr>
          <a:xfrm>
            <a:off x="1571760" y="2357280"/>
            <a:ext cx="55004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SAS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软件功能模块一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3" name="内容占位符 2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Base SAS ®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核心部件）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S/STAT®                                      SAS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经典的统计分析工具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S/GRAPH®                            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图形引擎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S/CONNECT®                       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分布式环境支持组件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S/SHARE®                                   SAS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高并发协同数据服务器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SAS/Access® to ODBC                   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</a:rPr>
              <a:t>外部数据连接和访问模块，提供同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ODBC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</a:rPr>
              <a:t>数据源连接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SAS/IML®                                        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</a:rPr>
              <a:t>交互式的矩阵语言开发环境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……                                 ……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矩形 2"/>
          <p:cNvSpPr/>
          <p:nvPr/>
        </p:nvSpPr>
        <p:spPr>
          <a:xfrm>
            <a:off x="1473120" y="15001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打开产生的程序文件，如下所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6" name="TextBox 3"/>
          <p:cNvSpPr/>
          <p:nvPr/>
        </p:nvSpPr>
        <p:spPr>
          <a:xfrm>
            <a:off x="785880" y="7142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生成的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s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程序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67" name="Picture 6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7770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Box 3"/>
          <p:cNvSpPr/>
          <p:nvPr/>
        </p:nvSpPr>
        <p:spPr>
          <a:xfrm>
            <a:off x="500040" y="785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AS</a:t>
            </a: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系统安装</a:t>
            </a: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32</a:t>
            </a: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位与</a:t>
            </a: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64</a:t>
            </a: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位的说明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9" name="TextBox 4"/>
          <p:cNvSpPr/>
          <p:nvPr/>
        </p:nvSpPr>
        <p:spPr>
          <a:xfrm>
            <a:off x="785880" y="1714680"/>
            <a:ext cx="742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由于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软件安装要求区分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32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位操作系统与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位操作系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位操作系统需要安装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位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软件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,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同时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与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xce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之间转换引擎也需要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位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，亦即如果要成功导入与导出文件，需要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位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offic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软件。因此，在安装前要先查看操作系统是多少位的，再进行安装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最新操作系统多是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位的，因此，建议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offic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软件也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位，以便能够顺利实现文件与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文件的转换。 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/>
          <p:cNvSpPr/>
          <p:nvPr/>
        </p:nvSpPr>
        <p:spPr>
          <a:xfrm>
            <a:off x="285840" y="1643040"/>
            <a:ext cx="8571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200" spc="-1" strike="noStrike">
                <a:solidFill>
                  <a:srgbClr val="080808"/>
                </a:solidFill>
                <a:latin typeface="Arial"/>
              </a:rPr>
              <a:t>习   题</a:t>
            </a:r>
            <a:endParaRPr b="0" lang="en-US" sz="4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1071720" y="571680"/>
            <a:ext cx="723888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缺省情况下，快捷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1, F3, F4, F5, F6, F7, F8, F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rl+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作用是什么？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缺省情况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的五个功能窗口及各自的作用是什么？怎样定义激活这些窗口的快捷键？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怎样增加和删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具？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志窗口的信息构成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显示管理系统下，切换窗口和完成各种特定的功能等，有四种发布命令的方式：即，在命令框直接键入命令；使用下拉菜单；使用工具栏；按功能键。试举例说明这些用法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菜单方式新建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库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下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的用途并举例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gli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菜单方式导入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导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集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WordArt 2"/>
          <p:cNvSpPr txBox="1"/>
          <p:nvPr/>
        </p:nvSpPr>
        <p:spPr>
          <a:xfrm>
            <a:off x="1084320" y="3500280"/>
            <a:ext cx="4495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SAS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软件功能模块二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TextBox 3"/>
          <p:cNvSpPr/>
          <p:nvPr/>
        </p:nvSpPr>
        <p:spPr>
          <a:xfrm>
            <a:off x="1285920" y="1428840"/>
            <a:ext cx="621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6" name="内容占位符 2"/>
          <p:cNvSpPr/>
          <p:nvPr/>
        </p:nvSpPr>
        <p:spPr>
          <a:xfrm>
            <a:off x="652320" y="1346040"/>
            <a:ext cx="783936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商业智能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数据仓库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S/Intr Net®                                      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基于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WEB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方式的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OLAP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分析工具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S® Data Quality Solution                       SAS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数据质量解决方案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JMP® Software                                    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交互式的数据分析软件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……                                                            ……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高级分析工具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Enterprise Miner™                                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企业级数据挖掘服务器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S® Text Miner                                  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文本挖掘工具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……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……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SAS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解决方案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S® Financial Management Solutions      SAS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金融管理方案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……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SAS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工作界面</a:t>
            </a:r>
            <a:r>
              <a:rPr b="1" lang="en-US" sz="2800" spc="-1" strike="noStrike">
                <a:solidFill>
                  <a:srgbClr val="003399"/>
                </a:solidFill>
                <a:latin typeface="Arial Narrow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3399"/>
                </a:solidFill>
                <a:latin typeface="Arial Narrow"/>
                <a:ea typeface="宋体"/>
              </a:rPr>
              <a:t>*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重要功能键：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F5, F6, F7, </a:t>
            </a:r>
            <a:r>
              <a:rPr b="1" lang="en-US" sz="2800" spc="-1" strike="noStrike">
                <a:solidFill>
                  <a:srgbClr val="003399"/>
                </a:solidFill>
                <a:latin typeface="Arial Narrow"/>
                <a:ea typeface="宋体"/>
              </a:rPr>
              <a:t>CTL+E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59" name="Picture 21" descr=""/>
          <p:cNvPicPr/>
          <p:nvPr/>
        </p:nvPicPr>
        <p:blipFill>
          <a:blip r:embed="rId1"/>
          <a:srcRect l="17359" t="6068" r="15369" b="34099"/>
          <a:stretch/>
        </p:blipFill>
        <p:spPr>
          <a:xfrm>
            <a:off x="1500120" y="1428840"/>
            <a:ext cx="5832720" cy="4640040"/>
          </a:xfrm>
          <a:prstGeom prst="rect">
            <a:avLst/>
          </a:prstGeom>
          <a:ln w="0">
            <a:noFill/>
          </a:ln>
        </p:spPr>
      </p:pic>
      <p:grpSp>
        <p:nvGrpSpPr>
          <p:cNvPr id="660" name="Group 22"/>
          <p:cNvGrpSpPr/>
          <p:nvPr/>
        </p:nvGrpSpPr>
        <p:grpSpPr>
          <a:xfrm>
            <a:off x="1071720" y="1856880"/>
            <a:ext cx="7358040" cy="3958200"/>
            <a:chOff x="1071720" y="1856880"/>
            <a:chExt cx="7358040" cy="3958200"/>
          </a:xfrm>
        </p:grpSpPr>
        <p:sp>
          <p:nvSpPr>
            <p:cNvPr id="661" name="Line 23"/>
            <p:cNvSpPr/>
            <p:nvPr/>
          </p:nvSpPr>
          <p:spPr>
            <a:xfrm flipH="1">
              <a:off x="2264400" y="3662280"/>
              <a:ext cx="5200920" cy="63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2" name="Text Box 24"/>
            <p:cNvSpPr/>
            <p:nvPr/>
          </p:nvSpPr>
          <p:spPr>
            <a:xfrm>
              <a:off x="1071720" y="2091960"/>
              <a:ext cx="4129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80808"/>
                  </a:solidFill>
                  <a:latin typeface="Times New Roman"/>
                </a:rPr>
                <a:t>命令行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7465680" y="1857240"/>
              <a:ext cx="96408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80808"/>
                  </a:solidFill>
                  <a:latin typeface="Times New Roman"/>
                </a:rPr>
                <a:t>菜单栏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4" name="Text Box 26"/>
            <p:cNvSpPr/>
            <p:nvPr/>
          </p:nvSpPr>
          <p:spPr>
            <a:xfrm>
              <a:off x="7465680" y="2193840"/>
              <a:ext cx="96408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80808"/>
                  </a:solidFill>
                  <a:latin typeface="Times New Roman"/>
                </a:rPr>
                <a:t>工具栏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5" name="Text Box 27"/>
            <p:cNvSpPr/>
            <p:nvPr/>
          </p:nvSpPr>
          <p:spPr>
            <a:xfrm>
              <a:off x="7434720" y="5476320"/>
              <a:ext cx="96408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80808"/>
                  </a:solidFill>
                  <a:latin typeface="Times New Roman"/>
                </a:rPr>
                <a:t>窗口条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6" name="Text Box 28"/>
            <p:cNvSpPr/>
            <p:nvPr/>
          </p:nvSpPr>
          <p:spPr>
            <a:xfrm>
              <a:off x="7465680" y="3436200"/>
              <a:ext cx="9640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80808"/>
                  </a:solidFill>
                  <a:latin typeface="Times New Roman"/>
                </a:rPr>
                <a:t>功能窗口</a:t>
              </a: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7" name="Line 29"/>
            <p:cNvSpPr/>
            <p:nvPr/>
          </p:nvSpPr>
          <p:spPr>
            <a:xfrm flipH="1" flipV="1">
              <a:off x="6639120" y="3322800"/>
              <a:ext cx="826200" cy="338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8" name="Line 30"/>
            <p:cNvSpPr/>
            <p:nvPr/>
          </p:nvSpPr>
          <p:spPr>
            <a:xfrm flipH="1">
              <a:off x="6373800" y="3662280"/>
              <a:ext cx="1091160" cy="996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9" name="Line 31"/>
            <p:cNvSpPr/>
            <p:nvPr/>
          </p:nvSpPr>
          <p:spPr>
            <a:xfrm flipV="1">
              <a:off x="1336680" y="1973880"/>
              <a:ext cx="898200" cy="234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0" name="Line 32"/>
            <p:cNvSpPr/>
            <p:nvPr/>
          </p:nvSpPr>
          <p:spPr>
            <a:xfrm flipH="1" flipV="1">
              <a:off x="4989600" y="1856880"/>
              <a:ext cx="2613600" cy="11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1" name="Line 33"/>
            <p:cNvSpPr/>
            <p:nvPr/>
          </p:nvSpPr>
          <p:spPr>
            <a:xfrm flipH="1" flipV="1">
              <a:off x="5400000" y="1967400"/>
              <a:ext cx="2065680" cy="338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2" name="Line 34"/>
            <p:cNvSpPr/>
            <p:nvPr/>
          </p:nvSpPr>
          <p:spPr>
            <a:xfrm flipH="1">
              <a:off x="6639120" y="5709600"/>
              <a:ext cx="826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主要功能窗口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785880" y="1285560"/>
            <a:ext cx="740088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0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1" action="ppaction://hlinksldjump"/>
              </a:rPr>
              <a:t>“命令行”窗口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2" action="ppaction://hlinksldjump"/>
              </a:rPr>
              <a:t>“</a:t>
            </a:r>
            <a:r>
              <a:rPr b="0" lang="en-US" sz="32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3" action="ppaction://hlinksldjump"/>
              </a:rPr>
              <a:t>SAS </a:t>
            </a:r>
            <a:r>
              <a:rPr b="0" lang="zh-CN" sz="32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4" action="ppaction://hlinksldjump"/>
              </a:rPr>
              <a:t>资源管理器”窗口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5" action="ppaction://hlinksldjump"/>
              </a:rPr>
              <a:t>“结果”窗口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6" action="ppaction://hlinksldjump"/>
              </a:rPr>
              <a:t>“增强型编辑器”窗口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7" action="ppaction://hlinksldjump"/>
              </a:rPr>
              <a:t>“日志”窗口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8" action="ppaction://hlinksldjump"/>
              </a:rPr>
              <a:t>“输出”窗口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主要功能窗口相关操作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928800" y="1500120"/>
          <a:ext cx="6572160" cy="4324320"/>
        </p:xfrm>
        <a:graphic>
          <a:graphicData uri="http://schemas.openxmlformats.org/drawingml/2006/table">
            <a:tbl>
              <a:tblPr/>
              <a:tblGrid>
                <a:gridCol w="1995480"/>
                <a:gridCol w="1768320"/>
                <a:gridCol w="1152720"/>
                <a:gridCol w="1655640"/>
              </a:tblGrid>
              <a:tr h="654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菜单路径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快捷键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命令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只显示内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视图显示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资源管理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视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&gt;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只显示内容（没有树视图）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默认停放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ENV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视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&gt;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果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默认停放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SRESULT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编辑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视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&gt;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强型编辑器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DI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志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视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&gt;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志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视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&gt;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出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资源管理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视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&gt; SAS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资源管理器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RL+W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ORER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常用功能键示例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4296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5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激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器窗口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6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激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志窗口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7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激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窗口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3       </a:t>
            </a:r>
            <a:r>
              <a:rPr b="0" lang="zh-CN" sz="24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1" action="ppaction://hlinksldjump"/>
              </a:rPr>
              <a:t>提交</a:t>
            </a:r>
            <a:r>
              <a:rPr b="0" lang="zh-CN" sz="24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2" action="ppaction://hlinksldjump"/>
              </a:rPr>
              <a:t>程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RL+E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内容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RL+N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器窗口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RL+W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打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资源管理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RL+F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关闭当前窗口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复制下面程序于编辑器窗口，演示上述功能键的操作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print data=sashelp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zhushw</cp:lastModifiedBy>
  <dcterms:modified xsi:type="dcterms:W3CDTF">2013-04-18T02:19:44Z</dcterms:modified>
  <cp:revision>106</cp:revision>
  <dc:subject/>
  <dc:title>第1章 SAS软件入门</dc:title>
</cp:coreProperties>
</file>