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  <p:sldId id="307" r:id="rId69"/>
    <p:sldId id="308" r:id="rId70"/>
    <p:sldId id="309" r:id="rId71"/>
    <p:sldId id="310" r:id="rId72"/>
    <p:sldId id="311" r:id="rId73"/>
    <p:sldId id="312" r:id="rId74"/>
    <p:sldId id="313" r:id="rId75"/>
    <p:sldId id="314" r:id="rId76"/>
    <p:sldId id="315" r:id="rId77"/>
    <p:sldId id="316" r:id="rId78"/>
    <p:sldId id="317" r:id="rId79"/>
    <p:sldId id="318" r:id="rId80"/>
    <p:sldId id="319" r:id="rId81"/>
    <p:sldId id="320" r:id="rId82"/>
    <p:sldId id="321" r:id="rId83"/>
    <p:sldId id="322" r:id="rId84"/>
    <p:sldId id="323" r:id="rId85"/>
    <p:sldId id="324" r:id="rId86"/>
    <p:sldId id="325" r:id="rId87"/>
    <p:sldId id="326" r:id="rId88"/>
    <p:sldId id="327" r:id="rId89"/>
    <p:sldId id="328" r:id="rId90"/>
    <p:sldId id="329" r:id="rId91"/>
    <p:sldId id="330" r:id="rId92"/>
    <p:sldId id="331" r:id="rId93"/>
    <p:sldId id="332" r:id="rId94"/>
    <p:sldId id="333" r:id="rId95"/>
    <p:sldId id="334" r:id="rId96"/>
    <p:sldId id="335" r:id="rId97"/>
    <p:sldId id="336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slide" Target="slides/slide52.xml"/><Relationship Id="rId70" Type="http://schemas.openxmlformats.org/officeDocument/2006/relationships/slide" Target="slides/slide53.xml"/><Relationship Id="rId71" Type="http://schemas.openxmlformats.org/officeDocument/2006/relationships/slide" Target="slides/slide54.xml"/><Relationship Id="rId72" Type="http://schemas.openxmlformats.org/officeDocument/2006/relationships/slide" Target="slides/slide55.xml"/><Relationship Id="rId73" Type="http://schemas.openxmlformats.org/officeDocument/2006/relationships/slide" Target="slides/slide56.xml"/><Relationship Id="rId74" Type="http://schemas.openxmlformats.org/officeDocument/2006/relationships/slide" Target="slides/slide57.xml"/><Relationship Id="rId75" Type="http://schemas.openxmlformats.org/officeDocument/2006/relationships/slide" Target="slides/slide58.xml"/><Relationship Id="rId76" Type="http://schemas.openxmlformats.org/officeDocument/2006/relationships/slide" Target="slides/slide59.xml"/><Relationship Id="rId77" Type="http://schemas.openxmlformats.org/officeDocument/2006/relationships/slide" Target="slides/slide60.xml"/><Relationship Id="rId78" Type="http://schemas.openxmlformats.org/officeDocument/2006/relationships/slide" Target="slides/slide61.xml"/><Relationship Id="rId79" Type="http://schemas.openxmlformats.org/officeDocument/2006/relationships/slide" Target="slides/slide62.xml"/><Relationship Id="rId80" Type="http://schemas.openxmlformats.org/officeDocument/2006/relationships/slide" Target="slides/slide63.xml"/><Relationship Id="rId81" Type="http://schemas.openxmlformats.org/officeDocument/2006/relationships/slide" Target="slides/slide64.xml"/><Relationship Id="rId82" Type="http://schemas.openxmlformats.org/officeDocument/2006/relationships/slide" Target="slides/slide65.xml"/><Relationship Id="rId83" Type="http://schemas.openxmlformats.org/officeDocument/2006/relationships/slide" Target="slides/slide66.xml"/><Relationship Id="rId84" Type="http://schemas.openxmlformats.org/officeDocument/2006/relationships/slide" Target="slides/slide67.xml"/><Relationship Id="rId85" Type="http://schemas.openxmlformats.org/officeDocument/2006/relationships/slide" Target="slides/slide68.xml"/><Relationship Id="rId86" Type="http://schemas.openxmlformats.org/officeDocument/2006/relationships/slide" Target="slides/slide69.xml"/><Relationship Id="rId87" Type="http://schemas.openxmlformats.org/officeDocument/2006/relationships/slide" Target="slides/slide70.xml"/><Relationship Id="rId88" Type="http://schemas.openxmlformats.org/officeDocument/2006/relationships/slide" Target="slides/slide71.xml"/><Relationship Id="rId89" Type="http://schemas.openxmlformats.org/officeDocument/2006/relationships/slide" Target="slides/slide72.xml"/><Relationship Id="rId90" Type="http://schemas.openxmlformats.org/officeDocument/2006/relationships/slide" Target="slides/slide73.xml"/><Relationship Id="rId91" Type="http://schemas.openxmlformats.org/officeDocument/2006/relationships/slide" Target="slides/slide74.xml"/><Relationship Id="rId92" Type="http://schemas.openxmlformats.org/officeDocument/2006/relationships/slide" Target="slides/slide75.xml"/><Relationship Id="rId93" Type="http://schemas.openxmlformats.org/officeDocument/2006/relationships/slide" Target="slides/slide76.xml"/><Relationship Id="rId94" Type="http://schemas.openxmlformats.org/officeDocument/2006/relationships/slide" Target="slides/slide77.xml"/><Relationship Id="rId95" Type="http://schemas.openxmlformats.org/officeDocument/2006/relationships/slide" Target="slides/slide78.xml"/><Relationship Id="rId96" Type="http://schemas.openxmlformats.org/officeDocument/2006/relationships/slide" Target="slides/slide79.xml"/><Relationship Id="rId97" Type="http://schemas.openxmlformats.org/officeDocument/2006/relationships/slide" Target="slides/slide80.xml"/><Relationship Id="rId98" Type="http://schemas.openxmlformats.org/officeDocument/2006/relationships/slide" Target="slides/slide81.xml"/><Relationship Id="rId9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move the slide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D587-B22C-4774-B52C-5C705B84C4D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B431-1DFF-46D7-A88F-EFFD95D50973}" type="slidenum">
              <a:rPr b="0" lang="zh-CN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448F-107A-489B-AAAD-F5E70BF0D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DA16-8120-4835-ADCB-376EAFF0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0E5E7-A649-4BB4-BC37-D26A6BCA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3308E-2545-4FE1-A118-639B70B1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715A6-212C-4051-B16C-CFFEBB1A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264399-BF62-4530-8798-524E5FD6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8D3E2-E4AA-4044-BD7E-C739D190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92B0E-D9FF-453F-B92A-7A440CAA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1D9A9-66D2-47C6-B42B-D89A5274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6F88E-38C3-4F40-BD0F-355FAD1C7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9E6CE-4A90-429D-ADFF-E4D16E4A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EC83D-BA26-4126-BE28-0E9BD244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16A9-D594-4962-B96B-7744ED12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5BDF3-2544-4791-A6AC-C7EB7F22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BD4B4-3DA9-419A-A120-BB6FA330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776D5-8D44-405D-A816-AA901B45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3C7EF1-AC75-4773-9125-E9EE89AB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5098B-B9BB-45E6-932F-84A14454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BDA40-719B-4709-BF9D-14648AD6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0FDF0-1A70-4391-8BB5-E9BF67E6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88A4B4-252E-491E-8805-B2C8DED3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2F54A-DE0A-4B4A-B90B-45C90742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8EF4D-5526-488A-BD79-079024795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1553-0E7D-4DF6-9488-ABB49C16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20783-C0C4-4FEB-83A2-D9762A0A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F28AB-B1A8-4B19-8618-C898F013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F345E-82C8-4087-B03B-43B7B425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069C6-0A0F-4EEF-8D45-D0EA6F22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D1A79-7484-4529-9A39-AB7D1BB2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AF36B-67D9-41C0-8C4E-1558C263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833DA-9D44-4B3C-81DC-69AD862E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0D38F-F9D0-43C6-8446-CB445167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2EF32-BBE4-498E-AD96-38136DCE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12068-BDBB-4B9C-B223-D52F8062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6C29-9848-4101-9704-5813DFEBB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73637-2013-4873-8EDD-16ABCAD1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52442-F700-4F19-B480-22637664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6A2DA-58DC-420E-AD47-CABE920B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9E1DF0-FC1F-4788-A33E-746D9C28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34239-9B12-4DE5-BEA0-767E75A3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F9CB4-E730-4405-8B56-E1A84D8B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5E6E91-A079-4FB4-BACD-667A6EB2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805AA3-B056-4906-B447-2E3EF64F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91230-4118-45EE-B68B-BD92DA52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101A9-8F9C-400A-A075-F97B060C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0352-FB9D-4264-BE05-FF7B3DBA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A5CC91-D61F-4009-921E-443D7069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7327B-CF5D-4314-9408-E476717D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10EADE-D616-4735-83D2-025EEF24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A4F21-F8FF-4D84-A91B-852956823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7D2B75-7A7F-4170-9CA3-DFB0E46D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71767B-B057-49E0-A086-02C69903C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857421-0B51-49FD-B00A-96C454D2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24991B-A97B-405C-8EB9-EE088929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235D06-BFE1-4C29-ADB6-A95C12E6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835812-ABF3-491B-8288-A0DC4477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D8CC-B3F8-45E8-B459-51EE6E83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EFC1D0-0221-4C61-AA70-287F11FF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46B337-B4D2-4645-BD3D-01AA32BD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BED14A-97CD-46CA-8177-5C5FA69C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2A4C1C-40B0-4BEF-94AE-E5391603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17D8E5-BF72-4875-955B-9DCDA82B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5D1BF9-F5A6-4736-88F7-42379408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8846D1-1582-40EC-9F90-955B669A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DC92AD-E8A2-4368-AF69-C39AD7BD9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D84A01-7A37-4D7F-9915-19C74C04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45C46C-8F6D-45EB-8948-827D30FA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388A-CB49-474D-82B2-FE6E7074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F45F33-87A9-4291-B20B-C11FF661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B191E2-84EE-4DB1-9B16-B8B66DBC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4671B5-D4C9-45E6-BBD2-17D00E83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265AD3-C30C-4198-AEDC-12AF8F75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623643-0281-4B12-8D15-54FF43DF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CD29CB-81E5-4270-A2E0-D6D903BC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0876A4-A7BC-4E95-9C1B-80103E76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F213A1-E7F9-42A0-BD14-D06F097F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BB1E90-5534-4D4D-BA02-4003538B3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56D8-8AFF-4136-9EA4-F045DECC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9497-EF42-4384-BC4F-C1EE4CCF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1B19-DB80-4802-9A98-E015770A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EF91-DA64-4C42-84C8-4721572B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D393-C04B-46EA-9AE0-894BA048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760B-42C5-4440-9C43-139CA0DD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77B5-7295-44B8-BE80-8304FFCF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E67D-0CEC-47AA-8E86-A1FE2454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4F4D-D8AA-4942-8940-A4E890200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B7715-E6CC-41C9-975B-D091299EA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87127-AB2C-4B06-BDDF-ED2A1E9E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CF956-072F-47A6-8147-26E0137F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385C0-0A76-403C-960D-1DC983D5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D4CD1-3339-4C22-BE05-A7BD68F4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39F6-0B05-4771-8496-87998A8E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629D4-CB81-4C6D-8268-E24ADA19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4FC99-1F99-45FC-AF62-52AD8CF4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B15FA-D806-4C3C-BECA-6A536E18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997C5-E22E-43B6-8767-734125E6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AA176-DDE4-4571-B4B8-1E41D1B1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852D9-C2BB-4675-81F2-3EB4A5190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C41C9-478C-46DC-B253-C88D5485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46886-6EB4-4FEB-8690-08A788E9E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FFEA7-CA67-4161-B8BC-8C02A8AF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8C63D-522C-4D52-8165-319FC8A6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FE56-CE1E-45EA-965F-EBD7B26B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C7492-AA23-4494-8A97-DB7D0661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E93E8-B501-4D2D-BD57-636D7821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882A2-46B5-445F-8A48-3B18DE42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791ED-F03C-4E7B-873E-CFA92E37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8C31F-5C51-4738-B4B1-E372D354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F8F4F-ADC2-4F23-9A36-6F1D3478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2ECB4-0604-47E7-AD9D-A530E0DD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1274B-979D-4C37-87CD-C748D2D20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22A3F-544F-4C23-B086-826D5812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79A27-8DD1-47D6-9125-FA7FFCE6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3604-91F1-42F7-960D-14198A63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68510-A1CD-476D-B94E-3E31147D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1BCDC-FD3F-4A42-850E-180C253E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73F4E-ED2A-4D4D-BC3D-205D1575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36E55-71FF-4551-8D48-133A1576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BE9CD-E6F8-4C4E-9B59-A148F6A1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944B1-A185-45AE-B8F4-F35AEB15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F1747-3B8C-4693-8267-40320562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84C2E-1708-47D7-BC36-F98FC976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EC954-3642-4DAD-8CF5-9356A9C5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C650F-2D5C-4DC8-BA10-6F38E8A6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18B6-7564-4E90-B220-93B1F8E2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24EE9-63B0-4FA2-AF0C-CEA42F09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92808-B23D-44CE-B201-AFFFB7264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8034D-00A6-40BB-B447-A707C5F8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02FE4-0A9F-4FFF-9177-1D6C6CF8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59EC8-99E0-4FD4-8012-101E91D8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7B4EC-C3DC-4E99-BA5B-74F5927D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F86E6-011B-4014-94D2-FC6859BE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F7330-2A05-4926-BCD1-F209D868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F0D48-1452-4EF2-91E3-CBBED583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99325-E9F8-40BB-AB4A-997A55B2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8475-31E5-4973-9E07-01C3A70B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9D8AB-8E85-418E-853A-B9C1E57D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3F8FA-D7ED-40D0-8B76-5D3C4904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14647-27A6-48FC-A2B3-A9A76078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ADE24-C4AD-4FD9-A0D7-27B039FAE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64EAC-3954-4845-BBB3-D22279FE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07C0D-F6A5-437F-892D-DAF5380D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B0370-08BA-4BD3-A03E-97680153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FFC79-003B-48D9-8791-43D442FD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E1D74-4494-45B8-8633-22560A71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3D706-B0DA-422B-B74B-3FDA237E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C35A-B5AA-4E55-A4FF-EDB0BBF8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E72C9-B8E8-49CF-A689-1705E1F9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B9DB3-2B61-4100-992D-E8207D99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9B8D0-4DE4-4272-BFFE-FF7E72B6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DB878-B821-405B-BD84-A3B89649F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883D6-58A0-403D-AC0E-8435351C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81359-46DF-4925-AAB5-E04589AE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A7464-1BE8-496E-9427-B34C9F28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0287E-7F69-48A0-B9D2-529C307E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F947F-2421-461A-B11E-3FE38D86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CF602-7390-4768-9246-81CFCE54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0844-80D2-4473-9837-9148A0E1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38B28-F1B6-470C-AE22-6A6DCCF9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91793-A0F6-47B6-8FD3-783D2B68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0DAA2-656C-449D-8F0E-DE484E76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EA0C4-9410-4D68-88EE-A6B98E25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0663A-AD30-46D3-A498-1E3932B7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C63AB-2C07-464E-87BF-D3EFEA476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B9378-991B-4B9E-B9EE-CEE1EA74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8071A-1226-4A79-A486-4C4E3831A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A9345-D2D1-470C-BAEF-CE87338F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16DBE-1B76-4845-A8A4-F9237C6B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pic>
        <p:nvPicPr>
          <p:cNvPr id="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0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8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29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1C56-296A-44D7-B6BB-F65D42DA3F4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5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3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3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5F33-E362-4C62-AD1C-427AAD64D3D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9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4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5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8D96-A880-4915-864F-EBAB6A302B1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4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3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3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3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063E-FA31-464A-955E-4A768686083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8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40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41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42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92E2-5BAD-4349-8E3F-2B52D37DD23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2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729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45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46" name="Freeform 16"/>
            <p:cNvSpPr/>
            <p:nvPr/>
          </p:nvSpPr>
          <p:spPr>
            <a:xfrm>
              <a:off x="277560" y="530280"/>
              <a:ext cx="2011680" cy="3076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7" name="Freeform 17"/>
            <p:cNvSpPr/>
            <p:nvPr/>
          </p:nvSpPr>
          <p:spPr>
            <a:xfrm>
              <a:off x="214200" y="824040"/>
              <a:ext cx="54000" cy="44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8" name="Freeform 18"/>
            <p:cNvSpPr/>
            <p:nvPr/>
          </p:nvSpPr>
          <p:spPr>
            <a:xfrm>
              <a:off x="701640" y="1019160"/>
              <a:ext cx="6192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9" name="Freeform 19"/>
            <p:cNvSpPr/>
            <p:nvPr/>
          </p:nvSpPr>
          <p:spPr>
            <a:xfrm>
              <a:off x="1942920" y="1108080"/>
              <a:ext cx="155520" cy="117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0" name="Freeform 20"/>
            <p:cNvSpPr/>
            <p:nvPr/>
          </p:nvSpPr>
          <p:spPr>
            <a:xfrm>
              <a:off x="1190520" y="1717560"/>
              <a:ext cx="250920" cy="133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1" name="Freeform 21"/>
            <p:cNvSpPr/>
            <p:nvPr/>
          </p:nvSpPr>
          <p:spPr>
            <a:xfrm>
              <a:off x="1396800" y="1819440"/>
              <a:ext cx="157320" cy="6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1563480" y="186048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3" name="Freeform 23"/>
            <p:cNvSpPr/>
            <p:nvPr/>
          </p:nvSpPr>
          <p:spPr>
            <a:xfrm>
              <a:off x="1652400" y="1865160"/>
              <a:ext cx="19080" cy="39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4" name="Freeform 24"/>
            <p:cNvSpPr/>
            <p:nvPr/>
          </p:nvSpPr>
          <p:spPr>
            <a:xfrm>
              <a:off x="1361880" y="522360"/>
              <a:ext cx="285840" cy="139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5" name="Freeform 25"/>
            <p:cNvSpPr/>
            <p:nvPr/>
          </p:nvSpPr>
          <p:spPr>
            <a:xfrm>
              <a:off x="1488960" y="457200"/>
              <a:ext cx="231840" cy="95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6" name="Freeform 26"/>
            <p:cNvSpPr/>
            <p:nvPr/>
          </p:nvSpPr>
          <p:spPr>
            <a:xfrm>
              <a:off x="1814400" y="568440"/>
              <a:ext cx="370080" cy="30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7" name="Freeform 27"/>
            <p:cNvSpPr/>
            <p:nvPr/>
          </p:nvSpPr>
          <p:spPr>
            <a:xfrm>
              <a:off x="1811160" y="438120"/>
              <a:ext cx="698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8" name="Freeform 28"/>
            <p:cNvSpPr/>
            <p:nvPr/>
          </p:nvSpPr>
          <p:spPr>
            <a:xfrm>
              <a:off x="1677960" y="549360"/>
              <a:ext cx="102960" cy="66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9" name="Freeform 29"/>
            <p:cNvSpPr/>
            <p:nvPr/>
          </p:nvSpPr>
          <p:spPr>
            <a:xfrm>
              <a:off x="1785960" y="561960"/>
              <a:ext cx="8568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0" name="Freeform 30"/>
            <p:cNvSpPr/>
            <p:nvPr/>
          </p:nvSpPr>
          <p:spPr>
            <a:xfrm>
              <a:off x="1739880" y="504720"/>
              <a:ext cx="101520" cy="54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1" name="Freeform 31"/>
            <p:cNvSpPr/>
            <p:nvPr/>
          </p:nvSpPr>
          <p:spPr>
            <a:xfrm>
              <a:off x="1697040" y="453960"/>
              <a:ext cx="6984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2" name="Freeform 32"/>
            <p:cNvSpPr/>
            <p:nvPr/>
          </p:nvSpPr>
          <p:spPr>
            <a:xfrm>
              <a:off x="1877760" y="458640"/>
              <a:ext cx="181080" cy="122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3" name="Freeform 33"/>
            <p:cNvSpPr/>
            <p:nvPr/>
          </p:nvSpPr>
          <p:spPr>
            <a:xfrm>
              <a:off x="152280" y="847800"/>
              <a:ext cx="396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4" name="Freeform 34"/>
            <p:cNvSpPr/>
            <p:nvPr/>
          </p:nvSpPr>
          <p:spPr>
            <a:xfrm>
              <a:off x="1353960" y="16588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5" name="Freeform 35"/>
            <p:cNvSpPr/>
            <p:nvPr/>
          </p:nvSpPr>
          <p:spPr>
            <a:xfrm>
              <a:off x="1358640" y="16984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6" name="Freeform 36"/>
            <p:cNvSpPr/>
            <p:nvPr/>
          </p:nvSpPr>
          <p:spPr>
            <a:xfrm>
              <a:off x="1682640" y="1908360"/>
              <a:ext cx="23760" cy="18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7" name="Freeform 37"/>
            <p:cNvSpPr/>
            <p:nvPr/>
          </p:nvSpPr>
          <p:spPr>
            <a:xfrm>
              <a:off x="1879560" y="113976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8" name="Freeform 38"/>
            <p:cNvSpPr/>
            <p:nvPr/>
          </p:nvSpPr>
          <p:spPr>
            <a:xfrm>
              <a:off x="1720800" y="81432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9" name="Freeform 39"/>
            <p:cNvSpPr/>
            <p:nvPr/>
          </p:nvSpPr>
          <p:spPr>
            <a:xfrm>
              <a:off x="1823760" y="530280"/>
              <a:ext cx="619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0" name="Freeform 40"/>
            <p:cNvSpPr/>
            <p:nvPr/>
          </p:nvSpPr>
          <p:spPr>
            <a:xfrm>
              <a:off x="1923840" y="70164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1" name="Freeform 41"/>
            <p:cNvSpPr/>
            <p:nvPr/>
          </p:nvSpPr>
          <p:spPr>
            <a:xfrm>
              <a:off x="1949400" y="380880"/>
              <a:ext cx="1104840" cy="549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2" name="Freeform 42"/>
            <p:cNvSpPr/>
            <p:nvPr/>
          </p:nvSpPr>
          <p:spPr>
            <a:xfrm>
              <a:off x="2287440" y="67320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" name="Freeform 43"/>
            <p:cNvSpPr/>
            <p:nvPr/>
          </p:nvSpPr>
          <p:spPr>
            <a:xfrm>
              <a:off x="2736720" y="777960"/>
              <a:ext cx="20340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" name="Freeform 44"/>
            <p:cNvSpPr/>
            <p:nvPr/>
          </p:nvSpPr>
          <p:spPr>
            <a:xfrm>
              <a:off x="2896920" y="51912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" name="Freeform 45"/>
            <p:cNvSpPr/>
            <p:nvPr/>
          </p:nvSpPr>
          <p:spPr>
            <a:xfrm>
              <a:off x="3324240" y="468360"/>
              <a:ext cx="245880" cy="100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" name="Freeform 46"/>
            <p:cNvSpPr/>
            <p:nvPr/>
          </p:nvSpPr>
          <p:spPr>
            <a:xfrm>
              <a:off x="3477960" y="520560"/>
              <a:ext cx="76320" cy="33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" name="Freeform 47"/>
            <p:cNvSpPr/>
            <p:nvPr/>
          </p:nvSpPr>
          <p:spPr>
            <a:xfrm>
              <a:off x="3014640" y="952560"/>
              <a:ext cx="172800" cy="209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" name="Freeform 48"/>
            <p:cNvSpPr/>
            <p:nvPr/>
          </p:nvSpPr>
          <p:spPr>
            <a:xfrm>
              <a:off x="2928960" y="1028880"/>
              <a:ext cx="109440" cy="107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" name="Freeform 49"/>
            <p:cNvSpPr/>
            <p:nvPr/>
          </p:nvSpPr>
          <p:spPr>
            <a:xfrm>
              <a:off x="5605200" y="2843280"/>
              <a:ext cx="752760" cy="785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" name="Freeform 50"/>
            <p:cNvSpPr/>
            <p:nvPr/>
          </p:nvSpPr>
          <p:spPr>
            <a:xfrm>
              <a:off x="5838840" y="2428920"/>
              <a:ext cx="506160" cy="333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" name="Freeform 51"/>
            <p:cNvSpPr/>
            <p:nvPr/>
          </p:nvSpPr>
          <p:spPr>
            <a:xfrm>
              <a:off x="5852880" y="2432160"/>
              <a:ext cx="493920" cy="33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" name="Freeform 52"/>
            <p:cNvSpPr/>
            <p:nvPr/>
          </p:nvSpPr>
          <p:spPr>
            <a:xfrm>
              <a:off x="6218280" y="3654360"/>
              <a:ext cx="71280" cy="92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3" name="Freeform 53"/>
            <p:cNvSpPr/>
            <p:nvPr/>
          </p:nvSpPr>
          <p:spPr>
            <a:xfrm>
              <a:off x="6433920" y="3511440"/>
              <a:ext cx="260640" cy="135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4" name="Freeform 54"/>
            <p:cNvSpPr/>
            <p:nvPr/>
          </p:nvSpPr>
          <p:spPr>
            <a:xfrm>
              <a:off x="6703920" y="3432240"/>
              <a:ext cx="165240" cy="146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5" name="Freeform 55"/>
            <p:cNvSpPr/>
            <p:nvPr/>
          </p:nvSpPr>
          <p:spPr>
            <a:xfrm>
              <a:off x="6791400" y="3367080"/>
              <a:ext cx="586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6" name="Freeform 56"/>
            <p:cNvSpPr/>
            <p:nvPr/>
          </p:nvSpPr>
          <p:spPr>
            <a:xfrm>
              <a:off x="4056120" y="2595600"/>
              <a:ext cx="195120" cy="31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7" name="Freeform 57"/>
            <p:cNvSpPr/>
            <p:nvPr/>
          </p:nvSpPr>
          <p:spPr>
            <a:xfrm>
              <a:off x="4900680" y="2100240"/>
              <a:ext cx="77760" cy="96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8" name="Freeform 58"/>
            <p:cNvSpPr/>
            <p:nvPr/>
          </p:nvSpPr>
          <p:spPr>
            <a:xfrm>
              <a:off x="5429160" y="2205000"/>
              <a:ext cx="176040" cy="290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9" name="Freeform 59"/>
            <p:cNvSpPr/>
            <p:nvPr/>
          </p:nvSpPr>
          <p:spPr>
            <a:xfrm>
              <a:off x="5279760" y="2114640"/>
              <a:ext cx="114480" cy="217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0" name="Freeform 60"/>
            <p:cNvSpPr/>
            <p:nvPr/>
          </p:nvSpPr>
          <p:spPr>
            <a:xfrm>
              <a:off x="5357880" y="2289240"/>
              <a:ext cx="63360" cy="208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1" name="Freeform 61"/>
            <p:cNvSpPr/>
            <p:nvPr/>
          </p:nvSpPr>
          <p:spPr>
            <a:xfrm>
              <a:off x="5429160" y="2506680"/>
              <a:ext cx="10332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2" name="Freeform 62"/>
            <p:cNvSpPr/>
            <p:nvPr/>
          </p:nvSpPr>
          <p:spPr>
            <a:xfrm>
              <a:off x="5594400" y="2355840"/>
              <a:ext cx="131760" cy="185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3" name="Freeform 63"/>
            <p:cNvSpPr/>
            <p:nvPr/>
          </p:nvSpPr>
          <p:spPr>
            <a:xfrm>
              <a:off x="5549760" y="1692360"/>
              <a:ext cx="34920" cy="112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4" name="Freeform 64"/>
            <p:cNvSpPr/>
            <p:nvPr/>
          </p:nvSpPr>
          <p:spPr>
            <a:xfrm>
              <a:off x="5572080" y="1881360"/>
              <a:ext cx="96840" cy="187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5" name="Freeform 65"/>
            <p:cNvSpPr/>
            <p:nvPr/>
          </p:nvSpPr>
          <p:spPr>
            <a:xfrm>
              <a:off x="5640120" y="2128680"/>
              <a:ext cx="101880" cy="125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6" name="Freeform 66"/>
            <p:cNvSpPr/>
            <p:nvPr/>
          </p:nvSpPr>
          <p:spPr>
            <a:xfrm>
              <a:off x="5761080" y="2352600"/>
              <a:ext cx="45720" cy="77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7" name="Freeform 67"/>
            <p:cNvSpPr/>
            <p:nvPr/>
          </p:nvSpPr>
          <p:spPr>
            <a:xfrm>
              <a:off x="5735520" y="2482920"/>
              <a:ext cx="2844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8" name="Freeform 68"/>
            <p:cNvSpPr/>
            <p:nvPr/>
          </p:nvSpPr>
          <p:spPr>
            <a:xfrm>
              <a:off x="5778360" y="2467080"/>
              <a:ext cx="716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9" name="Freeform 69"/>
            <p:cNvSpPr/>
            <p:nvPr/>
          </p:nvSpPr>
          <p:spPr>
            <a:xfrm>
              <a:off x="5887800" y="2577960"/>
              <a:ext cx="3816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0" name="Freeform 70"/>
            <p:cNvSpPr/>
            <p:nvPr/>
          </p:nvSpPr>
          <p:spPr>
            <a:xfrm>
              <a:off x="6311880" y="2511360"/>
              <a:ext cx="73080" cy="74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1" name="Freeform 71"/>
            <p:cNvSpPr/>
            <p:nvPr/>
          </p:nvSpPr>
          <p:spPr>
            <a:xfrm>
              <a:off x="5681520" y="2604960"/>
              <a:ext cx="73080" cy="79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2" name="Freeform 72"/>
            <p:cNvSpPr/>
            <p:nvPr/>
          </p:nvSpPr>
          <p:spPr>
            <a:xfrm>
              <a:off x="5603760" y="2635200"/>
              <a:ext cx="5076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3" name="Freeform 73"/>
            <p:cNvSpPr/>
            <p:nvPr/>
          </p:nvSpPr>
          <p:spPr>
            <a:xfrm>
              <a:off x="5570280" y="2589120"/>
              <a:ext cx="38160" cy="49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4" name="Freeform 74"/>
            <p:cNvSpPr/>
            <p:nvPr/>
          </p:nvSpPr>
          <p:spPr>
            <a:xfrm>
              <a:off x="5624280" y="2606760"/>
              <a:ext cx="5400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5" name="Freeform 75"/>
            <p:cNvSpPr/>
            <p:nvPr/>
          </p:nvSpPr>
          <p:spPr>
            <a:xfrm>
              <a:off x="5546520" y="2079720"/>
              <a:ext cx="42840" cy="87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6" name="Freeform 76"/>
            <p:cNvSpPr/>
            <p:nvPr/>
          </p:nvSpPr>
          <p:spPr>
            <a:xfrm>
              <a:off x="5627520" y="2065320"/>
              <a:ext cx="30240" cy="87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7" name="Freeform 77"/>
            <p:cNvSpPr/>
            <p:nvPr/>
          </p:nvSpPr>
          <p:spPr>
            <a:xfrm>
              <a:off x="5662440" y="2038320"/>
              <a:ext cx="1584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8" name="Freeform 78"/>
            <p:cNvSpPr/>
            <p:nvPr/>
          </p:nvSpPr>
          <p:spPr>
            <a:xfrm>
              <a:off x="5678280" y="2057400"/>
              <a:ext cx="33480" cy="76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9" name="Freeform 79"/>
            <p:cNvSpPr/>
            <p:nvPr/>
          </p:nvSpPr>
          <p:spPr>
            <a:xfrm>
              <a:off x="5251320" y="2166840"/>
              <a:ext cx="190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0" name="Freeform 80"/>
            <p:cNvSpPr/>
            <p:nvPr/>
          </p:nvSpPr>
          <p:spPr>
            <a:xfrm>
              <a:off x="5235480" y="21304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1" name="Freeform 81"/>
            <p:cNvSpPr/>
            <p:nvPr/>
          </p:nvSpPr>
          <p:spPr>
            <a:xfrm>
              <a:off x="5229000" y="2102040"/>
              <a:ext cx="19080" cy="21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2" name="Freeform 82"/>
            <p:cNvSpPr/>
            <p:nvPr/>
          </p:nvSpPr>
          <p:spPr>
            <a:xfrm>
              <a:off x="5209920" y="2038320"/>
              <a:ext cx="1764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3" name="Freeform 83"/>
            <p:cNvSpPr/>
            <p:nvPr/>
          </p:nvSpPr>
          <p:spPr>
            <a:xfrm>
              <a:off x="5213160" y="2077920"/>
              <a:ext cx="255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4" name="Freeform 84"/>
            <p:cNvSpPr/>
            <p:nvPr/>
          </p:nvSpPr>
          <p:spPr>
            <a:xfrm>
              <a:off x="6540480" y="3067200"/>
              <a:ext cx="71280" cy="95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5" name="Freeform 85"/>
            <p:cNvSpPr/>
            <p:nvPr/>
          </p:nvSpPr>
          <p:spPr>
            <a:xfrm>
              <a:off x="6906960" y="2989440"/>
              <a:ext cx="84240" cy="72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6" name="Freeform 86"/>
            <p:cNvSpPr/>
            <p:nvPr/>
          </p:nvSpPr>
          <p:spPr>
            <a:xfrm>
              <a:off x="6653160" y="2949480"/>
              <a:ext cx="27000" cy="36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7" name="Freeform 87"/>
            <p:cNvSpPr/>
            <p:nvPr/>
          </p:nvSpPr>
          <p:spPr>
            <a:xfrm>
              <a:off x="6640560" y="2914560"/>
              <a:ext cx="31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8" name="Freeform 88"/>
            <p:cNvSpPr/>
            <p:nvPr/>
          </p:nvSpPr>
          <p:spPr>
            <a:xfrm>
              <a:off x="6397560" y="2606760"/>
              <a:ext cx="38160" cy="52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9" name="Freeform 89"/>
            <p:cNvSpPr/>
            <p:nvPr/>
          </p:nvSpPr>
          <p:spPr>
            <a:xfrm>
              <a:off x="6451560" y="2674800"/>
              <a:ext cx="4104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0" name="Freeform 90"/>
            <p:cNvSpPr/>
            <p:nvPr/>
          </p:nvSpPr>
          <p:spPr>
            <a:xfrm>
              <a:off x="6494400" y="2774880"/>
              <a:ext cx="4428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1" name="Freeform 91"/>
            <p:cNvSpPr/>
            <p:nvPr/>
          </p:nvSpPr>
          <p:spPr>
            <a:xfrm>
              <a:off x="6548400" y="2759040"/>
              <a:ext cx="442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2" name="Freeform 92"/>
            <p:cNvSpPr/>
            <p:nvPr/>
          </p:nvSpPr>
          <p:spPr>
            <a:xfrm>
              <a:off x="6532560" y="2701800"/>
              <a:ext cx="4104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3" name="Freeform 93"/>
            <p:cNvSpPr/>
            <p:nvPr/>
          </p:nvSpPr>
          <p:spPr>
            <a:xfrm>
              <a:off x="6491160" y="2662200"/>
              <a:ext cx="41400" cy="55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4" name="Freeform 94"/>
            <p:cNvSpPr/>
            <p:nvPr/>
          </p:nvSpPr>
          <p:spPr>
            <a:xfrm>
              <a:off x="6440400" y="2637000"/>
              <a:ext cx="38160" cy="41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5" name="Freeform 95"/>
            <p:cNvSpPr/>
            <p:nvPr/>
          </p:nvSpPr>
          <p:spPr>
            <a:xfrm>
              <a:off x="6503760" y="2720880"/>
              <a:ext cx="3816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6" name="Freeform 96"/>
            <p:cNvSpPr/>
            <p:nvPr/>
          </p:nvSpPr>
          <p:spPr>
            <a:xfrm>
              <a:off x="3948120" y="539640"/>
              <a:ext cx="223560" cy="171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7" name="Freeform 97"/>
            <p:cNvSpPr/>
            <p:nvPr/>
          </p:nvSpPr>
          <p:spPr>
            <a:xfrm>
              <a:off x="4081320" y="704880"/>
              <a:ext cx="6372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8" name="Freeform 98"/>
            <p:cNvSpPr/>
            <p:nvPr/>
          </p:nvSpPr>
          <p:spPr>
            <a:xfrm>
              <a:off x="4406760" y="457200"/>
              <a:ext cx="6660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9" name="Freeform 99"/>
            <p:cNvSpPr/>
            <p:nvPr/>
          </p:nvSpPr>
          <p:spPr>
            <a:xfrm>
              <a:off x="4454280" y="477720"/>
              <a:ext cx="7956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0" name="Freeform 100"/>
            <p:cNvSpPr/>
            <p:nvPr/>
          </p:nvSpPr>
          <p:spPr>
            <a:xfrm>
              <a:off x="4540320" y="482760"/>
              <a:ext cx="7920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1" name="Freeform 101"/>
            <p:cNvSpPr/>
            <p:nvPr/>
          </p:nvSpPr>
          <p:spPr>
            <a:xfrm>
              <a:off x="5094360" y="525600"/>
              <a:ext cx="139680" cy="4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2" name="Freeform 102"/>
            <p:cNvSpPr/>
            <p:nvPr/>
          </p:nvSpPr>
          <p:spPr>
            <a:xfrm>
              <a:off x="5236920" y="523800"/>
              <a:ext cx="7308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3" name="Freeform 103"/>
            <p:cNvSpPr/>
            <p:nvPr/>
          </p:nvSpPr>
          <p:spPr>
            <a:xfrm>
              <a:off x="5203800" y="569880"/>
              <a:ext cx="58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4" name="Freeform 104"/>
            <p:cNvSpPr/>
            <p:nvPr/>
          </p:nvSpPr>
          <p:spPr>
            <a:xfrm>
              <a:off x="5603760" y="925560"/>
              <a:ext cx="120600" cy="181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5" name="Freeform 105"/>
            <p:cNvSpPr/>
            <p:nvPr/>
          </p:nvSpPr>
          <p:spPr>
            <a:xfrm>
              <a:off x="5700600" y="1112760"/>
              <a:ext cx="87480" cy="123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6" name="Freeform 106"/>
            <p:cNvSpPr/>
            <p:nvPr/>
          </p:nvSpPr>
          <p:spPr>
            <a:xfrm>
              <a:off x="5643360" y="1239840"/>
              <a:ext cx="173160" cy="29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7" name="Freeform 107"/>
            <p:cNvSpPr/>
            <p:nvPr/>
          </p:nvSpPr>
          <p:spPr>
            <a:xfrm>
              <a:off x="3959280" y="439920"/>
              <a:ext cx="82440" cy="47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8" name="Freeform 108"/>
            <p:cNvSpPr/>
            <p:nvPr/>
          </p:nvSpPr>
          <p:spPr>
            <a:xfrm>
              <a:off x="3789360" y="453960"/>
              <a:ext cx="30240" cy="34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9" name="Freeform 109"/>
            <p:cNvSpPr/>
            <p:nvPr/>
          </p:nvSpPr>
          <p:spPr>
            <a:xfrm>
              <a:off x="3827520" y="452520"/>
              <a:ext cx="586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0" name="Freeform 110"/>
            <p:cNvSpPr/>
            <p:nvPr/>
          </p:nvSpPr>
          <p:spPr>
            <a:xfrm>
              <a:off x="3924360" y="438120"/>
              <a:ext cx="31680" cy="25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1" name="Freeform 111"/>
            <p:cNvSpPr/>
            <p:nvPr/>
          </p:nvSpPr>
          <p:spPr>
            <a:xfrm>
              <a:off x="3895560" y="466560"/>
              <a:ext cx="237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2" name="Freeform 112"/>
            <p:cNvSpPr/>
            <p:nvPr/>
          </p:nvSpPr>
          <p:spPr>
            <a:xfrm>
              <a:off x="5705280" y="492120"/>
              <a:ext cx="2880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3" name="Freeform 113"/>
            <p:cNvSpPr/>
            <p:nvPr/>
          </p:nvSpPr>
          <p:spPr>
            <a:xfrm>
              <a:off x="4302000" y="2797200"/>
              <a:ext cx="493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4" name="Freeform 114"/>
            <p:cNvSpPr/>
            <p:nvPr/>
          </p:nvSpPr>
          <p:spPr>
            <a:xfrm>
              <a:off x="4365360" y="278604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5" name="Freeform 115"/>
            <p:cNvSpPr/>
            <p:nvPr/>
          </p:nvSpPr>
          <p:spPr>
            <a:xfrm>
              <a:off x="4259160" y="254160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6" name="Freeform 116"/>
            <p:cNvSpPr/>
            <p:nvPr/>
          </p:nvSpPr>
          <p:spPr>
            <a:xfrm>
              <a:off x="4354560" y="2425680"/>
              <a:ext cx="1728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7" name="Freeform 117"/>
            <p:cNvSpPr/>
            <p:nvPr/>
          </p:nvSpPr>
          <p:spPr>
            <a:xfrm>
              <a:off x="4316400" y="2424240"/>
              <a:ext cx="17280" cy="2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8" name="Freeform 118"/>
            <p:cNvSpPr/>
            <p:nvPr/>
          </p:nvSpPr>
          <p:spPr>
            <a:xfrm>
              <a:off x="4298760" y="245916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9" name="Freeform 119"/>
            <p:cNvSpPr/>
            <p:nvPr/>
          </p:nvSpPr>
          <p:spPr>
            <a:xfrm>
              <a:off x="4259160" y="251316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0" name="Freeform 120"/>
            <p:cNvSpPr/>
            <p:nvPr/>
          </p:nvSpPr>
          <p:spPr>
            <a:xfrm>
              <a:off x="4289400" y="24922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1" name="Freeform 121"/>
            <p:cNvSpPr/>
            <p:nvPr/>
          </p:nvSpPr>
          <p:spPr>
            <a:xfrm>
              <a:off x="3125520" y="923760"/>
              <a:ext cx="16200" cy="24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2" name="Freeform 122"/>
            <p:cNvSpPr/>
            <p:nvPr/>
          </p:nvSpPr>
          <p:spPr>
            <a:xfrm>
              <a:off x="3028680" y="87012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3" name="Freeform 123"/>
            <p:cNvSpPr/>
            <p:nvPr/>
          </p:nvSpPr>
          <p:spPr>
            <a:xfrm>
              <a:off x="2651040" y="525600"/>
              <a:ext cx="3270240" cy="2609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pic>
        <p:nvPicPr>
          <p:cNvPr id="15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6705720" y="6477120"/>
            <a:ext cx="228600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976A-DFD4-4249-8B48-47DBCBAA2A8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99" name="矩形 9"/>
          <p:cNvSpPr/>
          <p:nvPr/>
        </p:nvSpPr>
        <p:spPr>
          <a:xfrm>
            <a:off x="1357200" y="1785960"/>
            <a:ext cx="6572520" cy="4286160"/>
          </a:xfrm>
          <a:prstGeom prst="rect">
            <a:avLst/>
          </a:prstGeom>
          <a:solidFill>
            <a:srgbClr val="ffffff"/>
          </a:solidFill>
          <a:ln w="0">
            <a:solidFill>
              <a:srgbClr val="3481a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43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44" name="TextBox 9"/>
          <p:cNvSpPr/>
          <p:nvPr/>
        </p:nvSpPr>
        <p:spPr>
          <a:xfrm>
            <a:off x="1285920" y="1857240"/>
            <a:ext cx="6357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0"/>
          </p:nvPr>
        </p:nvSpPr>
        <p:spPr>
          <a:xfrm>
            <a:off x="49968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1"/>
          </p:nvPr>
        </p:nvSpPr>
        <p:spPr>
          <a:xfrm>
            <a:off x="3143160" y="6428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75F1-D31B-4A61-BAFE-41E890D142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2"/>
          </p:nvPr>
        </p:nvSpPr>
        <p:spPr>
          <a:xfrm>
            <a:off x="657180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8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3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4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FD88-AF3A-4804-BA4B-EF71E168CEE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3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6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17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8E65-9C7A-4B76-A537-DDD1F49B4CE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7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9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0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484F-BA10-4D05-9ED7-B3B73D0C1BD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2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2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3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9B7B-D392-4F45-9FAD-7BDC6957D90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6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5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6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13F3-9891-4E84-9ACC-D731414B58D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6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6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6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6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6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6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6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9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9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6"/>
          <p:cNvSpPr/>
          <p:nvPr/>
        </p:nvSpPr>
        <p:spPr>
          <a:xfrm>
            <a:off x="3708000" y="3929760"/>
            <a:ext cx="2142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黑体"/>
                <a:ea typeface="黑体"/>
              </a:rPr>
              <a:t>清华大学经济管理学院   朱世武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5" name="Rectangle 6"/>
          <p:cNvSpPr/>
          <p:nvPr/>
        </p:nvSpPr>
        <p:spPr>
          <a:xfrm>
            <a:off x="3071880" y="4500720"/>
            <a:ext cx="385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sem.tsinghua.edu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resset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6" name="Rectangle 7"/>
          <p:cNvSpPr/>
          <p:nvPr/>
        </p:nvSpPr>
        <p:spPr>
          <a:xfrm>
            <a:off x="3064680" y="5322600"/>
            <a:ext cx="6116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Zhu Shiwu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School of Economics and Managemen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Tsinghua University </a:t>
            </a: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58920" y="1341000"/>
            <a:ext cx="6624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第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15</a:t>
            </a: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章 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IML</a:t>
            </a: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编程技术</a:t>
            </a: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/>
          </p:nvPr>
        </p:nvSpPr>
        <p:spPr>
          <a:xfrm>
            <a:off x="1285920" y="135684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Times New Roman"/>
                <a:ea typeface="黑体"/>
              </a:rPr>
              <a:t>创建数值矩阵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含有多个元素的矩阵标识要用括号把元素括起来。用逗号将矩阵的行分开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5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由矩阵标识创建的数值阵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=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;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定义一个行向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X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=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;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定义一个列向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Y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Z=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;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定义一个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3×2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矩阵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Z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Z;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创建一个新矩阵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W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它的每个元素是矩阵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Z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相应元素的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3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倍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1214280" y="182844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Times New Roman"/>
                <a:ea typeface="黑体"/>
              </a:rPr>
              <a:t>创建字符矩阵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创建字符矩阵时，字符长度取最长字符的长度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={IML  Modual};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字符长度以较长的字符为准，这里为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6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={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abc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DEFG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/>
          </p:nvPr>
        </p:nvSpPr>
        <p:spPr>
          <a:xfrm>
            <a:off x="1405080" y="164268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Times New Roman"/>
                <a:ea typeface="黑体"/>
              </a:rPr>
              <a:t>重复因子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重复因子用括弧括起来放在要重复的元素前面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7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与不用重复因子的等价语句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NS={[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] 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Yes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[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] 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No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;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NS={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Yes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Yes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No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No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1523520" y="1356840"/>
            <a:ext cx="5334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Times New Roman"/>
                <a:ea typeface="黑体"/>
              </a:rPr>
              <a:t>赋值语句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结果＝表达式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z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函数作为表达式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=sqrt(b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=inv(x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=rank(x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/>
          </p:nvPr>
        </p:nvSpPr>
        <p:spPr>
          <a:xfrm>
            <a:off x="1523520" y="167616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Times New Roman"/>
                <a:ea typeface="黑体"/>
              </a:rPr>
              <a:t>表达式中的三种运算符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表达式中的算符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04" name="Object 2"/>
          <p:cNvGraphicFramePr/>
          <p:nvPr/>
        </p:nvGraphicFramePr>
        <p:xfrm>
          <a:off x="2071800" y="3143160"/>
          <a:ext cx="4725720" cy="150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1800" y="3143160"/>
                    <a:ext cx="4725720" cy="15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类型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SAS/IM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软件语句大致分为三类：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语句；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L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；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命令语句。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函数的一般形式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sult = Function (arguments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rgumen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是矩阵名，矩阵本身或表达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SAS/IM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软件中的函数类型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矩阵查询函数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标量函数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概括函数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矩阵变形函数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矩阵算术函数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线性代数和统计函数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title"/>
          </p:nvPr>
        </p:nvSpPr>
        <p:spPr>
          <a:xfrm>
            <a:off x="500040" y="78552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函数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/>
          </p:nvPr>
        </p:nvSpPr>
        <p:spPr>
          <a:xfrm>
            <a:off x="1356840" y="1213920"/>
            <a:ext cx="6782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8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M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随机数函数应用举例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v=Uniform(Repeat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)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v =Ranuni(Repeat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v =Normal(Repeat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v =Rannor(Repeat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v =Ranbin(Repeat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v =Rancau(Repeat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v =Ranexp(Repeat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v =Rangam(Repeat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v =Ranpoi(Repeat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v =Rantri(Repeat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形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PEAT(X, Y, Z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是随机数种子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是产生的随机数个数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Z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是产生的随机数列数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/>
          </p:nvPr>
        </p:nvSpPr>
        <p:spPr>
          <a:xfrm>
            <a:off x="1523520" y="167616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9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步下随机数产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例子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V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ta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_seed_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retain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赋初值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0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给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_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seed_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u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igma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_i_ =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ormal1 = mu + sigma * rannor(_seed_)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均值为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mu,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标准差为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sigma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r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_seed_ _i_  mu sigm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1600200" y="22093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黑体"/>
              </a:rPr>
              <a:t>SAS/IML</a:t>
            </a:r>
            <a:r>
              <a:rPr b="0" lang="zh-CN" sz="3200" spc="-1" strike="noStrike">
                <a:solidFill>
                  <a:srgbClr val="0070c0"/>
                </a:solidFill>
                <a:latin typeface="Times New Roman"/>
                <a:ea typeface="黑体"/>
              </a:rPr>
              <a:t>不支持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黑体"/>
              </a:rPr>
              <a:t>OF</a:t>
            </a:r>
            <a:r>
              <a:rPr b="0" lang="zh-CN" sz="3200" spc="-1" strike="noStrike">
                <a:solidFill>
                  <a:srgbClr val="0070c0"/>
                </a:solidFill>
                <a:latin typeface="Times New Roman"/>
                <a:ea typeface="黑体"/>
              </a:rPr>
              <a:t>语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=mean(of x1-x10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/IM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1-x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被当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而不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10.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 Narrow"/>
                <a:ea typeface="宋体"/>
              </a:rPr>
              <a:t>本章内容提要</a:t>
            </a:r>
            <a:endParaRPr b="1" lang="en-US" sz="36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285920" y="1643040"/>
            <a:ext cx="52149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概述；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理解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IML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言；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线型回归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IML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模块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矩阵操作；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IML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编程语句；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操作；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访问外部文件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CALL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与子程序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599840" y="22093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BROUTINE argument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10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L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子程序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eigen(val,vec,t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elete(DAT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个例句，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L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创建矩阵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得到矩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特征值和特征向量。第二句，删除数据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/>
          </p:nvPr>
        </p:nvSpPr>
        <p:spPr>
          <a:xfrm>
            <a:off x="1523520" y="1295280"/>
            <a:ext cx="7239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1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自建子程序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ymod(a,b,c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=sqrt(c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=log(c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nis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ymod(a, b, 10);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运行模型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MYMOD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ymod(x, y, 10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建立一个模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YM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别得到输入矩阵的平方根和自然对数值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AL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的其它一用法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gstart;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激活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graphics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模块 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gopen;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打开一个新的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graphics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片段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gpoint(x,y);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作散点图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gshow;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显示散点图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285920" y="142848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命令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618920" y="2636640"/>
            <a:ext cx="592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/IM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命令用于实现一些具体的系统功能，例如，存贮和加载矩阵、或进行特定的数据处理等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/>
          </p:nvPr>
        </p:nvSpPr>
        <p:spPr>
          <a:xfrm>
            <a:off x="1666440" y="1142640"/>
            <a:ext cx="6629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1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SAS/IM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命令用法举例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im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={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}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={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}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how name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tore a b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how storage; 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 b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移走矩阵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a,b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how storage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oad a b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qu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im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={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}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={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}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a b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ree a b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清空矩阵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a, b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a b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qu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缺失值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213920" y="1999800"/>
            <a:ext cx="6629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92d05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/IM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也有缺失值的问题。注意，矩阵中的缺失值不能视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矩阵标识中，数值缺失值用点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。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92d05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/IM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支持缺失值的方式是有限的。许多矩阵运算不允许有缺失值，比如，矩阵乘法、矩阵求逆等。另外，支持缺失值的矩阵运算也会产生不一致的结果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04280" y="78552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线性回归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IML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模块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124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黑体"/>
                <a:ea typeface="黑体"/>
              </a:rPr>
              <a:t>解方程组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1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线性解方程组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用符号表示为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23" name="Rectangle 5"/>
          <p:cNvSpPr/>
          <p:nvPr/>
        </p:nvSpPr>
        <p:spPr>
          <a:xfrm>
            <a:off x="3848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24" name="Text Box 6"/>
          <p:cNvSpPr/>
          <p:nvPr/>
        </p:nvSpPr>
        <p:spPr>
          <a:xfrm>
            <a:off x="4724280" y="2085840"/>
            <a:ext cx="342900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解方程组程序：  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im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{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-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-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={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=inv(a)*c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nt a c x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qu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2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26" name="Object 2"/>
          <p:cNvGraphicFramePr/>
          <p:nvPr/>
        </p:nvGraphicFramePr>
        <p:xfrm>
          <a:off x="1476360" y="2708280"/>
          <a:ext cx="1944720" cy="11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708280"/>
                    <a:ext cx="194472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8" name="Text Box 4"/>
          <p:cNvSpPr/>
          <p:nvPr/>
        </p:nvSpPr>
        <p:spPr>
          <a:xfrm>
            <a:off x="3492360" y="5373720"/>
            <a:ext cx="41767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A                             C         X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3        -1         2         8         3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2        -2         3         2         5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4         1        -4         9         2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29" name="Text Box 5"/>
          <p:cNvSpPr/>
          <p:nvPr/>
        </p:nvSpPr>
        <p:spPr>
          <a:xfrm>
            <a:off x="4716360" y="4941720"/>
            <a:ext cx="187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结果：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0040" y="107172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线性回归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IML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模块程序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905120" y="1928520"/>
            <a:ext cx="4595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1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线性回归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M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模块程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im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{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}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={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}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=inv(t(x)*x)*t(x)*y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hat=x*b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=y-yhat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se=ssq(r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fe=nrow(x)-ncol(x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se=sse/dfe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/>
          </p:nvPr>
        </p:nvSpPr>
        <p:spPr>
          <a:xfrm>
            <a:off x="1600200" y="1218960"/>
            <a:ext cx="723888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 regress;     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定义模块开始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pxi=inv(t(x)*x);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矩阵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X'X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的逆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eta=xpxi*(t(x)*y);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参数估计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hat=x*beta; 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预测值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sid=y-yhat; 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残差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se=ssq(resid); 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SSE  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=nrow(x);    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观测值数 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fe=nrow(x)-ncol(x);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误差自由度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DF 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se=sse/dfe;     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MSE  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ssy=ssq(y-sum(y)/n);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校正平方和 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square=(cssy-sse)/cssy;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RSQUARE  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,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"Regression Results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 sse dfe mse rsquare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tdb=sqrt(vecdiag(xpxi)*mse)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参数估计的标准差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=beta/stdb;     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参数的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t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检验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ob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probf(t#t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dfe);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p-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值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,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"Parameter Estimates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,  beta stdb t prob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,y yhat resid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inish regress;     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模块结束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/>
          </p:nvPr>
        </p:nvSpPr>
        <p:spPr>
          <a:xfrm>
            <a:off x="1523520" y="129492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noprint;   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gress;        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执行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REGRESS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模块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print;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打开自动打印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vb=xpxi*mse;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参数估计协方差阵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sqrt(vecdiag(covb)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rrb=diag(s)*covb*diag(s);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参数估计的相关系数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1={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};  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矩阵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的第二列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orpol(x1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产生正交多项式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noprint;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关闭自动打印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gress;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运行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REGRESS 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print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vb=xpxi*mse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sqrt(vecdiag(covb)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rrb=diag(s)*covb*diag(s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fuzz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rrb=diag(s)*covb*diag(s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矩阵操作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35" name="Text Box 4"/>
          <p:cNvSpPr/>
          <p:nvPr/>
        </p:nvSpPr>
        <p:spPr>
          <a:xfrm>
            <a:off x="1619280" y="2133720"/>
            <a:ext cx="579132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92d05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</a:rPr>
              <a:t>输入数据创建矩阵标识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92d05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</a:rPr>
              <a:t>使用赋值语句创建矩阵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92d05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</a:rPr>
              <a:t>使用矩阵表达式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92d05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</a:rPr>
              <a:t>利用行列标展现矩阵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92d05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</a:rPr>
              <a:t>缺失值运算举例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概述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428840" y="185688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/IML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teractiv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trix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nguage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在一种在动态和交互式环境下实现的强大而灵活的过程语言（交互式矩阵语言）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M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最基本的数据对象是矩阵。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/IM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模式下，可以立刻看到语句运行的结果，也可以把语句贮存在一个模块中为以后使用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输入数据创建矩阵标识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600200" y="20570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/IM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可以使用多种方式输入数据创建矩阵标识。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创建标量矩阵标识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16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创建标量矩阵例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im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2.3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z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Hello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"Hi there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x y z a b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8" name="Text Box 2"/>
          <p:cNvSpPr/>
          <p:nvPr/>
        </p:nvSpPr>
        <p:spPr>
          <a:xfrm>
            <a:off x="3708360" y="5157720"/>
            <a:ext cx="4176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                          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X         Y         Z A     B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                        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12     12.34         . Hello Hi there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/>
          </p:nvPr>
        </p:nvSpPr>
        <p:spPr>
          <a:xfrm>
            <a:off x="1428480" y="1356840"/>
            <a:ext cx="6629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Times New Roman"/>
                <a:ea typeface="黑体"/>
              </a:rPr>
              <a:t>创建多元素矩阵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创建多元素矩阵时，用括号把元素括起来，用逗号（，）把行分开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1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创建多元素矩阵例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e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rint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ffee=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mes={Jenny, Linda, Jim, Samuel}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coffee [rowname=names]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Text Box 4"/>
          <p:cNvSpPr/>
          <p:nvPr/>
        </p:nvSpPr>
        <p:spPr>
          <a:xfrm>
            <a:off x="1835280" y="1125360"/>
            <a:ext cx="7056360" cy="46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COFFEE      4 rows      5 cols    (numeric)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4         2         2         3         2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3         3         1         2         1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2         1         0         2         1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5         4         4         3         4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NAMES      4 rows      1 col     (character, size 6)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JENNY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LINDA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JIM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SAMUEL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COFFEE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JENNY          4         2         2         3         2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LINDA          3         3         1         2         1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JIM                2         1         0         2         1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SAMUEL      5         4         4         3         4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使用赋值语句创建矩阵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1285560" y="1571760"/>
            <a:ext cx="73580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Times New Roman"/>
                <a:ea typeface="黑体"/>
              </a:rPr>
              <a:t>简单赋值语句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1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简单赋值语句创建矩阵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e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oprint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ycost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.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coffee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Daily totals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daycost[rowname=names format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.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]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nes=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eektot=daycost*ones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Week total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weektot[rowname=names format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.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]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randtot=sum(coffee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verage=grandtot/ncol(coffee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Total number of cups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grandtot,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Daily average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average;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/>
          </p:nvPr>
        </p:nvSpPr>
        <p:spPr>
          <a:xfrm>
            <a:off x="1600200" y="16761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Times New Roman"/>
                <a:ea typeface="黑体"/>
              </a:rPr>
              <a:t>创建特殊矩阵函数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/IM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软件有很多内置函数来产生一些特殊矩阵。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44" name="Object 2"/>
          <p:cNvGraphicFramePr/>
          <p:nvPr/>
        </p:nvGraphicFramePr>
        <p:xfrm>
          <a:off x="1619280" y="2695680"/>
          <a:ext cx="4824360" cy="213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695680"/>
                    <a:ext cx="482436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/>
          </p:nvPr>
        </p:nvSpPr>
        <p:spPr>
          <a:xfrm>
            <a:off x="1523520" y="1371240"/>
            <a:ext cx="723924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.19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创建分块对角阵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LOCK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atrix1,&lt;matrix2,...,matrix15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={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}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={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}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=block(a,b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创建分块对角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主对角线元素分别是矩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.20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创建同元素矩阵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J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row&lt;,ncol&lt;,value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ne=j(2,5, 88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创建一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列矩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其元素全部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8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.2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创建单位阵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imension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3=I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创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×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单位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3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/>
          </p:nvPr>
        </p:nvSpPr>
        <p:spPr>
          <a:xfrm>
            <a:off x="1599840" y="1599840"/>
            <a:ext cx="6553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22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创建满秩设计阵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ESIGNF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lumn-vecto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=designf(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为单因素方差分析创建了一个满秩矩阵，其中，关键因素有三个水平，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3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2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即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={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  0,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  0,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  0,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   1,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   1,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1  -1,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1  -1}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/>
          </p:nvPr>
        </p:nvSpPr>
        <p:spPr>
          <a:xfrm>
            <a:off x="1357200" y="1213920"/>
            <a:ext cx="693432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23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由输入矩阵创建一定形状的矩阵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HAPE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atrix&lt;,nrow&lt;,ncol&lt;,pad-valu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br>
              <a:rPr sz="2000"/>
            </a:b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row, nc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ad-valu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随意的，但一般情况下要给他们赋值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a=shape(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a=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row, nco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ad-valu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全被赋值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a=shape(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a=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ad-valu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未赋值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HAP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函数循环并用值填充。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/>
          </p:nvPr>
        </p:nvSpPr>
        <p:spPr>
          <a:xfrm>
            <a:off x="1356840" y="1356840"/>
            <a:ext cx="731052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Times New Roman"/>
                <a:ea typeface="黑体"/>
              </a:rPr>
              <a:t>用指数算符产生向量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指数算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: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方便地产生向量。如果步长不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可以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15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.24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用指数算符产生向量。</a:t>
            </a: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50" name="Object 2"/>
          <p:cNvGraphicFramePr/>
          <p:nvPr/>
        </p:nvGraphicFramePr>
        <p:xfrm>
          <a:off x="1500120" y="3929040"/>
          <a:ext cx="6172200" cy="185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3929040"/>
                    <a:ext cx="6172200" cy="18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使用矩阵表达式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13920" y="1856880"/>
            <a:ext cx="6620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矩阵表达式由一系列名字、算符和函数构成。它的作用是完成计算，判断条件和巧妙处理数值。表达式可以出现在赋值语句的任何一边。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Times New Roman"/>
                <a:ea typeface="黑体"/>
              </a:rPr>
              <a:t>算符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矩阵表达式中使用的算符可以分为三种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43080" algn="just"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前缀算符；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algn="just"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缀算符；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algn="just"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后缀算符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SAS/IML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软件特点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142640" y="1785960"/>
            <a:ext cx="66294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/IM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可以轻易地进行高效编程和使用一系列子程序。因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/IM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是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的一个模块，所以，可以使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和外部文件，也可以对一个已有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进行编辑或者创建一个新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/IM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是一种编程语言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/IM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对矩阵作运算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/IM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有强大的算符功能，有许多函数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AL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子程序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/IM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将算符应用到整个矩阵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/IM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是交互式的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/IM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是动态的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/IM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可以处理数据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/IM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可以作图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/>
          </p:nvPr>
        </p:nvSpPr>
        <p:spPr>
          <a:xfrm>
            <a:off x="1600200" y="18284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算符优先级</a:t>
            </a: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55" name="Object 2"/>
          <p:cNvGraphicFramePr/>
          <p:nvPr/>
        </p:nvGraphicFramePr>
        <p:xfrm>
          <a:off x="1609560" y="2428920"/>
          <a:ext cx="4605480" cy="344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9560" y="2428920"/>
                    <a:ext cx="4605480" cy="34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/>
          </p:nvPr>
        </p:nvSpPr>
        <p:spPr>
          <a:xfrm>
            <a:off x="1600200" y="1752120"/>
            <a:ext cx="6477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Times New Roman"/>
                <a:ea typeface="黑体"/>
              </a:rPr>
              <a:t>复合表达式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=x+y+z;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=x+y*z;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=(-x)#(y-z);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=x+y*z;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=x/y/z;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/>
          </p:nvPr>
        </p:nvSpPr>
        <p:spPr>
          <a:xfrm>
            <a:off x="1523520" y="175212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Times New Roman"/>
                <a:ea typeface="黑体"/>
              </a:rPr>
              <a:t>二目元素算符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二目元素算符是对两个矩阵的元素分别进行操作。</a:t>
            </a: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59" name="Object 2"/>
          <p:cNvGraphicFramePr/>
          <p:nvPr/>
        </p:nvGraphicFramePr>
        <p:xfrm>
          <a:off x="1928880" y="3286080"/>
          <a:ext cx="5072040" cy="300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8880" y="3286080"/>
                    <a:ext cx="507204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/>
          </p:nvPr>
        </p:nvSpPr>
        <p:spPr>
          <a:xfrm>
            <a:off x="1447920" y="14475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下标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下标的一般形式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perand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lum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peran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通常是一个矩阵名，也可以是表达式或矩阵本身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ow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矩阵的行数，可以是表达式，也可以是标量或向量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lum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矩阵的列数，可以是表达式，也可以是标量或向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下标的用途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矩阵的一个元素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矩阵的一整行或列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矩阵的子阵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简化矩阵的一行或列。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/>
          </p:nvPr>
        </p:nvSpPr>
        <p:spPr>
          <a:xfrm>
            <a:off x="1523520" y="159984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25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矩阵的一个元素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 coffee[rowname=names]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21=coffee[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矩阵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coffee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第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2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行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列元素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c21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以寻找超出行范围的元素，这时得到的是以行为顺序第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个元素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6=coffee[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c6; 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26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矩阵的一整行或列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jim=coffee[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]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第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3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行元素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jim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riday=coffee[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第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5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列元素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friday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/>
          </p:nvPr>
        </p:nvSpPr>
        <p:spPr>
          <a:xfrm>
            <a:off x="1356840" y="142848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27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矩阵的子阵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ubmat1=coffee[{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},{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}]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第一个向量｛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1 3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｝选择行，第二个向量｛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2 3 5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｝选择列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submat1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可以事先创建一个向量并以他们的名字作为输入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ows={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}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事先创建向量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rows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ls={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}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事先创建向量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cols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ubmat1=coffee[rows,cols];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以事先创建向量的名字作输入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ubmat2=coffee[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选择矩阵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coffee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的第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至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3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行，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3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至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5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列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submat2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.28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下标位置进行相应元素的赋值。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offee[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]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将矩阵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coffee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的第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1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行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2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列处的元素值改为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4*/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coffee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offee[,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]={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};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将矩阵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coffee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的第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5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列元素全部设为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0*/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coffee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={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-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-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}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t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i=loc(t&lt;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i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3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5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下标也可以包含运算结果为行数或列数的表达式。例如表达式可以为：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[loc(t&lt;0)]=0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5" name="Text Box 5"/>
          <p:cNvSpPr/>
          <p:nvPr/>
        </p:nvSpPr>
        <p:spPr>
          <a:xfrm>
            <a:off x="4952880" y="3335400"/>
            <a:ext cx="2819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[i]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nt t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</a:rPr>
              <a:t>6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/>
          </p:nvPr>
        </p:nvSpPr>
        <p:spPr>
          <a:xfrm>
            <a:off x="1676520" y="1142640"/>
            <a:ext cx="723888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Times New Roman"/>
                <a:ea typeface="黑体"/>
              </a:rPr>
              <a:t>简化下标算符</a:t>
            </a:r>
            <a:r>
              <a:rPr b="0" lang="zh-CN" sz="2000" spc="-1" strike="noStrike">
                <a:solidFill>
                  <a:srgbClr val="0070c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简化下标算符列表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67" name="Object 2"/>
          <p:cNvGraphicFramePr/>
          <p:nvPr/>
        </p:nvGraphicFramePr>
        <p:xfrm>
          <a:off x="2214720" y="2500200"/>
          <a:ext cx="4572000" cy="30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4720" y="2500200"/>
                    <a:ext cx="457200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 txBox="1"/>
          <p:nvPr/>
        </p:nvSpPr>
        <p:spPr>
          <a:xfrm>
            <a:off x="1142640" y="92880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18.29 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简化下标算符的应用。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im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={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3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7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}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B=A[{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},+]; 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	</a:t>
            </a:r>
            <a:r>
              <a:rPr b="1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矩阵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A</a:t>
            </a:r>
            <a:r>
              <a:rPr b="1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第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2</a:t>
            </a:r>
            <a:r>
              <a:rPr b="1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，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3</a:t>
            </a:r>
            <a:r>
              <a:rPr b="1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行求和 </a:t>
            </a:r>
            <a:r>
              <a:rPr b="1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 b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B=A[+,{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}]; 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	</a:t>
            </a:r>
            <a:r>
              <a:rPr b="1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矩阵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A</a:t>
            </a:r>
            <a:r>
              <a:rPr b="1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第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2</a:t>
            </a:r>
            <a:r>
              <a:rPr b="1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，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3</a:t>
            </a:r>
            <a:r>
              <a:rPr b="1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列求和 </a:t>
            </a:r>
            <a:r>
              <a:rPr b="1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 b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B=A[+,&lt;&gt;];    </a:t>
            </a:r>
            <a:r>
              <a:rPr b="0" lang="pt-BR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列和的最大值 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pt-BR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 b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B=A[&lt;&gt;, +];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列最大值和 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 b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 txBox="1"/>
          <p:nvPr/>
        </p:nvSpPr>
        <p:spPr>
          <a:xfrm>
            <a:off x="1142640" y="92880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B=A[, &gt;&lt;][+,];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行最小值和 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 b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B=A[, &lt;&gt;][+,];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行最大值和 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 b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B=A[, &lt;:&gt;];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行最大值位置指标 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 b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B=A[, &gt;:&lt;];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行最小值位置指标 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 b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B=A[&lt;:&gt;,];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列最大值位置指标 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 b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B=A[&gt;:&lt;,];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列最小值位置指标 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 b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B=A[:];       </a:t>
            </a:r>
            <a:r>
              <a:rPr b="0" lang="pt-BR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所有元素均值 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pt-BR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 b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一个简单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IML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交互程序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405080" y="141408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求平方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M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im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  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激活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IML 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eflib=ResDat;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指定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ResDat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为缺省的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逻辑库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 approx(x);  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定义模块开始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  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初始化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y 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o until(w&lt;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e-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循环开始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, le-3=0.001 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z=y;                                   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#(z+x/z);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估计开方根，牛顿迭代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=abs(y-z); 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计算估计值之间的差异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   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循环结束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turn(y);    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返回近似值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inish approx;     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模块结束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=approx({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});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调用函数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APPROX 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t;            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打印矩阵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qu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86" name="Text Box 2"/>
          <p:cNvSpPr/>
          <p:nvPr/>
        </p:nvSpPr>
        <p:spPr>
          <a:xfrm>
            <a:off x="5364000" y="4941720"/>
            <a:ext cx="309564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imes New Roman"/>
              </a:rPr>
              <a:t>                                         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                                  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1.7320508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2.236068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                                  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2.6457513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                                          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6732720" y="4581360"/>
            <a:ext cx="180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OUTPUT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窗口结果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利用行列标展现矩阵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356840" y="1714320"/>
            <a:ext cx="6629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使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UTONAM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OWNAME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LNAME=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ATTRI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来显示相关矩阵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3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自动命名选项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ffee={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}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coffee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ames={Jenny, Linda, Jim, Samuel}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coffee [rowname=names]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utoname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coffee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4"/>
          <p:cNvSpPr/>
          <p:nvPr/>
        </p:nvSpPr>
        <p:spPr>
          <a:xfrm>
            <a:off x="1403280" y="1268280"/>
            <a:ext cx="6696000" cy="39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COFFEE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JENNY          4         2         2         3         2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LINDA          3         3         1         2         1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JIM                2         1         0         2         1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SAMUEL      5         4         4         3         4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COFFEE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COL1         COL2         COL3         COL4         COL5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ROW1            4            2            2            3            2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ROW2            3            3            1            2            1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ROW3            2            1            0            2            1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ROW4            5            4            4            3            4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缺失值运算举例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428840" y="1642680"/>
            <a:ext cx="54864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33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有缺失值元素参加运算的结果仍是缺失值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{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}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={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}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=X+Y;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矩阵相加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=X#Y;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元素相乘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=X[+,];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列求和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IML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编程语句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428840" y="157140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IF-THEN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语句</a:t>
            </a: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DO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组语句</a:t>
            </a: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循环语句</a:t>
            </a: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转移语句</a:t>
            </a: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创建和运行模块语句</a:t>
            </a: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停止执行</a:t>
            </a: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713880" y="71424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IF-THEN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143000" y="164268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Times New Roman"/>
                <a:ea typeface="黑体"/>
              </a:rPr>
              <a:t>语句格式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xpression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tatement1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tatement2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34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举例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f max(a)&lt;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hen p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p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f x=y the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f abs(y)=z then w=-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w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w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等价表达式：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子句只有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对应元素都不相等时才执行。如果想要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对应元素有一个不相等时为真，要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N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80" name="Object 2"/>
          <p:cNvGraphicFramePr/>
          <p:nvPr/>
        </p:nvGraphicFramePr>
        <p:xfrm>
          <a:off x="1619280" y="5086440"/>
          <a:ext cx="4095720" cy="52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5086440"/>
                    <a:ext cx="40957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/>
          </p:nvPr>
        </p:nvSpPr>
        <p:spPr>
          <a:xfrm>
            <a:off x="1676160" y="1980720"/>
            <a:ext cx="60195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35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N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的表达式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f any(a^=b) 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tatement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对应元素有一个不相等时值为真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6002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DO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组语句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D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组的两个主要用法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将一组语句设成一个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组，应用时作为一个单位执行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将条件语句中的一组语句设成一个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组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D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组语句格式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  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dditional statement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3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组例句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f x&lt;y the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o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z1=abs(x+y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z2=abs(x-y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85" name="Text Box 4"/>
          <p:cNvSpPr/>
          <p:nvPr/>
        </p:nvSpPr>
        <p:spPr>
          <a:xfrm>
            <a:off x="5105520" y="4597560"/>
            <a:ext cx="26668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1=abs(x-y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2=abs(x+y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循环语句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785880" y="1500120"/>
            <a:ext cx="72864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Times New Roman"/>
                <a:ea typeface="宋体"/>
              </a:rPr>
              <a:t>DO DATA</a:t>
            </a:r>
            <a:r>
              <a:rPr b="0" lang="zh-CN" sz="3200" spc="-1" strike="noStrike">
                <a:solidFill>
                  <a:srgbClr val="00b0f0"/>
                </a:solidFill>
                <a:latin typeface="Times New Roman"/>
                <a:ea typeface="黑体"/>
              </a:rPr>
              <a:t>语句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格式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 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37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读入外部数据文件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im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nfile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D:\ResDat\code.txt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读入外部文件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o data;          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开始读循环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x;        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读一个数据值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x//xx;         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连接数据值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将外部文件中的数据导入到一个向量。一次读一个数据值到虚变量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XX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中，再用竖直连接算符（／／）把数值导到向量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中。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Picture 4" descr=""/>
          <p:cNvPicPr/>
          <p:nvPr/>
        </p:nvPicPr>
        <p:blipFill>
          <a:blip r:embed="rId1"/>
          <a:srcRect l="36071" t="13572" r="44107" b="71433"/>
          <a:stretch/>
        </p:blipFill>
        <p:spPr>
          <a:xfrm>
            <a:off x="1928880" y="1500120"/>
            <a:ext cx="5602320" cy="317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/>
          </p:nvPr>
        </p:nvSpPr>
        <p:spPr>
          <a:xfrm>
            <a:off x="1600200" y="1980720"/>
            <a:ext cx="63244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Times New Roman"/>
                <a:ea typeface="黑体"/>
              </a:rPr>
              <a:t>循环</a:t>
            </a:r>
            <a:r>
              <a:rPr b="0" lang="en-US" sz="3200" spc="-1" strike="noStrike">
                <a:solidFill>
                  <a:srgbClr val="00b0f0"/>
                </a:solidFill>
                <a:latin typeface="Times New Roman"/>
                <a:ea typeface="宋体"/>
              </a:rPr>
              <a:t>DO</a:t>
            </a:r>
            <a:r>
              <a:rPr b="0" lang="zh-CN" sz="3200" spc="-1" strike="noStrike">
                <a:solidFill>
                  <a:srgbClr val="00b0f0"/>
                </a:solidFill>
                <a:latin typeface="Times New Roman"/>
                <a:ea typeface="黑体"/>
              </a:rPr>
              <a:t>语句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ariable=star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op &lt;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ncrement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38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循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句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o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y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2"/>
          <p:cNvSpPr/>
          <p:nvPr/>
        </p:nvSpPr>
        <p:spPr>
          <a:xfrm>
            <a:off x="2286000" y="990720"/>
            <a:ext cx="518148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牛顿迭代法求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(z)=0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一个实根的方法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牛顿迭代法公式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789" name="Object 2"/>
          <p:cNvGraphicFramePr/>
          <p:nvPr/>
        </p:nvGraphicFramePr>
        <p:xfrm>
          <a:off x="2378160" y="2057400"/>
          <a:ext cx="2786040" cy="11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8160" y="2057400"/>
                    <a:ext cx="278604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1" name="Text Box 4"/>
          <p:cNvSpPr/>
          <p:nvPr/>
        </p:nvSpPr>
        <p:spPr>
          <a:xfrm>
            <a:off x="2362320" y="3352680"/>
            <a:ext cx="365760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上例中函数为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2" name="Object 3"/>
              <p:cNvSpPr txBox="1"/>
              <p:nvPr/>
            </p:nvSpPr>
            <p:spPr>
              <a:xfrm>
                <a:off x="2290680" y="3929040"/>
                <a:ext cx="23576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/>
          </p:nvPr>
        </p:nvSpPr>
        <p:spPr>
          <a:xfrm>
            <a:off x="1676160" y="1752480"/>
            <a:ext cx="6172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Times New Roman"/>
                <a:ea typeface="宋体"/>
              </a:rPr>
              <a:t>DO While</a:t>
            </a:r>
            <a:r>
              <a:rPr b="0" lang="zh-CN" sz="3200" spc="-1" strike="noStrike">
                <a:solidFill>
                  <a:srgbClr val="00b0f0"/>
                </a:solidFill>
                <a:latin typeface="Times New Roman"/>
                <a:ea typeface="黑体"/>
              </a:rPr>
              <a:t>语句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格式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 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pression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39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 WHI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句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 while(count&l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count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unt=count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/>
          </p:nvPr>
        </p:nvSpPr>
        <p:spPr>
          <a:xfrm>
            <a:off x="1600200" y="16761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Times New Roman"/>
                <a:ea typeface="宋体"/>
              </a:rPr>
              <a:t>DO UNTIL</a:t>
            </a:r>
            <a:r>
              <a:rPr b="0" lang="zh-CN" sz="3200" spc="-1" strike="noStrike">
                <a:solidFill>
                  <a:srgbClr val="00b0f0"/>
                </a:solidFill>
                <a:latin typeface="Times New Roman"/>
                <a:ea typeface="黑体"/>
              </a:rPr>
              <a:t>语句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格式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 UNT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pression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4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 UNTI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句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 until(count5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count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unt=count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42960" y="10000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转移语句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1599840" y="1752120"/>
            <a:ext cx="625788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OT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abel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INK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abel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OT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INK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都可以使得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M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立刻转移到标记语句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OT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INK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都被限制在同一个模块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组中，如下面两段程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4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OT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INK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程序段一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o;                           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f x&lt;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hen goto negative;          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=sqrt(x);                       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y;                         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t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                      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egative:                        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"Sorry, X is negative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    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/>
          </p:nvPr>
        </p:nvSpPr>
        <p:spPr>
          <a:xfrm>
            <a:off x="1523520" y="159984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程序段二：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f x&l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hen link negative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=sqrt(x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y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egative: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Using Abs. value of negative X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=abs(x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turn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1600200" y="1752120"/>
            <a:ext cx="55627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42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不使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OT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N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f x&l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hen print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Sorry, X is negative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lse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=sqrt(x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y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停止执行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600200" y="19807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AUS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TOP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或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BOR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可以停止执行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QUI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也是一个停止语句，不过它要求退出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M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环境。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PAUSE</a:t>
            </a: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A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 message &gt; &lt;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&gt;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恢复执行语句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SU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5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AU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句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ause *;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To suppress the display of any messages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ause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Please enter an assignment for X, then enter RESUME;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sg 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Please enter an assignment for X, then enter RESUME;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ause msg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/>
          </p:nvPr>
        </p:nvSpPr>
        <p:spPr>
          <a:xfrm>
            <a:off x="1071720" y="17571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STOP</a:t>
            </a:r>
            <a:r>
              <a:rPr b="0" lang="zh-CN" sz="3200" spc="-1" strike="noStrike">
                <a:solidFill>
                  <a:srgbClr val="0070c0"/>
                </a:solidFill>
                <a:latin typeface="Times New Roman"/>
                <a:ea typeface="黑体"/>
              </a:rPr>
              <a:t>语句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T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ABORT</a:t>
            </a:r>
            <a:r>
              <a:rPr b="0" lang="zh-CN" sz="3200" spc="-1" strike="noStrike">
                <a:solidFill>
                  <a:srgbClr val="0070c0"/>
                </a:solidFill>
                <a:latin typeface="Times New Roman"/>
                <a:ea typeface="黑体"/>
              </a:rPr>
              <a:t>语句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BOR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SAS 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数据集操作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333080" y="1695600"/>
            <a:ext cx="723924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宋体"/>
              </a:rPr>
              <a:t>打开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宋体"/>
              </a:rPr>
              <a:t>SAS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宋体"/>
              </a:rPr>
              <a:t>数据集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宋体"/>
              </a:rPr>
              <a:t>USE</a:t>
            </a:r>
            <a:r>
              <a:rPr b="0" lang="zh-CN" sz="1800" spc="-1" strike="noStrike">
                <a:solidFill>
                  <a:srgbClr val="0070c0"/>
                </a:solidFill>
                <a:latin typeface="Times New Roman"/>
                <a:ea typeface="黑体"/>
              </a:rPr>
              <a:t>语句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US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仅用于打开和读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格式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USE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AS-data-set &lt; </a:t>
            </a:r>
            <a:r>
              <a:rPr b="1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VAR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operand  &lt; </a:t>
            </a:r>
            <a:r>
              <a:rPr b="1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WHERE(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expression</a:t>
            </a:r>
            <a:r>
              <a:rPr b="1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)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1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;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宋体"/>
              </a:rPr>
              <a:t>EDIT</a:t>
            </a:r>
            <a:r>
              <a:rPr b="0" lang="zh-CN" sz="1800" spc="-1" strike="noStrike">
                <a:solidFill>
                  <a:srgbClr val="0070c0"/>
                </a:solidFill>
                <a:latin typeface="Times New Roman"/>
                <a:ea typeface="黑体"/>
              </a:rPr>
              <a:t>语句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DTI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用于读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D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-data-set &lt;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VAR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operand  &lt;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xpression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宋体"/>
              </a:rPr>
              <a:t>CREATE</a:t>
            </a:r>
            <a:r>
              <a:rPr b="0" lang="zh-CN" sz="1800" spc="-1" strike="noStrike">
                <a:solidFill>
                  <a:srgbClr val="0070c0"/>
                </a:solidFill>
                <a:latin typeface="Times New Roman"/>
                <a:ea typeface="黑体"/>
              </a:rPr>
              <a:t>语句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用于创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-data-set &lt;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VAR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operand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-data-set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RO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from-nam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            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[COLNAME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lumn-nam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OWNAME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ow-name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356840" y="928440"/>
            <a:ext cx="464364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宋体"/>
              </a:rPr>
              <a:t>编辑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宋体"/>
              </a:rPr>
              <a:t>SAS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宋体"/>
              </a:rPr>
              <a:t>数据集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142640" y="1785600"/>
            <a:ext cx="71629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使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DI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对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进行编辑，以及更新变量值，标记要删除的观测，删除已标记观测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储存修改后的结果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EDI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D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-data-set &lt;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A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operand  &lt;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pression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algn="just"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-data-se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已存在的数据集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algn="just"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pera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变量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algn="just"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press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值为真或假的表达式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/>
          </p:nvPr>
        </p:nvSpPr>
        <p:spPr>
          <a:xfrm>
            <a:off x="1499760" y="785520"/>
            <a:ext cx="7162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Times New Roman"/>
                <a:ea typeface="黑体"/>
              </a:rPr>
              <a:t>更新观测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4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更新观测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im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use 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dit 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ind all where(name={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John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}) into d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d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ist point d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ge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pla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ist point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qu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56760" y="92844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理解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IML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言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定义矩阵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/I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对矩阵作运算，这里矩阵的定义同矩阵代数中矩阵的定义一样，是一个两维的（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列）数组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/I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可以定义数值矩阵也可以定义字符矩阵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7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特殊矩阵定义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矩阵称作行向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×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矩阵称作列向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×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矩阵称作标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723888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Times New Roman"/>
                <a:ea typeface="黑体"/>
              </a:rPr>
              <a:t>删除观测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ELE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 range  &lt;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xpression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ang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观测范围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xpress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值为真或假的表达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15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.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5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5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ELETE</a:t>
            </a:r>
            <a:r>
              <a:rPr b="0" lang="zh-CN" sz="1800" spc="-1" strike="noStrike">
                <a:solidFill>
                  <a:srgbClr val="080808"/>
                </a:solidFill>
                <a:latin typeface="宋体"/>
                <a:ea typeface="宋体"/>
              </a:rPr>
              <a:t>语句正确例句。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905" name="Group 1044"/>
          <p:cNvGrpSpPr/>
          <p:nvPr/>
        </p:nvGrpSpPr>
        <p:grpSpPr>
          <a:xfrm>
            <a:off x="1600200" y="4267080"/>
            <a:ext cx="5943240" cy="1652400"/>
            <a:chOff x="1600200" y="4267080"/>
            <a:chExt cx="5943240" cy="1652400"/>
          </a:xfrm>
        </p:grpSpPr>
        <p:grpSp>
          <p:nvGrpSpPr>
            <p:cNvPr id="906" name="Group 1042"/>
            <p:cNvGrpSpPr/>
            <p:nvPr/>
          </p:nvGrpSpPr>
          <p:grpSpPr>
            <a:xfrm>
              <a:off x="1607760" y="4271760"/>
              <a:ext cx="5927400" cy="1643040"/>
              <a:chOff x="1607760" y="4271760"/>
              <a:chExt cx="5927400" cy="1643040"/>
            </a:xfrm>
          </p:grpSpPr>
          <p:grpSp>
            <p:nvGrpSpPr>
              <p:cNvPr id="907" name="Group 1031"/>
              <p:cNvGrpSpPr/>
              <p:nvPr/>
            </p:nvGrpSpPr>
            <p:grpSpPr>
              <a:xfrm>
                <a:off x="1607760" y="4271760"/>
                <a:ext cx="2892960" cy="547560"/>
                <a:chOff x="1607760" y="4271760"/>
                <a:chExt cx="2892960" cy="547560"/>
              </a:xfrm>
            </p:grpSpPr>
            <p:sp>
              <p:nvSpPr>
                <p:cNvPr id="908" name="Rectangle 1024"/>
                <p:cNvSpPr/>
                <p:nvPr/>
              </p:nvSpPr>
              <p:spPr>
                <a:xfrm>
                  <a:off x="1718640" y="4271760"/>
                  <a:ext cx="2671200" cy="54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lete;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Rectangle 1030"/>
                <p:cNvSpPr/>
                <p:nvPr/>
              </p:nvSpPr>
              <p:spPr>
                <a:xfrm>
                  <a:off x="1607760" y="4271760"/>
                  <a:ext cx="2892960" cy="54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Group 1033"/>
              <p:cNvGrpSpPr/>
              <p:nvPr/>
            </p:nvGrpSpPr>
            <p:grpSpPr>
              <a:xfrm>
                <a:off x="4501080" y="4271760"/>
                <a:ext cx="3034080" cy="547560"/>
                <a:chOff x="4501080" y="4271760"/>
                <a:chExt cx="3034080" cy="547560"/>
              </a:xfrm>
            </p:grpSpPr>
            <p:sp>
              <p:nvSpPr>
                <p:cNvPr id="911" name="Rectangle 1025"/>
                <p:cNvSpPr/>
                <p:nvPr/>
              </p:nvSpPr>
              <p:spPr>
                <a:xfrm>
                  <a:off x="4611240" y="4271760"/>
                  <a:ext cx="2812680" cy="54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宋体"/>
                    </a:rPr>
                    <a:t>删除当前观测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Rectangle 1032"/>
                <p:cNvSpPr/>
                <p:nvPr/>
              </p:nvSpPr>
              <p:spPr>
                <a:xfrm>
                  <a:off x="4501080" y="4271760"/>
                  <a:ext cx="3034080" cy="54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Group 1035"/>
              <p:cNvGrpSpPr/>
              <p:nvPr/>
            </p:nvGrpSpPr>
            <p:grpSpPr>
              <a:xfrm>
                <a:off x="1607760" y="4819320"/>
                <a:ext cx="2892960" cy="547920"/>
                <a:chOff x="1607760" y="4819320"/>
                <a:chExt cx="2892960" cy="547920"/>
              </a:xfrm>
            </p:grpSpPr>
            <p:sp>
              <p:nvSpPr>
                <p:cNvPr id="914" name="Rectangle 1026"/>
                <p:cNvSpPr/>
                <p:nvPr/>
              </p:nvSpPr>
              <p:spPr>
                <a:xfrm>
                  <a:off x="1718640" y="4819320"/>
                  <a:ext cx="2671200" cy="54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lete point 10;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Rectangle 1034"/>
                <p:cNvSpPr/>
                <p:nvPr/>
              </p:nvSpPr>
              <p:spPr>
                <a:xfrm>
                  <a:off x="1607760" y="4819320"/>
                  <a:ext cx="2892960" cy="54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Group 1037"/>
              <p:cNvGrpSpPr/>
              <p:nvPr/>
            </p:nvGrpSpPr>
            <p:grpSpPr>
              <a:xfrm>
                <a:off x="4501080" y="4819320"/>
                <a:ext cx="3034080" cy="547920"/>
                <a:chOff x="4501080" y="4819320"/>
                <a:chExt cx="3034080" cy="547920"/>
              </a:xfrm>
            </p:grpSpPr>
            <p:sp>
              <p:nvSpPr>
                <p:cNvPr id="917" name="Rectangle 1027"/>
                <p:cNvSpPr/>
                <p:nvPr/>
              </p:nvSpPr>
              <p:spPr>
                <a:xfrm>
                  <a:off x="4611240" y="4819320"/>
                  <a:ext cx="2812680" cy="54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宋体"/>
                    </a:rPr>
                    <a:t>删除第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宋体"/>
                      <a:ea typeface="Times New Roman"/>
                    </a:rPr>
                    <a:t>10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宋体"/>
                    </a:rPr>
                    <a:t>个观测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Rectangle 1036"/>
                <p:cNvSpPr/>
                <p:nvPr/>
              </p:nvSpPr>
              <p:spPr>
                <a:xfrm>
                  <a:off x="4501080" y="4819320"/>
                  <a:ext cx="3034080" cy="54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Group 1039"/>
              <p:cNvGrpSpPr/>
              <p:nvPr/>
            </p:nvGrpSpPr>
            <p:grpSpPr>
              <a:xfrm>
                <a:off x="1607760" y="5367240"/>
                <a:ext cx="2892960" cy="547560"/>
                <a:chOff x="1607760" y="5367240"/>
                <a:chExt cx="2892960" cy="547560"/>
              </a:xfrm>
            </p:grpSpPr>
            <p:sp>
              <p:nvSpPr>
                <p:cNvPr id="920" name="Rectangle 1028"/>
                <p:cNvSpPr/>
                <p:nvPr/>
              </p:nvSpPr>
              <p:spPr>
                <a:xfrm>
                  <a:off x="1718640" y="5367240"/>
                  <a:ext cx="2671200" cy="54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lete all where (age&gt;12);</a:t>
                  </a: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Rectangle 1038"/>
                <p:cNvSpPr/>
                <p:nvPr/>
              </p:nvSpPr>
              <p:spPr>
                <a:xfrm>
                  <a:off x="1607760" y="5367240"/>
                  <a:ext cx="2892960" cy="54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Group 1041"/>
              <p:cNvGrpSpPr/>
              <p:nvPr/>
            </p:nvGrpSpPr>
            <p:grpSpPr>
              <a:xfrm>
                <a:off x="4501080" y="5367240"/>
                <a:ext cx="3034080" cy="547560"/>
                <a:chOff x="4501080" y="5367240"/>
                <a:chExt cx="3034080" cy="547560"/>
              </a:xfrm>
            </p:grpSpPr>
            <p:sp>
              <p:nvSpPr>
                <p:cNvPr id="923" name="Rectangle 1029"/>
                <p:cNvSpPr/>
                <p:nvPr/>
              </p:nvSpPr>
              <p:spPr>
                <a:xfrm>
                  <a:off x="4611240" y="5367240"/>
                  <a:ext cx="2812680" cy="54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宋体"/>
                    </a:rPr>
                    <a:t>删除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宋体"/>
                      <a:ea typeface="Times New Roman"/>
                    </a:rPr>
                    <a:t>AGE&gt;12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宋体"/>
                    </a:rPr>
                    <a:t>的所有观测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Rectangle 1040"/>
                <p:cNvSpPr/>
                <p:nvPr/>
              </p:nvSpPr>
              <p:spPr>
                <a:xfrm>
                  <a:off x="4501080" y="5367240"/>
                  <a:ext cx="3034080" cy="54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25" name="Rectangle 1043"/>
            <p:cNvSpPr/>
            <p:nvPr/>
          </p:nvSpPr>
          <p:spPr>
            <a:xfrm>
              <a:off x="1600200" y="4267080"/>
              <a:ext cx="5943240" cy="1652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/>
          </p:nvPr>
        </p:nvSpPr>
        <p:spPr>
          <a:xfrm>
            <a:off x="1523880" y="137160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6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当一个文件的许多观测被删除后，可以使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URG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对观测进行重新排序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i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se class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dit class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nd all where(name={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Joh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) into d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d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elete point d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st all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urge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st all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99680" y="856800"/>
            <a:ext cx="464364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SAS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数据集排序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356840" y="185688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直接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数据集排序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lose class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ort class out=sorted by descending name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how names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ort class by name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由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SAS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数据集创建矩阵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000080" y="178560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A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读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并创建矩阵。注意，要读的数据集必须已经打开。使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DI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可以打开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。如果打开了多个数据集，可以使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TI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指向需要的数据集，使得它成为一个当前输入数据集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 range  &lt;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A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operand  &lt;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pression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       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T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ang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观测范围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pera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变量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press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值为正确或错误的表达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要创建矩阵的名称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/>
          </p:nvPr>
        </p:nvSpPr>
        <p:spPr>
          <a:xfrm>
            <a:off x="1600200" y="1219320"/>
            <a:ext cx="7238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5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VAR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从句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A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im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eflib=ResDat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use 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ist all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ist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ad all var {age height weight}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how name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前面两个语句也可写成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use class var{age height weight}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ad all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59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VAR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NT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从句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A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ad all var _num_  into x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x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/>
          </p:nvPr>
        </p:nvSpPr>
        <p:spPr>
          <a:xfrm>
            <a:off x="1523520" y="1599840"/>
            <a:ext cx="723924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A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从句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ad all var _num_ into female where(sex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F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female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ad all var{name} into j where(name=: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J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j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句创建一个包含姓名以子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J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开始的学生信息矩阵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ad all var{name} into al where(name?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Al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al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句创建一个包含姓名含有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l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字符串的学生信息矩阵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由矩阵创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SAS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数据集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071360" y="1928520"/>
            <a:ext cx="6553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PPE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从一个矩阵创建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，矩阵的列变成数据集的变量，矩阵的行变成数据集的观测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因而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×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矩阵变成一个含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个变量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个观测的数据集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打开一个新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作为输入和输出对象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PPE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把数据写到数据集后面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带有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FROM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选项的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CREATE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-data-se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RO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atrix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         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[COLNAME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lumn-nam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OWNAME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ow-nam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-data-se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要创建的数据集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atri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包含数据的矩阵名；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lumn-na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数据集中的变量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ow-na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数据集中增加一个包含行标题的变量名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/>
          </p:nvPr>
        </p:nvSpPr>
        <p:spPr>
          <a:xfrm>
            <a:off x="1676160" y="1599840"/>
            <a:ext cx="647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RO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创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i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se class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ad all var {age height weight}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twt=height/weight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how names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 ratio from htwt[colname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htwt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]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pp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from htwt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how datasets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how contents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lose ratio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Text Box 4"/>
          <p:cNvSpPr/>
          <p:nvPr/>
        </p:nvSpPr>
        <p:spPr>
          <a:xfrm>
            <a:off x="1619280" y="1214280"/>
            <a:ext cx="662472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SYMBOL   ROWS   COLS TYPE   SIZE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------ ------ ------ ---- ------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AGE            19      1 num       8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HEIGHT     19      1 num       8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HTWT        19      1 num       8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WEIGHT    19      1 num       8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Number of symbols = 6  (includes those without values)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LIBNAME  MEMNAME                          OPEN MODE   STATUS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-------- -------------------------------- ---------   --------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WORK     CLASS                            Input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WORK     RATIO                            Update      Current Input/Output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DATASET : WORK.RATIO.DATA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VARIABLE                          TYPE  SIZE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--------------------------------  ----  ----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htwt                              num      8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Number of Variables   : 1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Number of Observations: 19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42960" y="9284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矩阵名字与标识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600200" y="2285640"/>
            <a:ext cx="7238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矩阵名字是一个合法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名字，不能超过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字节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矩阵标识是由它的值表示的矩阵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2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矩阵名举例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,  XX,  MATRIX1.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矩阵标识举例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00, .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I, {1 2 2 8 8 }, {3, 3, 6,6}.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带有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VAR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从句的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CREATE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1600200" y="2133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用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A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从句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创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数据集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 ratio2 var{name htwt}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pp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how contents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lose ratio2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WordArt 2"/>
          <p:cNvSpPr txBox="1"/>
          <p:nvPr/>
        </p:nvSpPr>
        <p:spPr>
          <a:xfrm>
            <a:off x="1214280" y="342900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4ab1e4"/>
                </a:solidFill>
                <a:effectLst>
                  <a:outerShdw dist="53966" dir="2700000" blurRad="0" rotWithShape="0">
                    <a:srgbClr val="080808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4ab1e4"/>
              </a:solidFill>
              <a:effectLst>
                <a:outerShdw dist="53966" dir="2700000" blurRad="0" rotWithShape="0">
                  <a:srgbClr val="080808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由矩阵标识创建矩阵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619280" y="22093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Times New Roman"/>
                <a:ea typeface="黑体"/>
              </a:rPr>
              <a:t>创建标量矩阵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创建标量矩阵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i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e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eflib=ResDat;  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IML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03:57:00Z</dcterms:created>
  <dc:creator>微软用户</dc:creator>
  <dc:description/>
  <dc:language>en-US</dc:language>
  <cp:lastModifiedBy>RESSET</cp:lastModifiedBy>
  <dcterms:modified xsi:type="dcterms:W3CDTF">2013-02-21T03:04:42Z</dcterms:modified>
  <cp:revision>614</cp:revision>
  <dc:subject/>
  <dc:title>第1章 SAS软件入门</dc:title>
</cp:coreProperties>
</file>