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EC5D-EF14-4730-9CBB-591A556872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E61D-3AD1-4771-A3E0-DF80E6B91A29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32F-DB9E-4390-BB7A-AF4A7EA1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7C0-D057-47B7-970A-C7C7E053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F655B-E08E-442D-BA0E-4A6A053B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145EA-5E4D-41CB-8583-97468032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91F11-DE49-4156-888A-39DF9B12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5BB83-5467-4773-A6C6-DE07CF94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DCF21-C2AF-4F1C-9C3F-C8A278A5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1643C-CDD0-4C59-8464-451C0D50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D4A2E-F68C-420E-881A-66AD0E48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F7D79-125D-4E08-9F4C-01509AEB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5D987-6255-4D13-BCCA-C04C3B10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20943-03C6-49D4-9590-717F3093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FE1-20A9-4297-AC65-9266C6D1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8AEFF-E7DC-4E42-B794-38561AA1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2DE25-D482-4107-8D8F-4EFEBC0C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2BB59-0E87-4956-829C-45A015CB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1A3EE-C1B1-4A73-BDD5-3502DB30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EFE65-FD27-4EDB-A5C4-C1FA55D0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6C20D-595A-40BE-AD30-81A3B926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B9993-6F99-488B-8BCD-579F1F15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BB1D4-1384-4F8D-99E4-31771EC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46F17-7498-4E6C-956E-77231E24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45D20-C382-41E4-8F79-63584DB8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D7F-8633-4B8A-BF78-5C930DCB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EDEC3-2B9F-43F0-907A-9B5A718B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7EF8D-95B1-490D-9621-184B2B76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12183-B00F-43CF-A3D1-EB5C0959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C8DB6-8171-4191-B1B5-18087BB3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97FF6-D7A1-4133-BE4C-E628BC17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31785-075F-4D29-A62E-D458F692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DB96C-AFC0-45FC-874B-D6D3A174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85AE9-8DDD-4DB4-BF40-4ED8C4C4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11BD2-E8C5-497B-BB0D-06D9180C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CC606-7FD1-4749-B0B0-157D0701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767A-083E-4997-AE45-3433AF9F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CEA75-8DDB-4A7A-939F-EC6A1B82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7F7AC-6107-4FA1-8414-474467A4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E3A77-70DC-49E8-AE4B-B0CFADF9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5E9FD-59E0-493E-81AF-27CE2702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97AE6-6733-4E54-9A5B-3F9A0BA3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71993-4685-4A86-B8E4-05694138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5283E-FE47-4050-94EF-1FA9F0D1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1E013-34E9-4B3F-A30A-44568995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A8193-5E23-4BC0-A438-6311E9F5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F5B59-92D7-43A1-BCED-C8399FF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7C4D-185A-4212-8239-A5BE3D4A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DDE7B-3855-4256-89FB-495C03F1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35DBC-930B-43B6-97F4-6D0E1FBA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585A2-4EB8-4058-A4C1-17E6AFB7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EF2DF-7F57-43BC-8D94-5BF3BCF8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730B6-F7E6-4A1B-886D-034E70F8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24916-57A4-4A39-98CB-934C399E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79921-1720-4B0C-95D7-5F6E93B0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F5177-AE5C-4501-B844-C04A65A4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2547D-17B7-4E85-9362-BB81534B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3511B-CDF8-4FEF-AB1A-BD00F829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63CC-FCC4-4B1C-83A0-9F5AA998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A393B-0F19-49C1-A895-D939AB87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F62AB-58D3-419F-9625-AC6E82D3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F9F2F-EB8D-4B1C-A0B2-965569D2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D9AAD-D302-496A-9EA6-534F8C0D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A7B39-71D3-499F-A743-9A46B89C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BF730-D3F4-4488-900D-BED1B98F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6017D-7AFA-462C-B1F3-1564DCC7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222F-F18D-430F-BF52-AB868E38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A77A-618F-4439-8940-8ADEF642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0FE0-C45D-49D4-9E75-3582DE5F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F1EB-C19A-4D71-9181-592188C4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8E9-3EA2-4B36-9AEB-BDAA7226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D126-0EE9-4C15-B769-C68BCD86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123A-9330-4DDF-A535-F46FE297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D2FA-F5D4-4DEA-BE09-33F65842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A726-3E9B-4BB1-87B0-BAAC3765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2465-8B9D-4349-9C36-FA60755E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A09C-FFA2-4002-83A9-4E5C1F2A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4C482-4F8F-45F4-9BC0-7F66F5A7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915A5-E4D2-494A-9B49-92B0577F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71C95-D75B-4B1F-B090-41089290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D6A9A-84D3-4920-9C60-0E0A28F9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D28-6A6B-49A7-80E3-2E90916B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EF57-FEAE-4B97-BE5E-A13B15D0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EF28D-3E61-4130-8486-63F7FFCE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3A18-01C7-4726-A1B8-ABB20AC2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595B-1458-4FEC-8D0A-37E90C99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DEFE-9C83-4F0A-A168-05014613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FB34-9165-45E7-83C4-E46BCE81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5E69-AA5C-4C5B-8AF8-4EF07373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046CC-726C-45D4-9A9F-9E327AA6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0C0CE-1AA9-46D3-8C4E-B9465ED6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33FF3-026A-4CBA-A2A1-6D469D16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AAE-CF71-4309-9C58-8DB869EB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1070-E3EF-45B0-A2A7-048E0473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62F01-D715-4A63-91BC-650B9CA2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6EAA8-1DFC-4F0B-ACF1-55D5BF4B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66AF1-E5A6-4E51-BCC5-00B91B90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50FC-4C10-430A-8FAD-3D9C5438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2328-72E0-4E0E-86BF-9234283F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4228F-D96B-4E5A-973B-C6E5347A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5A82D-01B0-4BA7-900F-3480CD6C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85E1-9D30-4E3F-BFC7-2F9BDF47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E8833-CE24-4990-A626-8C839A31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B68-63DE-4112-BAC4-8CD92ADB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D2709-F3B6-41A0-8A8F-381341C9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A0A57-5503-429F-8B71-2F19B343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814A7-2C22-494A-A355-112CDF6C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A268E-C0BE-4281-ACAA-F8E6642C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DD6B3-D266-499E-A5E3-5905A6F5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8366E-8ADC-460A-8515-1F10B5A8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5A7ED-3BAC-4B39-8D01-2FAF0242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C3C7A-F2D3-4C09-86AA-BA1EC7D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BF1F6-5286-43A4-9FB2-3C722085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85ADC-A253-427F-A7E9-355AF937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71F-4ACF-469E-8BF8-0E4600CE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45BB-6CA7-4C41-8D91-FA9DD89B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CE225-9274-4F87-82D5-3A883BA5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753E9-471B-44C7-A948-53DD3557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B1501-5925-42FD-911C-4AD43CE9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69FC2-B34C-48BB-8749-D314F9BD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3B601-60F2-43D2-8C3B-93E60E1A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A160C-51DE-4841-AEC7-EFBD0339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402E7-DF07-4902-80B0-1531B902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F79CC-DADC-44D6-98C0-DC32DA95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6FC47-51DF-445E-93C4-F1C742B7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369-7857-4E07-BF69-FCFE1FB2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415CC-BC23-4037-B4F7-1F4EBC8C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93D30-D95B-4DAF-8FDF-960B9410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73E0B-31B1-44A2-A951-19ED39AE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DC98A-781A-465E-A9EE-A28987A2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6AD1D-56B8-4743-8C4B-6E78B6DF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2A026-5ACF-47A0-88A1-DFDFDB34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3EBC8-B2FE-485A-87D8-54D6912F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12760-2229-4C75-86E7-B76ACBB9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FA28B-6EE6-4497-8E0F-1909DC40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197AA-F348-457C-A8C1-170ED018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11D-BC13-4DBE-9E14-579DF57E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1DBAF-2DA5-4E7C-8CB8-07EE854F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EECC6-8CFF-4DE3-A5A7-7EC1EED3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57936-74E8-42F1-AD4E-AF58378F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50EB6-5AC3-4441-9C9D-ED6BB034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4E960-C0AF-4B21-AAD2-DA0CF55C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12C29-C3E7-4937-B657-02DC36D3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560F4-C1D2-4636-9F7D-0F4E5D34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84A34-9811-4C44-88C6-3DA59D86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85E1A-5AD1-4886-85F9-ABD8AB6A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2043C-66BE-44FE-B9AC-2A7BD55A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6D2-6D81-4FAC-B458-0B24BF75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A3C95-94EC-4F74-B250-638E1EE1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0CCE8-EEBF-4539-AB73-57865A67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CE4FD-06A3-452D-B8E4-1EE58AED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92F2D-9361-4A1C-95F5-F1BC6A0F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10FE4-2E9C-4E5B-BDF2-83E6D66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0C5FD-D804-4DAF-AEF4-52DDD7E9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1C16A-1B78-442D-8E5D-53C7AD32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A9296-F93A-4FE4-AF9A-4CD03EA6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BCD5E-154E-4CFF-B410-FEAE0088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AFCFB-454B-4E7E-B565-CB14550F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FA3A-2640-42CF-B2D7-E8F809991C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3EA9-348D-42B7-91EC-F52398C4ED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0BF1-57C5-4F8F-BC9B-6EF6FFD142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F3E7-4471-496A-AC06-0C00BD61D7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557B-D253-4B1E-8997-D1F5946864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E206-7692-44F5-AF2D-B50CB92B48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63ED-0837-4B7A-ACA7-03C67BD4A8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9FAC-A50D-4C2A-BCB2-7547656324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FC6C-8AA0-439D-86BD-878CA820AD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47F4-E04E-474A-87B6-B87DA74519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ED8B-26A7-4976-BB85-ABD33602A9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68BF-7714-44BE-AE7C-CD4E82347B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6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常用函数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112536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显示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函数值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331640" y="2491920"/>
            <a:ext cx="698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概率值和分位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probnorm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.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标准正态分布小于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.96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概率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1=tinv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9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自由度为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t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分布的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.95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分位数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2=tinv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9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自由为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非中心参数为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t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分布的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.95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分位数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q1= q2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Text Box 0"/>
          <p:cNvSpPr/>
          <p:nvPr/>
        </p:nvSpPr>
        <p:spPr>
          <a:xfrm>
            <a:off x="3708360" y="5373720"/>
            <a:ext cx="4248360" cy="61020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.9750021049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q1=2.9199855804 q2=13.894376071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71720" y="99972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日期时间函数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期和时间存贮标准是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为起点，然后以相应的间隔记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6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年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日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分，按日记的数值就是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按小时记的数值就是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6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年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日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分，按日记的数值就是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按小时记就是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2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等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日期函数是一类非常重要的函数，特别是对金融数据处理和金融计算，借助日期函数可以极大提高效率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600200" y="914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6.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两个日期之间的天数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dat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2'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dat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3'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=datdif(sdate, edate,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ct/ac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按每个月的实际天数算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ys360=datdif(sdate, edate,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30/360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按每个月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30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天计算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ctual=  days360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=datdif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2'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3'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ct/ac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ys360=datdif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2'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3'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30/360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ctual=  days360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两段程序的结果一样。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ctual=365, days360=360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71720" y="999720"/>
            <a:ext cx="7500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1071720" y="857160"/>
            <a:ext cx="72388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6.9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计算两个日期之间的年数。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null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ate=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'16oct1998'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ate=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'16feb2003'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30360=yrdif(sdate, edate,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30/360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30/360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规定求年数的标准 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ctact=yrdif(sdate, edate,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CT/ACT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ct360=yrdif(sdate, edate,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CT/360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ct365=yrdif(sdate, edate,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CT/365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30360=  yactact=  yact360=  yact365=;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8" name="TextBox 5"/>
          <p:cNvSpPr/>
          <p:nvPr/>
        </p:nvSpPr>
        <p:spPr>
          <a:xfrm>
            <a:off x="2643120" y="5429160"/>
            <a:ext cx="4714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9" name="矩形 6"/>
          <p:cNvSpPr/>
          <p:nvPr/>
        </p:nvSpPr>
        <p:spPr>
          <a:xfrm>
            <a:off x="3500280" y="4929120"/>
            <a:ext cx="4572000" cy="142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y30360=4.333333333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yactact=4.336986301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yact360=4.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yact365=4.339726027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0" name="TextBox 7"/>
          <p:cNvSpPr/>
          <p:nvPr/>
        </p:nvSpPr>
        <p:spPr>
          <a:xfrm>
            <a:off x="1643040" y="5357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结果显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294920" y="121896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1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以日为单位计算当前日期的天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date (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today(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  y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E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DAY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一样，都是返回当天的天数。当然，也可以用一定的日期格式表示它们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date (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today(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x y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yymmdd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 y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2" name="Rectangle 0"/>
          <p:cNvSpPr/>
          <p:nvPr/>
        </p:nvSpPr>
        <p:spPr>
          <a:xfrm>
            <a:off x="4788000" y="1989000"/>
            <a:ext cx="2881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果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x=17232 y=17232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Rectangle 1"/>
          <p:cNvSpPr/>
          <p:nvPr/>
        </p:nvSpPr>
        <p:spPr>
          <a:xfrm>
            <a:off x="5064120" y="4869000"/>
            <a:ext cx="2997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果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x=2007-03-07 y=2007-03-07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1142640" y="856800"/>
            <a:ext cx="7358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以秒为单位计算当前的日期和时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=datetime(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=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datetime (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atetime20.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datetime20.4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日期时间变量输出格式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datetime (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y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y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nldatm2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nldatm20.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日期时间变量输出格式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=time(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m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=time(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z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z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hhmm8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402920" y="1557360"/>
            <a:ext cx="61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.12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日期值所在的年季月以及处于某月的第几天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stk000001 (ob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year qtr month day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ear=year (dat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tr=qtr (dat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nth=month (dat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y=day (dat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Text Box 0"/>
          <p:cNvSpPr/>
          <p:nvPr/>
        </p:nvSpPr>
        <p:spPr>
          <a:xfrm>
            <a:off x="5429160" y="2928960"/>
            <a:ext cx="3384720" cy="365076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80808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80808"/>
                </a:solidFill>
                <a:uFillTx/>
                <a:latin typeface="Times New Roman"/>
              </a:rPr>
              <a:t>Date              year    qtr    month    da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991-01-02    1991     1       1        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991-01-03    1991     1       1        3                                            1991-01-04    1991     1       1        4                                            1991-01-05    1991     1       1        5                                            1991-01-07    1991     1       1        7                                            1991-01-08    1991     1       1        8                                            1991-01-09    1991     1       1        9                                            1991-01-10    1991     1       1       10                                            1991-01-11    1991     1       1       11                                            1991-01-12    1991     1       1       1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1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将日期时间值换算为以秒计数的计算方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dy=mdy (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dy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dy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yymmdd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ms=hms (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ms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hms=dhms (date (),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hms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hms=dhms (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526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hms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526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6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+x;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5715000" y="3809880"/>
            <a:ext cx="274320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结果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mdy=2001-08-18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hms=78651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x=78651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dhms=1347832251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dhms=1318801851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y=1318801851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2438280" y="2362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概率分布函数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02920" y="11966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标准正态分布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547280" y="22046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BNORM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X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标准正态分布随机变量小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概率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1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三个特殊的正态概率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1=probnorm(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2=probnorm(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.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3=probnorm(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.575829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1= P2= P3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Text Box 1"/>
          <p:cNvSpPr/>
          <p:nvPr/>
        </p:nvSpPr>
        <p:spPr>
          <a:xfrm>
            <a:off x="5724360" y="4292640"/>
            <a:ext cx="309564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结果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1=0.5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2=0.9750021049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3=0.9949999999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500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定义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自变量与结果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分类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日期时间函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常用概率分布函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分位数函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样本统计函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随机数函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 Call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程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样本统计函数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75792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样本统计函数在实际中的用处不是很大，因为应用这些函数时，一定要把样本的观测数据放在同一行才可以，现实中样本的观测数据却往往是按一列一列排的。一般情况下，求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样本统计函数值时要用别的方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样本统计量函数共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均值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642680" y="1785600"/>
            <a:ext cx="59245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of xl-xn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z, …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非缺失自变量的算术平均。自变量中至少有一个非缺失值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求和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356840" y="1785960"/>
            <a:ext cx="67150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of xl-xn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x1,x2, …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自变量的和。要求有两个以上自变量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方差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00120" y="178560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of xl-xn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x1,x2, …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自变量中非缺失值的方差。要求至少有两个自变量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随机数函数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643040" y="1999800"/>
            <a:ext cx="585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提供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种随机数函数。由于随机数函数是进行随机模拟的基础，这里我们通过例子，给出每种随机数发生程序，供读者参考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正态分布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71720" y="1856880"/>
            <a:ext cx="535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6.27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用函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ANNOR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正态分布随机数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V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retain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赋初值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0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给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_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seed_*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u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igma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_i_ =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rmal1 = mu + sigma * rannor(_seed_)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均值为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mu,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标准差为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sigma*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_i_  mu sigm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7072200" y="1785960"/>
          <a:ext cx="928800" cy="388620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364320">
                <a:tc>
                  <a:txBody>
                    <a:bodyPr lIns="72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Normal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-0.972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88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-0.7000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-2.3400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-0.1093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-0.0188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-0.6415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0.81876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0.22110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52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6.2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函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ORMA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正态分布随机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V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u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gma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_ =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rmal1 =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* normal(_seed_);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均值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mu,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标准差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igma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_i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均匀分布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72392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6.2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函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ANUNI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均匀分布随机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V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_ =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niform1 = a + (b-a) * ranuni(_seed_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区间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[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, b]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上的均匀分布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_seed_  _i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6.3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函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NIFORM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均匀分布随机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V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_ =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niform1 = a + (b - a) * uniform(_seed_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区间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[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, b]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上的均匀分布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_i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随机数函数自变量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SEED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23888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随机数函数使用一个自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来选择产生随机数的初始种子值，由这个值开始产生随机数流。自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取值和初始化类型如下表列出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.4   SE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取值与初始化类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92" name="Object 2"/>
          <p:cNvGraphicFramePr/>
          <p:nvPr/>
        </p:nvGraphicFramePr>
        <p:xfrm>
          <a:off x="2071800" y="3286080"/>
          <a:ext cx="5072040" cy="150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3286080"/>
                    <a:ext cx="507204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Text Box 5"/>
          <p:cNvSpPr/>
          <p:nvPr/>
        </p:nvSpPr>
        <p:spPr>
          <a:xfrm>
            <a:off x="1714680" y="4952880"/>
            <a:ext cx="659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随机数的过程中，自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值保持不变，种子则不断变化。所以，用随机函数产生随机数时，不能控制种子的值，因此也不可能控制初始化之后的随机数。如果要控制随机数流，就要用随机数函数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程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00080" y="1000080"/>
            <a:ext cx="723888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SAS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函数定义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428480" y="1999800"/>
            <a:ext cx="59245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是一个子程序，对自变量返回一个结果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的形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1, X2, …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28800" y="9284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SAS CALL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子程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331640" y="2852640"/>
            <a:ext cx="629604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提供一系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，用于产生随机数或执行其它的系统功能，详见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随机数子程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143000" y="1785960"/>
            <a:ext cx="723888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随机数子程序可以更好地控制种子流和随机数流。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RMA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NIFOR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两个函数之外，所有随机数函数都有一个相应的子程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激活随机数子程序的格式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utine (seed, &lt;argument, &gt;variate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时，首先要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E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赋初值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时产生几个随机数流时，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比用随机函数的效果更好。因为，用随机数函数同时创建的多个随机数变量都属于同一个随机数流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99" name="Object 2"/>
          <p:cNvGraphicFramePr/>
          <p:nvPr/>
        </p:nvGraphicFramePr>
        <p:xfrm>
          <a:off x="2214720" y="3571920"/>
          <a:ext cx="4071960" cy="135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3571920"/>
                    <a:ext cx="40719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1294920" y="1066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6.38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随机函数产生两个随机数变量属于同一个随机数流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V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seed1  seed2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6132180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1= ranuni(seed1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2= ranuni(seed2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cente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E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E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初值相同，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第一个观测值却不相同。因为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E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在这里不起作用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第一个值并不是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E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的，而是产生第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后一个新种子的结果。所以，这里产生的两个随机数变量属于同一个随机数流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4114800" y="2743200"/>
            <a:ext cx="502920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结果显示：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bs      seed1        seed2      I       x1         x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    161321804    161321804    1    0.43617    0.64888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161321804    161321804    2    0.34138    0.42729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3     161321804    161321804    3    0.43237    0.63834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4     161321804    161321804    4    0.74690    0.8971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     161321804    161321804    5    0.13630    0.1903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990360" y="11426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3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产生两个独立的种子流和随机数流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V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ed3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613218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seed4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352798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anuni(seed3, X3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anuni(seed4, X4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产生两个独立的种子流和随机数流。因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ED3=SEED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所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的随机数流就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成的随机数流。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随时可以看到当前的种子值，用随机数函数则看不到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4" name="Text Box 4"/>
          <p:cNvSpPr/>
          <p:nvPr/>
        </p:nvSpPr>
        <p:spPr>
          <a:xfrm>
            <a:off x="3962520" y="2743200"/>
            <a:ext cx="48765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结果显示：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Obs       seed3         seed4      I       X3         X4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1      936674311     724196333    1    0.43617    0.3372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2     1393460745    1733883844    2    0.64888    0.8074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3      733112270    1200908019    3    0.34138    0.5592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4      917607517     674688435    4    0.42729    0.31418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5      928513130    1646762308    5    0.43237    0.7668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357200" y="571320"/>
            <a:ext cx="7467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9a55"/>
                </a:solidFill>
                <a:latin typeface="Times New Roman"/>
                <a:ea typeface="宋体"/>
              </a:rPr>
              <a:t>函数用于组合表达式可以简化编程和统计计算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95280" y="1642680"/>
            <a:ext cx="7391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中用函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(keep=date y d min)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保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e, y, d, min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四个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year(date);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函数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ear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给出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e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年份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=weekday(date)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函数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weekda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给出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e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在一周内的哪一天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in=min(sum(oppr, hipr, lopr,clpr),1000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2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条件语句中使用函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(date)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Where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中使用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ear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函数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9a55"/>
                </a:solidFill>
                <a:latin typeface="Times New Roman"/>
                <a:ea typeface="宋体"/>
              </a:rPr>
              <a:t>用函数处理多变量可以简化程序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6288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与不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时的程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不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tx=xl+x2+x3+x4+x5+x6+x7+x8+x9+x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tx&lt;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east=tot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east=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ast=min(sum(of x1-x10),y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两段程序的结果相同，第二段只有一个语句，非常简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函数自变量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71760" y="1357200"/>
            <a:ext cx="72388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自变量类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名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.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及其自变量类型举例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1785960" y="4071960"/>
          <a:ext cx="6500880" cy="2487600"/>
        </p:xfrm>
        <a:graphic>
          <a:graphicData uri="http://schemas.openxmlformats.org/drawingml/2006/table">
            <a:tbl>
              <a:tblPr/>
              <a:tblGrid>
                <a:gridCol w="2994120"/>
                <a:gridCol w="3506760"/>
              </a:tblGrid>
              <a:tr h="4118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函数举例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自变量类型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ax(X,Y);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变量名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X=Repeat(‘---‘, 20)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常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96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Least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＝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in(sum(of x1-x10),y)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；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变量名和函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0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um=sum((if x1&gt;0), (if x2&gt;0))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表达式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变量个数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些函数不需要自变量，有些只需要一个自变量，有些函数有多个自变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9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自变量个数不能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76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函数的自变量是表达式，在函数被调用之前，所有表达式自变量首先计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变量表示法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函数有多个自变量时，必须用逗号分隔开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变量名缩写方法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 )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1219320" y="14475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.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确与错误的表示方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6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自变量的缩写方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y1-y10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数组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{10}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sum (of y{*}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=sum (of y1-y10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两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的表示法是等价的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5" name="Object 2"/>
          <p:cNvGraphicFramePr/>
          <p:nvPr/>
        </p:nvGraphicFramePr>
        <p:xfrm>
          <a:off x="1643040" y="2071800"/>
          <a:ext cx="5672160" cy="181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2071800"/>
                    <a:ext cx="567216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函数结果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27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常函数的结果由其自变量的属性决定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变量是字符时结果变量为字符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变量是数值时结果变量为数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是一个例外，它不管自变量是什么类型，其结果总是字符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缺省规则，对大多数函数来说，数值目标变量的长度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字符目标变量的长度没有缺省规则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变量长度不用缺省规则的函数见课本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18T06:01:42Z</dcterms:modified>
  <cp:revision>423</cp:revision>
  <dc:subject/>
  <dc:title>第1章 SAS软件入门</dc:title>
</cp:coreProperties>
</file>