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ED15-D238-42C4-967C-C934EC0526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9CE7-49F9-4AA3-996D-A38554E5A2E3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2DC-5F88-49EA-A0DE-E2F6EF7F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C41-586E-4FC9-B399-7FEB87A1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952F8-08D7-4767-A5BC-B409AAF0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0B8C0-1F46-4E6D-A415-62994E89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739A6-B6B9-45BC-8C09-CDBDE17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EE5D6-8F7F-4AF7-A5B2-C0A796FD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DE87A-7475-46C1-886B-9ED08ADB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6B04E-8553-4134-B7F0-A0C633A7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EE6D5-6785-4B3D-A41C-3A3E17FB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9012F-D782-4DDE-A6D0-ACCFB7D4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C411A-80A1-41C0-BFC8-89D68220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13220-A30A-4DA5-A826-1F9758FD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EFD-9734-4624-B8B2-96016F39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80BAC-FE40-42F7-9D03-890AE12B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99C29-284D-425E-AFC5-0083DE58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61E84-D87C-49F5-B82A-E33296CD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63315-7EB2-486F-A149-6B8226E4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16C73-085B-4996-957E-7119A94C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A9B89-43EF-4604-BC4D-45740F8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9626F-4CB3-4B7D-BB6A-D3C8B80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F77B-8F27-4E72-8434-5A33B19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7B026-C081-4025-A2F6-46D576A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D3412-B9D8-4155-AD21-BF722984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EFC-DFC0-44F2-A5AE-798915AF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E2E1B-2F66-4DB7-8206-7278E7F7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E50EC-6F85-47E1-9748-55136FE0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5FF31-AB90-4CB7-96AE-1CEFB3CE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515F0-294F-4A32-B58C-B16601B2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1553C-F4A0-4F7E-B602-864EA086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E6560-E08E-4400-8C92-7473F33C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C785E-A1A2-46F1-ADBF-A951D884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F5CFA-E04B-475E-94B8-81BD94F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78580-B4A3-455F-80D8-742135AE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B8163-8E5A-4B63-9DDF-7BBBEBA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BA79-C8D9-4B47-8A56-4CB8BFBB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26CA8-3E72-4ACA-AD85-0E3C9550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10524-4C6C-48AD-95B0-0E49A1F1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4FF8-08CE-40C9-885A-3EA2EAEF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0DB0C-6B5F-48B5-A456-CECB1970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10D04-6F94-4A61-ADFE-CC1DB5B0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F708D-BD35-4F9A-A9BA-3AC423CC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E508E-17F2-4D0C-AC84-1917F642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D5B91-0799-4A00-8784-5A31F7E4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6E6EA-13F9-435D-A5B8-F52CBC84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94267-2CFB-4D9D-A79A-8ADA69F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79D6-2560-4700-90C8-EBA6979D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19E28-69B5-40AF-9018-F5494942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69032-7C61-4295-BE20-9B48EA8D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BEEDA-916C-45E9-9D71-0CE30768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81296-7F46-49A4-AEAD-E3A0C0D2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1EA7F-FC6C-4CC8-819A-21394CF2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E601A-9617-4A74-AF06-3DA0C094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BB75E-634F-431E-A7D5-0FBB134E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D0D1F-E7C4-4FFC-8F2D-F2922FFE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12C1B-0E88-4B8C-9568-61B02772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C0B7A-E2E0-4EBE-8AA0-F16651E9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511B-02DE-44FA-9486-74811199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8B08F-B533-4C57-BD9A-A1B5D055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F5E31-B661-4404-811D-7F2452DB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3293D-3032-4FA7-863B-134D308D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AEE40-CA4C-4766-8B32-B0777612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71040-FAFB-44CA-8077-3828BE7C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6C8B4-8F76-4AA6-AE44-F346E6CC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118BF-5D3A-4E29-AD76-CC109152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0C31-E198-4C20-B34C-1B02E2AB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3B9E-9919-4D00-978B-D00EE05B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9417-FB8E-4A60-A2BF-D7CBB212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9854-7E6C-4F11-841F-8AADCA61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454-C774-49F1-B03D-745CBDD7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DCA5-E195-4778-928E-13D0947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0767-9A85-4F50-958E-FF27ED0A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3059-3695-4602-B9AC-627301BB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D455-6431-487F-92D1-5EC0AF0B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1BBC-B26D-4B8F-B83B-9F7C3593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EC51-D53D-4790-A4AC-3DC83FDF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DC1A-983B-435E-AFA5-8215AF87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5BAB-F011-4F33-8A93-9746D794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830F-6B75-46DC-AA6D-8528E77A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EA83D-2E19-4C5D-998F-74E37478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CE2-78B6-4C79-9FD1-DFB549A9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2069-7C7E-4DF1-A9E4-5DD1311C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4D1D-04D2-4A97-8AE0-1C39BD1F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F2DD-74FC-4790-8A1C-2C22F042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5AD1-7AD6-40D6-957A-4681D908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4708-6209-4B59-8983-68555AAA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4E14-DE4F-4723-80E0-DCEABE74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94AB-6A83-443C-9295-9F44DDD0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5996-11CC-40BB-8923-7A1A33C3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2217-A40B-4541-9048-8B025E1F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6CB3-952E-4178-9D5C-F2132AC3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AC5-E374-4F53-A488-13F8D80B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83D4-6774-4704-88E3-DE62F325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B761-BA73-4A5E-B1B6-503A9CDB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F3560-7710-4323-A254-2F641C6D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F5D4-C4E5-450C-A18C-06BE2539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E895-E15F-437E-A386-C45DB2FB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AA7B-CBF4-43F8-9B39-294FE6DF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0F4E0-168D-4396-9752-3EE835C9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C22AF-814D-4390-B86E-266B8FB3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15F5-6BDC-4D78-AE24-29481097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011E7-2C7D-47DF-8072-3C7B19EF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177-35F9-4E38-8C94-330E0E41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FCBB0-7284-4A44-BCF6-8725B6E1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38DA8-9D02-4188-A072-9062C00E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76CAD-1AB0-45A5-BC4A-58057150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BD2FD-52AB-4538-B23C-5B1AE8C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DB5D5-0263-4917-9E2D-36252FE0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52023-5762-40EE-BDAF-4628A4D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FACEF-E228-48C3-B0DD-D150994F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BF9F-4491-422C-8A84-362BA9E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23F6-A2F3-4396-82DC-C73FAE8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DA1D1-79A2-499B-BC18-B014EBFD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253-7F84-4B8B-877C-1C832418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39F5D-E3FE-4FEB-845C-F3AF24F6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CDCA-C8F1-4EAD-98B4-B85FEFA3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96A6B-8384-44B4-BC1B-0A64517D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3216-4AC3-4BA9-BDD5-8F78C378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8F782-61D9-48A7-8278-1CFA563B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068BE-0469-44C1-8295-980E08E0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83B26-B86F-4280-BFDE-C137D2A4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89F04-5229-4AA3-85D1-0DE135D8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DE446-E6C2-4ED4-90F7-70E82971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25FA1-F97E-42FB-AA8C-2C01E15C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DAB-3E07-4084-AAB4-40DFE22A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4F51-7A11-4374-A5BF-DE706CA8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B23FE-E852-40FB-9EEE-F764AB0E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E61E3-2D03-4DA1-A531-C233C67C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419B4-7F88-4202-B3EC-ADA86CE2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CFC57-A25F-41CF-85D4-CF09EB1C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1B403-4B0F-4436-93F8-A9A4621F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E10B-AFD1-4ACC-9DAC-90F0AF0F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6D2F7-9393-4470-BE7C-BCACCF45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0BE1A-31A2-4FDC-87F6-5F17605A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53343-E9E7-47FD-A5EF-B06FA7D2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160-5DE4-482A-8C5B-72D449C2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B1877-3B1E-4332-A581-A0253EBF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76A67-A7AE-45F2-9460-E1152213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0C52F-8E26-442A-90EE-F67815FB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5AF98-E0F7-4901-AF57-E09471C5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C9CA-E163-4F06-9CD0-C5B85DF1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F1D2B-F708-489B-A419-E6C1C99A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7419E-D4AA-4D95-A28C-8AE75408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B196F-EF53-436E-ABAD-7DEA3D03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0ECB8-877E-4014-A17A-DB7118C0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E55D9-EADE-484D-8F6D-74A32723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B64-791E-485A-895F-3FE0D56B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8F028-8E18-451C-91B1-143255C3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5F4B3-3CFC-4A72-915E-39E74886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6022A-0FE9-4C8F-BABC-23A14D8F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C336-3790-4443-86F4-D67EFCC6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71FBF-7C30-44E5-98A3-6B5299AB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33D3F-FBD8-46D5-BAA0-B7C6BA4F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B02BF-8187-4F3A-A929-532B7DAB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0FBB3-B8F5-4BF2-A372-EF8B9202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62D1E-CD94-4181-8455-716861DF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EB330-F596-4F70-A7A9-36EE92E0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5999-FE23-40A0-B75E-D6A6E5E4C3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0765-185C-4CDE-AF09-BE92871FB8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15B4-FD53-4BA7-9D8B-EC76D0CBC6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221E-198E-40C2-8C10-10A50AB79E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6724-F742-4C4F-984B-1789810332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0FAE-313B-49BC-BD27-7C47593B8A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0856-7EF3-49AA-B64D-F57EC120A1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A1B8-729F-41C3-9355-47364F8760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41AE-40F3-4868-BBDD-5229644B51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2D10-BF3A-4274-96C9-2964005BCF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C8DA-0129-4299-A5D7-FDCC50E2EC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B72A-4E0C-40A9-8E25-29395A2E21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ms-its:base.chm::/base.hlp/a000206074.htm" TargetMode="External"/><Relationship Id="rId2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www.resset.cn/" TargetMode="External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1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4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DATA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数据集操作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971280" y="1571400"/>
            <a:ext cx="71247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null_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起用。由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结果，只输出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，不会产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Text Box 2048"/>
          <p:cNvSpPr/>
          <p:nvPr/>
        </p:nvSpPr>
        <p:spPr>
          <a:xfrm>
            <a:off x="4214880" y="3071880"/>
            <a:ext cx="4392720" cy="24339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0   data _null_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1   x=exp(5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2   y=log(10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3   put x= y=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4   run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x=148.4131591 y=2.30258509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3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3" name="TextBox 3"/>
          <p:cNvSpPr/>
          <p:nvPr/>
        </p:nvSpPr>
        <p:spPr>
          <a:xfrm>
            <a:off x="1116000" y="3143160"/>
            <a:ext cx="280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不产生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exp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=log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x= y=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1219320" y="1752480"/>
            <a:ext cx="723888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ast_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_last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一个自动变量，取值为最新创建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5" name="TextBox 2"/>
          <p:cNvSpPr/>
          <p:nvPr/>
        </p:nvSpPr>
        <p:spPr>
          <a:xfrm>
            <a:off x="1643040" y="3143160"/>
            <a:ext cx="371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查看最新创建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last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一个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DATA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下多个数据集名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5920" y="1928520"/>
            <a:ext cx="68580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观测子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emaleSt  MaleSt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emaleSt 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t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Rectangle 1035"/>
          <p:cNvSpPr/>
          <p:nvPr/>
        </p:nvSpPr>
        <p:spPr>
          <a:xfrm>
            <a:off x="1000080" y="45007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中，根据条件产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观测子集，名字分别为女同学信息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ale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男同学信息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e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2"/>
          <p:cNvSpPr/>
          <p:nvPr/>
        </p:nvSpPr>
        <p:spPr>
          <a:xfrm>
            <a:off x="1571760" y="1785960"/>
            <a:ext cx="464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9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变量子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形成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ight(keep=name height) weight (keep=name weight)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0" name="Rectangle 1026"/>
          <p:cNvSpPr/>
          <p:nvPr/>
        </p:nvSpPr>
        <p:spPr>
          <a:xfrm>
            <a:off x="642960" y="85716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一个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ATA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语句下多个数据集名 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1" name="Rectangle 1035"/>
          <p:cNvSpPr/>
          <p:nvPr/>
        </p:nvSpPr>
        <p:spPr>
          <a:xfrm>
            <a:off x="1214280" y="428616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例中，根据条件产生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个变量子集，名子分别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height, weigh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，每个数据集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语句保留两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7391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行引导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CARDS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与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CARDS4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47920" y="1904760"/>
            <a:ext cx="624816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告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下面跟着的是数据行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之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TextBox 3"/>
          <p:cNvSpPr/>
          <p:nvPr/>
        </p:nvSpPr>
        <p:spPr>
          <a:xfrm>
            <a:off x="1785960" y="4071960"/>
            <a:ext cx="59292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行之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1 var2 var3 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20 Firs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中含有分号时，必须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 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 4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；；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TextBox 2"/>
          <p:cNvSpPr/>
          <p:nvPr/>
        </p:nvSpPr>
        <p:spPr>
          <a:xfrm>
            <a:off x="1643040" y="3571920"/>
            <a:ext cx="542916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行中含有分号时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S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1$ var2$ var3 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  ;   B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  ;   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;;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5429160" y="4357800"/>
            <a:ext cx="3000600" cy="12859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var1    var2    var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A          ;       B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  (           ;       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8" name="TextBox 4"/>
          <p:cNvSpPr/>
          <p:nvPr/>
        </p:nvSpPr>
        <p:spPr>
          <a:xfrm>
            <a:off x="5572080" y="3929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结果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56800" y="9997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输出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PUT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71760" y="2428560"/>
            <a:ext cx="5952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U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输出信息到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的外部文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1499760" y="1571400"/>
            <a:ext cx="676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简单方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 specification(s)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 pointer-control&gt;&lt;specification&gt;&lt;...specification &lt;@ | @@&gt;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列方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化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 format.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(variable-list) (format-list)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列表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 &gt; variable &lt;$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 &gt; &lt;n*&gt; 'character-string'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variable &lt;: | ~&gt; format.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命名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= &lt;format.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= &lt;$&gt; start-column &lt;-end-column&gt;&lt;</a:t>
            </a: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.d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ecimalplaces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Text Box 1"/>
          <p:cNvSpPr/>
          <p:nvPr/>
        </p:nvSpPr>
        <p:spPr>
          <a:xfrm>
            <a:off x="1000080" y="107172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语句格式</a:t>
            </a:r>
            <a:r>
              <a:rPr b="1" lang="zh-TW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1714680" y="1428840"/>
          <a:ext cx="6286320" cy="4998960"/>
        </p:xfrm>
        <a:graphic>
          <a:graphicData uri="http://schemas.openxmlformats.org/drawingml/2006/table">
            <a:tbl>
              <a:tblPr/>
              <a:tblGrid>
                <a:gridCol w="2033280"/>
                <a:gridCol w="42530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specification(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变量及其格式的详细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variable-li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要读入数据值的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@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执行下一个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时指针移到下一记录行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要求一条记录必须对应一个数据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@@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执行下一个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时指针保持在当前记录行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不要求一条记录对应一个数据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$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定义字符型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start-colum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变量值在记录行中的起始列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d-colum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变量值在记录行中的终止列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ecimalplac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小数点位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pointer-control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移动输入指针到指定的行或列上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forma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变量的输入格式；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format-list -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变量列表对应的输入格式列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ecimal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小数部分的位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TextBox 3"/>
          <p:cNvSpPr/>
          <p:nvPr/>
        </p:nvSpPr>
        <p:spPr>
          <a:xfrm>
            <a:off x="3214800" y="1071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Times New Roman"/>
              </a:rPr>
              <a:t>表</a:t>
            </a: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4.1 </a:t>
            </a:r>
            <a:r>
              <a:rPr b="1" lang="zh-CN" sz="1400" spc="-1" strike="noStrike">
                <a:solidFill>
                  <a:srgbClr val="080808"/>
                </a:solidFill>
                <a:latin typeface="Times New Roman"/>
              </a:rPr>
              <a:t>变量及其格式说明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宋体"/>
                <a:ea typeface="宋体"/>
              </a:rPr>
              <a:t>PUT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语句产生的输出结果及其比较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3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_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输出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32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个下划线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"_"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输出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个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x  y 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infile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最新的数据行到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AS 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-5 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 3 7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 2 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3786120" y="4429080"/>
            <a:ext cx="32767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3929040" y="4929120"/>
          <a:ext cx="1928880" cy="1096920"/>
        </p:xfrm>
        <a:graphic>
          <a:graphicData uri="http://schemas.openxmlformats.org/drawingml/2006/table">
            <a:tbl>
              <a:tblPr/>
              <a:tblGrid>
                <a:gridCol w="192888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1   -5 9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0    3  7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10  2 8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数据集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行引导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4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语句</a:t>
            </a:r>
            <a:r>
              <a:rPr b="0" lang="da-DK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已存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横向合并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删除变量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DROP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保留变量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更改变量名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保留数值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RENTAIN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外部文件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外部数据文件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更新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修改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导出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5"/>
          <p:cNvSpPr/>
          <p:nvPr/>
        </p:nvSpPr>
        <p:spPr>
          <a:xfrm>
            <a:off x="1785960" y="1571760"/>
            <a:ext cx="300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null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  y  z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5 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3 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2 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1785960" y="4357800"/>
          <a:ext cx="5857920" cy="1360440"/>
        </p:xfrm>
        <a:graphic>
          <a:graphicData uri="http://schemas.openxmlformats.org/drawingml/2006/table">
            <a:tbl>
              <a:tblPr/>
              <a:tblGrid>
                <a:gridCol w="5857920"/>
              </a:tblGrid>
              <a:tr h="136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1 y=-5 z=9 _ERROR_=0 _N_=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0 y=3 z=7 _ERROR_=0 _N_=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10 y=2 z=8 _ERROR_=0 _N_=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矩形 7"/>
          <p:cNvSpPr/>
          <p:nvPr/>
        </p:nvSpPr>
        <p:spPr>
          <a:xfrm>
            <a:off x="2162160" y="3929040"/>
            <a:ext cx="1665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1028"/>
          <p:cNvSpPr/>
          <p:nvPr/>
        </p:nvSpPr>
        <p:spPr>
          <a:xfrm>
            <a:off x="1219320" y="1523880"/>
            <a:ext cx="678168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1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其它控制输出格式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ashelp.cla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@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.sex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This is the last of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 $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_page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476360" y="213372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一页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4500720" y="2060640"/>
            <a:ext cx="158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二页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5" name="Text Box 8"/>
          <p:cNvSpPr/>
          <p:nvPr/>
        </p:nvSpPr>
        <p:spPr>
          <a:xfrm>
            <a:off x="1403280" y="1557360"/>
            <a:ext cx="288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输出窗口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1285920" y="2428920"/>
            <a:ext cx="2786040" cy="364320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Alice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Barbara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Carol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ne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net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oyce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udy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Louise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Mary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is is the last of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7" name="矩形 7"/>
          <p:cNvSpPr/>
          <p:nvPr/>
        </p:nvSpPr>
        <p:spPr>
          <a:xfrm>
            <a:off x="4429080" y="2428920"/>
            <a:ext cx="2928960" cy="35719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Alfred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Henry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mes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effrey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ohn  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Philip 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Robert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Ronald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omas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William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is is the last of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4"/>
          <p:cNvSpPr/>
          <p:nvPr/>
        </p:nvSpPr>
        <p:spPr>
          <a:xfrm>
            <a:off x="1403280" y="1844640"/>
            <a:ext cx="612144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Example of overprin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ver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-------------------------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1403280" y="3429000"/>
            <a:ext cx="41054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0" name="矩形 3"/>
          <p:cNvSpPr/>
          <p:nvPr/>
        </p:nvSpPr>
        <p:spPr>
          <a:xfrm>
            <a:off x="1643040" y="4000680"/>
            <a:ext cx="4286160" cy="5713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Example of overpri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------------------------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列方式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356840" y="4857480"/>
            <a:ext cx="67820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输出结果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00.00   300.000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1714680" y="2857680"/>
            <a:ext cx="471456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控制输出的列位置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4" name="Rectangle 1027"/>
          <p:cNvSpPr/>
          <p:nvPr/>
        </p:nvSpPr>
        <p:spPr>
          <a:xfrm>
            <a:off x="1285920" y="1714680"/>
            <a:ext cx="6781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PUT &lt;variable&gt; &lt;$&gt; start-column &lt;-end-column&gt;&lt;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.d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ecimalplaces&gt; &lt;@ | @@&gt;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56800" y="7855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列表方式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 &gt; variable &lt;$&gt;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 &gt; &lt;n*&gt; 'character-string' 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variable &lt;: | ~&gt; format. 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修饰符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*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后面格式重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次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: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后面格式输出变量值时去掉前后的空格。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1371600" y="4286160"/>
            <a:ext cx="723888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输出结果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34,569.24 18,969.06  3,592.1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TextBox 2"/>
          <p:cNvSpPr/>
          <p:nvPr/>
        </p:nvSpPr>
        <p:spPr>
          <a:xfrm>
            <a:off x="1785960" y="1571760"/>
            <a:ext cx="528624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.1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应用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1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34569.23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2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8969.0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3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592.19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</a:rPr>
              <a:t>comma10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8440" y="85716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格式化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934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 format.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ointer-control&gt; (variable-list) (format-list) 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42600" y="107172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读入已存在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SAS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集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SET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99720" y="2142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从一个或多个已存在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读取观测值，并将这些观测组合在一个数据集中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(data-set-options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)&gt;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 data-set-name-n &lt;(data-set-options-n )&gt;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=variable-name |KEY=index-name&gt;/UNIQUE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BS=variable-name &gt; &lt;END=variable-name 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步中可以有多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可以有任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56800" y="785880"/>
            <a:ext cx="7239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1116000" y="2205000"/>
          <a:ext cx="7310520" cy="3745080"/>
        </p:xfrm>
        <a:graphic>
          <a:graphicData uri="http://schemas.openxmlformats.org/drawingml/2006/table">
            <a:tbl>
              <a:tblPr/>
              <a:tblGrid>
                <a:gridCol w="2519280"/>
                <a:gridCol w="4791240"/>
              </a:tblGrid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变元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最新创建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组合的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Optio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对数据集的操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常用选项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=,where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in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oint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控制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ET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读入的观测序号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BS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记录读入数据集的观测总数。此变量不含在新产生的数据集中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ND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作为文件结束的标识。文件结束时取值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其它观测取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此变量不含在新的数据集中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创建数据集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DATA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42640" y="1856880"/>
            <a:ext cx="76201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1 &lt; (data-set-options-1)&gt; &gt; &lt;...data-set--name--n &l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data-set-options-n) &gt;&gt;  &lt;/ DEBUG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iew-name &lt;data-set-name-1 &lt;(data-set-options-1)&g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 . .data-set-name-n &lt;(data-set-options-n)&gt;&gt; /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IEW=view-name &lt;(&lt; password-option&gt;&lt; SOURCE=source-option&gt;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ata-set-name / PGM=program-name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(&lt;password-option&gt;&lt;SOURCE=source-option&gt;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PGM=program-name (&lt;password-option&gt;); &lt;DESCRIBE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 REDIRECTREDIRECT INPUT | OUTPUT old-name-1 = new-name-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.. old-name-n = new-name-n&gt;&gt;; &lt;EXECUTE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IEW=view-name (&lt;password-option&gt;); DESCRIB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285560" y="1571400"/>
            <a:ext cx="67863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.1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若干举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临时变量选项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oint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=_n_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point=n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读入数据集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中的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,5,7,4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观测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_error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选项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oint=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时，经常要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top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来终止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步的执行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1752480" y="1905120"/>
            <a:ext cx="5943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规定临时变量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BS=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bsnum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临时变量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ast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point=obsnum   nobs=la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027"/>
          <p:cNvSpPr/>
          <p:nvPr/>
        </p:nvSpPr>
        <p:spPr>
          <a:xfrm>
            <a:off x="1785960" y="1285920"/>
            <a:ext cx="5943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找数据集的观测个数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a=nobs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 nobs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=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找数据集的最后一个观测值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 nobs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905120" y="1599840"/>
            <a:ext cx="5595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找数据集最后一个观测值更简单的方法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end=obs_la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bs_las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数据集的最后一个观测值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End=last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lastobs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将临时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astobs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值赋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X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last observatio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1285560" y="857160"/>
            <a:ext cx="72723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宋体"/>
                <a:ea typeface="黑体"/>
              </a:rPr>
              <a:t>4.20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选项说明若干举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保留部分变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(keep=name sex ag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 (keep= name sex ag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 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 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sex ag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三段程序的结果相同。注意，但第三段程序用的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KEE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并不是数据集选项的应用。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保留部分变量时可生成多个变量子集，如下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(keep=name weight) height(keep=name height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/*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程序将保留变量同时生成两个变量子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1714680" y="1071360"/>
            <a:ext cx="3643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保留部分观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’M’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’M’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a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sex^=’M’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2" name="TextBox 2"/>
          <p:cNvSpPr/>
          <p:nvPr/>
        </p:nvSpPr>
        <p:spPr>
          <a:xfrm>
            <a:off x="5214960" y="2857680"/>
            <a:ext cx="314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maleSt  MaleSt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F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maleSt ;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M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leSt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此程序将保留部分观测同时生成两个观测子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3" name="TextBox 3"/>
          <p:cNvSpPr/>
          <p:nvPr/>
        </p:nvSpPr>
        <p:spPr>
          <a:xfrm>
            <a:off x="5214960" y="21430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保留部分观测时可生成多个观测子集，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1523880" y="1752120"/>
            <a:ext cx="640584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黑体"/>
              </a:rPr>
              <a:t>4.2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的纵向合并，相同变量的数据集合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qtt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esDat.stk000001 ResDat.stk000002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黑体"/>
              </a:rPr>
              <a:t>4.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的纵向合并，不同变量的数据集合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class ResDat.stk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横向合并数据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MERG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将多个数据集中的观测合并为新数据集中的一个观测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合并观测的方式依赖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使用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ata-set-name-1  &lt;(data-set-options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-set-name-2 &lt;( data-set-options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data-set-name-n&lt;(data-set-options )&g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END=variable-name 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56800" y="85716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选项说明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98" name="Object 2"/>
          <p:cNvGraphicFramePr/>
          <p:nvPr/>
        </p:nvGraphicFramePr>
        <p:xfrm>
          <a:off x="1795320" y="2214720"/>
          <a:ext cx="5372280" cy="161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2214720"/>
                    <a:ext cx="537228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142640" y="1714680"/>
            <a:ext cx="716292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24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对一合并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esDat.class ResDat.stk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一对一合并时，不需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匹配合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stk000001 (keep=date clpr rename=(clpr=clpr000001)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stk000002 (keep=date clpr rename=(clpr=clpr000002)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匹配合并必须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286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71360" y="4142880"/>
            <a:ext cx="65005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里只给出常用选项的说明，其它选项说明可以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帮助中查找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20" name="Object 2"/>
          <p:cNvGraphicFramePr/>
          <p:nvPr/>
        </p:nvGraphicFramePr>
        <p:xfrm>
          <a:off x="1523880" y="2133720"/>
          <a:ext cx="6019920" cy="161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601992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1143000" y="1428840"/>
            <a:ext cx="7238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.26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数据集选（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股票代码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0000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0001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006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90090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首次发行与上市数据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1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01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0060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0090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issulst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issulst stkcd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id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选择满足条件股票的首次发行与上市数据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85880" y="1000080"/>
            <a:ext cx="761976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BY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214280" y="2356920"/>
            <a:ext cx="578664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步中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分组变量。用于控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,MERGE,UP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操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语句格式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By &lt;Descending&gt; &lt;Groupformat&gt; Variable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...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escending&gt; &lt;Groupformat&gt; Variable-N&gt; &lt;Notsorted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1371600" y="1447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选项说明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</a:t>
            </a: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概念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06" name="Object 2"/>
          <p:cNvGraphicFramePr/>
          <p:nvPr/>
        </p:nvGraphicFramePr>
        <p:xfrm>
          <a:off x="1371600" y="2133720"/>
          <a:ext cx="4876920" cy="118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4876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3"/>
          <p:cNvGraphicFramePr/>
          <p:nvPr/>
        </p:nvGraphicFramePr>
        <p:xfrm>
          <a:off x="1371600" y="4343400"/>
          <a:ext cx="3962520" cy="94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343400"/>
                    <a:ext cx="39625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FIRST.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变量和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LAST.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变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162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对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创建两个自动变量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.variabl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.variable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标识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第一个和最后一个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第一个观测值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.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余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最后一个观测值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.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余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些变量不含在新产生的数据集中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1600200" y="1447920"/>
            <a:ext cx="533412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2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保留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的最后一个观测值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esDat.stk000001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h=month(dat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ar=year(dat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s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ear 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ear 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st.month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保留每月最后一个观测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7286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删除变量语句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DROP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与保留变量语句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KEEP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143000" y="207144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输出数据集中要删除的变量，它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步正在创建的所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都适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ble-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中要删除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1979640" y="2178000"/>
            <a:ext cx="489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1143000" y="1142640"/>
            <a:ext cx="650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29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age;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* 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drop=sex age)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段程序的效果相同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告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新建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将删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X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变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43000" y="1928880"/>
            <a:ext cx="7238880" cy="32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输出数据中要保留的变量，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正在创建的所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都适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中要保留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1143000" y="14284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30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 (keep=date clpr)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DRO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使用规则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42640" y="242892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同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不用同时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起使用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会首先起作用。即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使用是旧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356840" y="1785960"/>
            <a:ext cx="688356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要创建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系统自动规定数据集名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n * 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   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临时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a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永久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resdat.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1 data2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两个临时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1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2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特殊名，不创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数据集，用于输出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999720" y="999720"/>
            <a:ext cx="64803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黑体"/>
                <a:ea typeface="黑体"/>
              </a:rPr>
              <a:t>4.3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ENAM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用旧变量名时程序运行正常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用新变量名时程序运行出错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旧变量名，程序运行正常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=clpr_SH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_SH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新变量名，程序不能正常运行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=clpr_SH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826920" y="5084640"/>
          <a:ext cx="7201080" cy="106056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未引用过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或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列表中的变量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lpr_SH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未引用过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或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列表中的变量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lpr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SDAT.IDX00000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89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有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89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和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变量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选项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DROP=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=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规则</a:t>
            </a:r>
            <a:r>
              <a:rPr b="1" lang="zh-TW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785880" y="2357280"/>
            <a:ext cx="76438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集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的使用规则基本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的使用规则。但更灵活，实现同样的功能，对于不同的数据集，新旧名的使用规则也不同</a:t>
            </a:r>
            <a:r>
              <a:rPr b="0" lang="zh-TW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或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只能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步中使用。为了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步中保留变量或删掉变量，必须使用数据集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＝或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＝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4"/>
          <p:cNvSpPr/>
          <p:nvPr/>
        </p:nvSpPr>
        <p:spPr>
          <a:xfrm>
            <a:off x="1143000" y="875880"/>
            <a:ext cx="6993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4.32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读入数据集中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keep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选项使用旧变量名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使用旧变量名，程序运行正常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 (keep=date clpr rename=(clpr=clpr_SH)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ResDat.Idx399001 (keep=date clpr rename=(clpr=clpr_SZ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新变量名，程序运行出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 (keep=date clpr_SH rename=(clpr=clpr_SH)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ResDat.Idx399001 (keep=date clpr_SZ rename=(clpr=clpr_SZ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785880" y="4643280"/>
          <a:ext cx="7993080" cy="19209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1920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lpr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不在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000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中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000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ROP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KEEP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或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NAME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选项无效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lpr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不在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399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中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399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ROP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KEEP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或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NAME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选项无效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39  by date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0  run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SA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系统由于错误而停止了该步的处理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4"/>
          <p:cNvSpPr/>
          <p:nvPr/>
        </p:nvSpPr>
        <p:spPr>
          <a:xfrm>
            <a:off x="1753200" y="1433880"/>
            <a:ext cx="64245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新创建数据集中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keep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选项使用新变量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上例中的错误程序，改为新创建数据集中的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keep=,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要用新变量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(keep=date clpr_SH clpr_SZ 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 (rename=(clpr=clpr_SH)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Dat.Idx399001 (rename=(clpr=clpr_SZ)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程序运行正常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没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Keep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选项使用的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clp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 (keep=date rename=(clpr=clpr_SH)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Dat.Idx399001 (keep=date rename=(clpr=clpr_SZ)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更改变量名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RENAM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142640" y="1856880"/>
            <a:ext cx="728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更改多个变量的名字。</a:t>
            </a: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ld-name-1=new-name-1… &lt;old-name-n=new-name-n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ld-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输入数据集中出现的变量名字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w-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变量的新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由于变量的新名字在输出的数据集中才起作用，所以，在当前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程序语句须使用老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Box 1"/>
          <p:cNvSpPr/>
          <p:nvPr/>
        </p:nvSpPr>
        <p:spPr>
          <a:xfrm>
            <a:off x="1428840" y="157176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例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4.35 RENAME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更改多个变量名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keep=date open low high clos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pr=open lopr=low hipr=high clpr=close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2" name="Rectangle 1026"/>
          <p:cNvSpPr/>
          <p:nvPr/>
        </p:nvSpPr>
        <p:spPr>
          <a:xfrm>
            <a:off x="571680" y="500040"/>
            <a:ext cx="739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应用举例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3" name="矩形 3"/>
          <p:cNvSpPr/>
          <p:nvPr/>
        </p:nvSpPr>
        <p:spPr>
          <a:xfrm>
            <a:off x="1667160" y="371484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UP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714240" y="4214880"/>
          <a:ext cx="7786800" cy="107136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194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Obs          Date        open        high         low       clos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1        1990-12-19       96.05       99.98       95.79       99.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2        1990-12-20      104.30      104.39       99.98      104.3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3        1990-12-21      109.07      109.13      103.73      109.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保留数值语句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RENTAIN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4300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来规定单个变量，变量列表，或数组元素的初始值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lement-list-1&lt;initial-value-1|(initial=value-1)|(initial-value-list-1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element-list-n&lt;initial-value-n|(initial-value-n)|(initial-value-list-n)&gt;&gt;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37" name="Object 2"/>
          <p:cNvGraphicFramePr/>
          <p:nvPr/>
        </p:nvGraphicFramePr>
        <p:xfrm>
          <a:off x="1643040" y="4357800"/>
          <a:ext cx="6924600" cy="19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4357800"/>
                    <a:ext cx="692460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1285920" y="142848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36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选项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或赋值语句创建的所有变量值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这次执行到下一次重复时被保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于是数据值在一些观测中可能保留了本应为缺失值的其它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@@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pas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fail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2 2 3 5 1 5 3 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447560" y="1371600"/>
            <a:ext cx="63133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输出结果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都是对的。但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外的值时，没有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条件是真的，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接收新的值。由于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所以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就保持从上一观测中得到的值，这样就产生错误。若从这段程序删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不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为空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缺失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41" name="Object 2"/>
          <p:cNvGraphicFramePr/>
          <p:nvPr/>
        </p:nvGraphicFramePr>
        <p:xfrm>
          <a:off x="1928880" y="1785960"/>
          <a:ext cx="1230120" cy="27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785960"/>
                    <a:ext cx="12301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6977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输出结果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@@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pas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fail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2 2 3 5 1 5 3 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_, _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UMERIC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规定变量列表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只有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之前定义的变量才有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44" name="Object 2"/>
          <p:cNvGraphicFramePr/>
          <p:nvPr/>
        </p:nvGraphicFramePr>
        <p:xfrm>
          <a:off x="5715000" y="1828800"/>
          <a:ext cx="88596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828800"/>
                    <a:ext cx="8859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1028"/>
          <p:cNvSpPr/>
          <p:nvPr/>
        </p:nvSpPr>
        <p:spPr>
          <a:xfrm>
            <a:off x="1357200" y="1785960"/>
            <a:ext cx="688176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数据集选项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drop=var1);      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去掉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1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keep=_numeric_);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保留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所有数值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label=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股本变动历史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; 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规定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标签名为”股本变动历史”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rename=(var1=u var2=v)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将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1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2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更名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ok(index=(author subject))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ook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对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uthor subject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建立索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3"/>
          <p:cNvSpPr/>
          <p:nvPr/>
        </p:nvSpPr>
        <p:spPr>
          <a:xfrm>
            <a:off x="1357200" y="1285920"/>
            <a:ext cx="66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对于没有用圆括号括起来初始值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对前面列出的所有元素赋初始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th1-month5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r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 c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XYZ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句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设置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至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YEAR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0,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字符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, B, C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XYZ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对于用圆括号括起来初始值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对括号前的第一个变量赋初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1-month5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句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分配初始值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给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而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至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初始值被置为缺失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Box 3"/>
          <p:cNvSpPr/>
          <p:nvPr/>
        </p:nvSpPr>
        <p:spPr>
          <a:xfrm>
            <a:off x="1214280" y="114300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9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初始值列表的用法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varl-var4(</a:t>
            </a:r>
            <a:r>
              <a:rPr b="1" lang="sv-SE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 2 3 4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varl-var4(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,2,3,4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果出现变量个数比初值个数多，剩余的变量用缺失值作为初始值，同时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发布一个警告信息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48" name="TextBox 4"/>
          <p:cNvSpPr/>
          <p:nvPr/>
        </p:nvSpPr>
        <p:spPr>
          <a:xfrm>
            <a:off x="1214280" y="3714840"/>
            <a:ext cx="64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语句是一个功能强大的语句，利用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语句可以很方便地实现观测值累乘、缺失观测填充等复杂的数据处理。如下例所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矩形 3"/>
          <p:cNvSpPr/>
          <p:nvPr/>
        </p:nvSpPr>
        <p:spPr>
          <a:xfrm>
            <a:off x="1285920" y="78588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4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变量观测值累乘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eigh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eight=mheight*h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0" name="矩形 4"/>
          <p:cNvSpPr/>
          <p:nvPr/>
        </p:nvSpPr>
        <p:spPr>
          <a:xfrm>
            <a:off x="1428840" y="2571840"/>
            <a:ext cx="6643440" cy="392904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    Name       Sex    Age    Height    Weight           mheight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   Alfred      M      14     69.0      112.5             69.0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   Alice       F      13     56.5       84.0           3898.5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3    Barbara     F      13     65.3       98.0         254572.05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  Carol       F      14     62.8      102.5       15987124.7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5    Henry       M      14     63.5      102.5     1015182420.9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6    James       M      12     57.3       83.0    58169952722.73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nn-NO" sz="1200" spc="-1" strike="noStrike">
                <a:solidFill>
                  <a:srgbClr val="ffffff"/>
                </a:solidFill>
                <a:latin typeface="Arial"/>
              </a:rPr>
              <a:t>7    Jane        F      12     59.8       84.5     347856317281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8    Janet       F      15     62.5      112.5    2.174101983E1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9    Jeffrey     M      13     62.5       84.0    1.358813739E16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   John        M      12     59.0       99.5    8.017001062E17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    Joyce       F      11     51.3       50.5    4.112721545E1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2    Judy        F      14     64.3       90.0    2.644479953E21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3    Louise      F      12     56.3       77.0    1.488842214E23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   Mary        F      15     66.5      112.0    9.900800722E2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5    Philip      M      16     72.0      150.0     7.12857652E26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6    Robert      M      12     64.8      128.0    4.619317585E28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7    Ronald      M      15     67.0      133.0    3.094942782E3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8    Thomas      M      11     57.5       85.0      1.7795921E32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   William     M      15     66.5      112.0    1.183428746E3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1"/>
          <p:cNvSpPr/>
          <p:nvPr/>
        </p:nvSpPr>
        <p:spPr>
          <a:xfrm>
            <a:off x="1173240" y="11239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4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缺失值填充。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缺失值，由前面的值填充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的缺失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2" name="TextBox 2"/>
          <p:cNvSpPr/>
          <p:nvPr/>
        </p:nvSpPr>
        <p:spPr>
          <a:xfrm>
            <a:off x="1476360" y="1628640"/>
            <a:ext cx="187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3" name="TextBox 3"/>
          <p:cNvSpPr/>
          <p:nvPr/>
        </p:nvSpPr>
        <p:spPr>
          <a:xfrm>
            <a:off x="3132000" y="1906560"/>
            <a:ext cx="251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^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=x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^=.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的情况下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赋值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,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其它情况并没有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赋值，由于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的作用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保留前面的值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这样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不会有缺失值，起到填充的作用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4" name="矩形 4"/>
          <p:cNvSpPr/>
          <p:nvPr/>
        </p:nvSpPr>
        <p:spPr>
          <a:xfrm>
            <a:off x="6535800" y="1781280"/>
            <a:ext cx="2376360" cy="482436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  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  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      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5" name="TextBox 5"/>
          <p:cNvSpPr/>
          <p:nvPr/>
        </p:nvSpPr>
        <p:spPr>
          <a:xfrm>
            <a:off x="5292720" y="17715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933480" y="6048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语句的一个很好应用案例是填充变量的缺失值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输出外部文件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FIL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99720" y="1999800"/>
            <a:ext cx="74581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规定将要输出的外部文件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般要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句配合使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可以用多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是可执行语句，因而可以用在条件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—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中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FILE file-specif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 &lt; options&gt; &lt; host-options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FILE-SPECIFICATIO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59" name="Object 2"/>
          <p:cNvGraphicFramePr/>
          <p:nvPr/>
        </p:nvGraphicFramePr>
        <p:xfrm>
          <a:off x="1219320" y="4896000"/>
          <a:ext cx="59436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896000"/>
                    <a:ext cx="5943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1186920" y="980640"/>
            <a:ext cx="403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（部分）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187280" y="1700280"/>
          <a:ext cx="6912000" cy="4691160"/>
        </p:xfrm>
        <a:graphic>
          <a:graphicData uri="http://schemas.openxmlformats.org/drawingml/2006/table">
            <a:tbl>
              <a:tblPr/>
              <a:tblGrid>
                <a:gridCol w="2953080"/>
                <a:gridCol w="3958920"/>
              </a:tblGrid>
              <a:tr h="41256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ELIMITER= 'string-in-quotation-marks' |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haracter-variable/ DLM=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指定列表输出时所用的分隔符，在别的输出形式中该选项不起作用。缺省情况下为空格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当输出数据行的长度超过规定值时，忽略超过的部分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LOW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当输出数据行的长度超过规定值时，超出部分在下一行输出。缺省状态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LOWOVER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S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数据可以包含分隔符，要用引号括住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NAME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字符变量，其值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打开的文件名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VAR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变量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根据其值的变化关闭和打开输出文件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028"/>
          <p:cNvSpPr/>
          <p:nvPr/>
        </p:nvSpPr>
        <p:spPr>
          <a:xfrm>
            <a:off x="1676520" y="1447920"/>
            <a:ext cx="5715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出规定格式的外部文本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%a(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);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stock.tx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$ stkcd $ b $ lstknm $  c $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中程序产生股票宏文本文档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74674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定义外部数据文件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INFIL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来定义一个外部数据文件，文件中的数据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读取。外部文件可以是已存在的磁盘文件，也可以是从键盘上输入的数据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file-specification &lt;option-list&gt;  &lt;host-option-list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ILE-SPECIFICATIO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TERNAL 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REF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类似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F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相应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|CARDS4|DATALINES|DATALINES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指明输入数据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4, DATALINES, DATALINES4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后面的数据流，而非来自外部数据文件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4"/>
          <p:cNvSpPr/>
          <p:nvPr/>
        </p:nvSpPr>
        <p:spPr>
          <a:xfrm>
            <a:off x="2996640" y="1268640"/>
            <a:ext cx="3223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大部分选项的作用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的一致。下面只介绍几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独有的选项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f77a1d"/>
                </a:solidFill>
                <a:uFillTx/>
                <a:latin typeface="Times New Roman"/>
                <a:ea typeface="黑体"/>
                <a:hlinkClick r:id="rId1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1116000" y="2421000"/>
          <a:ext cx="7128000" cy="378936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3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S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若一个数据由引号括起，则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认为其包含的逗号是字符数据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设定缺省分隔符为逗号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两个连续分隔符中间数据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入时去掉数据的引号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ND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变量标记是否已经到达输入文件的结尾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RSTOBS=record-numb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从该记录行开始读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ISS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阻止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从下一个数据行读入数据，未赋值的变量设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BS=record-number | MA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读入的记录数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/>
          </p:nvPr>
        </p:nvSpPr>
        <p:spPr>
          <a:xfrm>
            <a:off x="1285560" y="1071720"/>
            <a:ext cx="587988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3 DELIMITER=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应用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,6,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,3,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,8,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要输入的数据用逗号分隔，创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时用选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LIMITER=’,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9" name="Text Box 1024"/>
          <p:cNvSpPr/>
          <p:nvPr/>
        </p:nvSpPr>
        <p:spPr>
          <a:xfrm>
            <a:off x="1428840" y="5357880"/>
            <a:ext cx="92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70" name=""/>
          <p:cNvGraphicFramePr/>
          <p:nvPr/>
        </p:nvGraphicFramePr>
        <p:xfrm>
          <a:off x="2643120" y="4786200"/>
          <a:ext cx="2592360" cy="155124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  <a:gridCol w="86364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矩形 1"/>
          <p:cNvSpPr/>
          <p:nvPr/>
        </p:nvSpPr>
        <p:spPr>
          <a:xfrm>
            <a:off x="1143000" y="1285920"/>
            <a:ext cx="721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创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步数据视窗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class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vi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4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存储被编辑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1(keep=name age weight)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pg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ResDat.cl;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/*cl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是被存贮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程序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5" name="矩形 2"/>
          <p:cNvSpPr/>
          <p:nvPr/>
        </p:nvSpPr>
        <p:spPr>
          <a:xfrm>
            <a:off x="1285920" y="4429080"/>
            <a:ext cx="6786360" cy="9288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已在文件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RESDAT.CL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中保存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存储的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程序无法在不同的操作系统下运行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1643040" y="1600200"/>
            <a:ext cx="62816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4DS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选项应用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or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st1 test2 test3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,87,9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7,,9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 , 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中，分隔符为逗号，但第二个观测值的两个相邻分隔符之间还有缺失值，没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选项时，这两个相邻的分隔符组成一个分隔符，于是，输入数据时会出错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1979640" y="5300640"/>
          <a:ext cx="4914720" cy="1163520"/>
        </p:xfrm>
        <a:graphic>
          <a:graphicData uri="http://schemas.openxmlformats.org/drawingml/2006/table">
            <a:tbl>
              <a:tblPr/>
              <a:tblGrid>
                <a:gridCol w="1228680"/>
                <a:gridCol w="1230480"/>
                <a:gridCol w="1226880"/>
                <a:gridCol w="122868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1476360" y="1413000"/>
            <a:ext cx="66960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上例加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S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个相邻分隔符之间的数作为缺失值处理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S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 test2 test3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1,87,9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7,,9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1 , 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情况下，同时加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OVE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S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选项是良好的编程习惯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1979640" y="4437000"/>
          <a:ext cx="4307040" cy="1550880"/>
        </p:xfrm>
        <a:graphic>
          <a:graphicData uri="http://schemas.openxmlformats.org/drawingml/2006/table">
            <a:tbl>
              <a:tblPr/>
              <a:tblGrid>
                <a:gridCol w="1076400"/>
                <a:gridCol w="1077840"/>
                <a:gridCol w="1076400"/>
                <a:gridCol w="107640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6197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登录锐思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库网站（</a:t>
            </a:r>
            <a:r>
              <a:rPr b="0" lang="en-US" sz="18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1"/>
              </a:rPr>
              <a:t>www.resset.c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，选择股票库的退市信息表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下载格式，得到利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导入外部数据文件的标准程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0" y="0"/>
            <a:ext cx="455760" cy="3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8" name="TextBox 8"/>
          <p:cNvSpPr/>
          <p:nvPr/>
        </p:nvSpPr>
        <p:spPr>
          <a:xfrm>
            <a:off x="1357200" y="2643120"/>
            <a:ext cx="700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80808"/>
                </a:solidFill>
                <a:latin typeface="Times New Roman"/>
              </a:rPr>
              <a:t>Data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</a:rPr>
              <a:t> Res_sas.DELINFO_1(label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退市信息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</a:rPr>
              <a:t>"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fil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'D:/Res_sas/DELINFO20120920132403996(1).txt'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elimiter = '09'x Missover Dsd lrecl=32767 firstobs=2 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Comcd $7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Lstknm $12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otrd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delstDt YYMMDD10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Lstdt YYMMDD10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bfdelst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/>
          </p:nvPr>
        </p:nvSpPr>
        <p:spPr>
          <a:xfrm>
            <a:off x="1285920" y="928440"/>
            <a:ext cx="7238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Exch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Stktype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Thimkt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ISIN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nobs 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Comcd $7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Lstknm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otrd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delstDt YYMMDD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Lstdt YYMMDD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bfdelst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Exch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type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Thimkt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ISIN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nobs 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Comc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公司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Lstknm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最新股票名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285920" y="713880"/>
            <a:ext cx="7238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otr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交易时股票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delstD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退市日期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Lstd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上市日期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bfdels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退市前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Exchflg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交易所标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type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类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Thimktflg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三板市场标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ISIN="IS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编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nobs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观测序号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  Comcd  $  stkcd  $  Lstknm  $  Stkcdotrd  $  delstDt  Lstdt  Stkcdbfdelst  $  Exchflg  $  Stktype  $  Thimktflg  $  ISIN  $  nobs 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1" name="Rectangle 2"/>
          <p:cNvSpPr/>
          <p:nvPr/>
        </p:nvSpPr>
        <p:spPr>
          <a:xfrm>
            <a:off x="1000080" y="5052600"/>
            <a:ext cx="7572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例中，’</a:t>
            </a:r>
            <a:r>
              <a:rPr b="0" lang="da-DK" sz="1600" spc="-1" strike="noStrike">
                <a:solidFill>
                  <a:srgbClr val="080808"/>
                </a:solidFill>
                <a:latin typeface="Times New Roman"/>
              </a:rPr>
              <a:t>09’x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0" lang="da-DK" sz="1600" spc="-1" strike="noStrike">
                <a:solidFill>
                  <a:srgbClr val="080808"/>
                </a:solidFill>
                <a:latin typeface="Times New Roman"/>
              </a:rPr>
              <a:t>TAB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键的十六进制表示。标准程序除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Infil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的选项外，还包括由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Format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InForma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及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Label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规定变量的输出格式、输入格式及标签等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集加密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143000" y="171468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通常有三种密码：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ad ,write, alte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对应权限分别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ad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ri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lte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修改结构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1143000" y="149976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.5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带密码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em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create dataset with password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read=read_ps  write=write_ps  alter=alter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read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conten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demo(read=read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write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1143000" y="149976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接上文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write=write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alter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alter=alter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213920" y="785880"/>
            <a:ext cx="72867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4.60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比较带密码数据集操作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差别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write access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alter  access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新创建的数据集不是原来的数据集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需要密码，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不需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导出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143000" y="1714680"/>
            <a:ext cx="69292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菜单导出数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第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章已经介绍了用菜单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C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数据文件（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表为例）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，本章不再赘述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矩形 5"/>
          <p:cNvSpPr/>
          <p:nvPr/>
        </p:nvSpPr>
        <p:spPr>
          <a:xfrm>
            <a:off x="1500120" y="135720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步执行一个被存贮的编辑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pg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ResDat.cl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7" name="矩形 7"/>
          <p:cNvSpPr/>
          <p:nvPr/>
        </p:nvSpPr>
        <p:spPr>
          <a:xfrm>
            <a:off x="1571760" y="2857680"/>
            <a:ext cx="6286320" cy="11430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程序加载自文件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CL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从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CLASS.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读取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CLASS1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步导出数据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1143000" y="1714680"/>
            <a:ext cx="6929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步导出数据与第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章过程步导入数据方向相反，句法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EXPORT DATA=LIB.MyDataS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FILE="filename" | TABLE="tablename"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BMS=identifier&gt;&lt;REPLACE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1571760" y="4286160"/>
          <a:ext cx="5715000" cy="1771920"/>
        </p:xfrm>
        <a:graphic>
          <a:graphicData uri="http://schemas.openxmlformats.org/drawingml/2006/table">
            <a:tbl>
              <a:tblPr/>
              <a:tblGrid>
                <a:gridCol w="1724040"/>
                <a:gridCol w="3990960"/>
              </a:tblGrid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LIB.MyDataSet 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2d69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要导出的</a:t>
                      </a: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2d69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FILE =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导出的外部文件的地址及名称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TABLE =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外部数据文件中的表名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BMS=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外部数据文件格式的标识名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PLACE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2d69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替换已存在文件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2d69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4" name="矩形 4"/>
          <p:cNvSpPr/>
          <p:nvPr/>
        </p:nvSpPr>
        <p:spPr>
          <a:xfrm>
            <a:off x="1832400" y="3857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选项说明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程序模板：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6" name="TextBox 3"/>
          <p:cNvSpPr/>
          <p:nvPr/>
        </p:nvSpPr>
        <p:spPr>
          <a:xfrm>
            <a:off x="1071720" y="142884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6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EXCE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表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p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ashelp.class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要导出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数据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class.xls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规定导出外部文件的地址及名称，可根据需要更改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b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exce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有文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et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excel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输出工作表名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file=yes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来表格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6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文本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p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ashelp.class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要导出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数据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class.tx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规定导出外部文件的地址及名称，可根据需要更改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b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ta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有文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names=yes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加入变量名称，不加选择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6929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PUT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FILE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组合输出外部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TXT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文本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1143000" y="1714680"/>
            <a:ext cx="692928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要求：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写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，将数据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clas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输出为外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X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文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TextBox 3"/>
          <p:cNvSpPr/>
          <p:nvPr/>
        </p:nvSpPr>
        <p:spPr>
          <a:xfrm>
            <a:off x="1571760" y="2643120"/>
            <a:ext cx="45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 $ sex  $ age height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0" name="TextBox 4"/>
          <p:cNvSpPr/>
          <p:nvPr/>
        </p:nvSpPr>
        <p:spPr>
          <a:xfrm>
            <a:off x="1643040" y="42148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1643040" y="4786200"/>
          <a:ext cx="5929200" cy="7858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red    M     14.00     69.00    112.5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ice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     13.00     56.50     84.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1071720" y="1000080"/>
            <a:ext cx="69292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过多时，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写出所有输出变量会很麻烦，下面使用自动变量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All_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看看输出的结果是不是不符合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Rectangle 1"/>
          <p:cNvSpPr/>
          <p:nvPr/>
        </p:nvSpPr>
        <p:spPr>
          <a:xfrm>
            <a:off x="1071720" y="2286360"/>
            <a:ext cx="27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不列出变量名方法一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4" name="TextBox 4"/>
          <p:cNvSpPr/>
          <p:nvPr/>
        </p:nvSpPr>
        <p:spPr>
          <a:xfrm>
            <a:off x="1500120" y="27860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1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5" name="TextBox 6"/>
          <p:cNvSpPr/>
          <p:nvPr/>
        </p:nvSpPr>
        <p:spPr>
          <a:xfrm>
            <a:off x="1428840" y="42148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1500120" y="4714920"/>
          <a:ext cx="5786640" cy="614160"/>
        </p:xfrm>
        <a:graphic>
          <a:graphicData uri="http://schemas.openxmlformats.org/drawingml/2006/table">
            <a:tbl>
              <a:tblPr/>
              <a:tblGrid>
                <a:gridCol w="5786640"/>
              </a:tblGrid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=Alfred Sex=M Age=14 Height=69 Weight=112.5 _ERROR_=0 _N_=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=Alice Sex=F Age=13 Height=56.5 Weight=84 _ERROR_=0 _N_=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1"/>
          <p:cNvSpPr/>
          <p:nvPr/>
        </p:nvSpPr>
        <p:spPr>
          <a:xfrm>
            <a:off x="1143000" y="1498680"/>
            <a:ext cx="6786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列出变量名方法二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既不需要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后面一一输入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clas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中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个变量名，输出结果又能满足要求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8" name="TextBox 4"/>
          <p:cNvSpPr/>
          <p:nvPr/>
        </p:nvSpPr>
        <p:spPr>
          <a:xfrm>
            <a:off x="1428840" y="242892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3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$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9" name="TextBox 10"/>
          <p:cNvSpPr/>
          <p:nvPr/>
        </p:nvSpPr>
        <p:spPr>
          <a:xfrm>
            <a:off x="1428840" y="3929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1571760" y="4357800"/>
          <a:ext cx="5929200" cy="7858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red    M     14.00     69.00    112.5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ice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     13.00     56.50     84.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1" name="TextBox 12"/>
          <p:cNvSpPr/>
          <p:nvPr/>
        </p:nvSpPr>
        <p:spPr>
          <a:xfrm>
            <a:off x="4357800" y="242892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意思的是在这种情况下，虽然也是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_all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，但是由于规定了格式，即使规定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ut (_all_)($10. $1. 5*10.2);_ERROR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_N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两项都不会显示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Box 3"/>
          <p:cNvSpPr/>
          <p:nvPr/>
        </p:nvSpPr>
        <p:spPr>
          <a:xfrm>
            <a:off x="1500120" y="714240"/>
            <a:ext cx="585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输出外部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XT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文本，第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行为变量名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a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$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$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igh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.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4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n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name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sex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ge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heigh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weigh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ight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3" name="矩形 4"/>
          <p:cNvSpPr/>
          <p:nvPr/>
        </p:nvSpPr>
        <p:spPr>
          <a:xfrm>
            <a:off x="1893960" y="46432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1571760" y="5072040"/>
          <a:ext cx="5572080" cy="731880"/>
        </p:xfrm>
        <a:graphic>
          <a:graphicData uri="http://schemas.openxmlformats.org/drawingml/2006/table">
            <a:tbl>
              <a:tblPr/>
              <a:tblGrid>
                <a:gridCol w="557208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      sex  age  height  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fred      M    14   69.0    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lic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F     13    56.5     84.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矩形 6"/>
          <p:cNvSpPr/>
          <p:nvPr/>
        </p:nvSpPr>
        <p:spPr>
          <a:xfrm>
            <a:off x="650160" y="1170360"/>
            <a:ext cx="4546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此段程序模板非常有用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28800" y="11426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特殊数据集名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Text Box 1031"/>
          <p:cNvSpPr/>
          <p:nvPr/>
        </p:nvSpPr>
        <p:spPr>
          <a:xfrm>
            <a:off x="1428840" y="2500200"/>
            <a:ext cx="57862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_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省略数据集名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0" name="TextBox 3"/>
          <p:cNvSpPr/>
          <p:nvPr/>
        </p:nvSpPr>
        <p:spPr>
          <a:xfrm>
            <a:off x="1571760" y="3143160"/>
            <a:ext cx="385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data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等价于语句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data;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自动为数据集赋名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1, data2,…, datan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6T07:32:12Z</dcterms:modified>
  <cp:revision>269</cp:revision>
  <dc:subject/>
  <dc:title>第1章 SAS软件入门</dc:title>
</cp:coreProperties>
</file>