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392C-C877-438C-8753-4F49FF48C6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37AD-1B22-49C9-B7CF-8798B9F4406B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B47-7ADB-4C76-9BE0-8D1ADF56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B93-2E19-4E97-9C3C-D5782B3D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6EBB7-8DF7-4B04-9010-3C75062D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760AF-1C1D-43C6-A285-62E23053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259D9-78B1-4F64-8A75-546712EA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A3FE0-C224-477B-8263-DF44B744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F0350-2668-48D9-89EC-EC3000D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1512C-C47C-49DB-A661-4D4EAA63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B6458-30C3-4CEB-869D-BC72DA2D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9681C-3C47-4557-82EB-97FC6AD3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E9371-3EE6-41F5-BB28-E7891EA3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046CE-0B7F-4A36-8A89-4ECA6532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C63-4408-402F-B24D-7D5DF787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AA0C9-1B5B-42B7-B471-79228C4A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1DD33-429E-42CC-9256-5A3FA0F0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9123D-5B3C-40F4-B600-2182C040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FB572-291D-45DE-A4D2-920FBA3F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D270B-C165-4AD6-BA8A-EE55F74E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F6ACB-511F-4A3B-B3B7-E02A7774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7295C-2B46-4BF6-A5AC-7AB82060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DD267-C06A-427E-8402-D3CB0E86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C9817-1E24-43B3-8E93-47CB66B3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998CE-348D-4DD5-B0BA-B0224F1D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042-F678-48E4-9C3B-ABC5CD81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6EF15-DF29-4308-AAC4-6F804DC4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8C72E-9E87-4348-9136-D93CBF5B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5F520-D7E1-4AB2-9035-01C4672D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54CBD-7284-4137-82CC-1EED801C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31B69-9C87-4234-A781-B5969D80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86478-F7AA-411C-8178-7ABABCEC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59B81-BC5F-4FA9-95C9-85794BCF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2E1F8-5D76-498A-994A-905061CB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1D1F3-676F-4F4E-8AD7-3AD29FD2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C109A-D62C-4D4F-97DB-9759E502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39B2-5841-40FE-990F-A447695C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5F2FB-F333-4641-9B73-0F905428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D95EE-1CB0-46BF-9101-62C42E17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DD0D6-C01A-4773-81CF-BB4EEB02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D65CC-DBA9-413C-AC8E-9B0057A5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8D134-03B6-46E3-BEB8-9490CACE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37952-8022-4BF0-AA45-A1192E86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2BA88-CEA9-463C-86F0-91377A82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1E7AA-0A74-43A3-AB1E-774EFC0B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B5558-80D9-4FFD-837D-5430F0BA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4A52E-9467-4633-8128-FDD8F51A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8D7B-2977-43BB-8399-D0D434A3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4B53C-8C37-4BC3-A377-E5EC981D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E03C8-E28E-426E-A33E-D98D7B14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9A6A6-6403-4B57-B458-986F4CF2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5A15D-A56A-421A-8FE1-340B806B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9E503-C86A-4F2E-829C-663C8D4C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59776-2674-4C44-B7D8-F915EFFF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A30D2-486D-4613-928B-136842DA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B1A86-F1C5-4DA7-BFCF-B4D27DCC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5AA68-37B4-4ED0-98B0-7697BCBF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AF1BB-396F-4B19-805E-796E6038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9A9A-3DD8-47A3-AC5E-336BA2A7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9A15D-C48E-4EBF-B570-093A4EAE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C3BB1-A06E-448D-B7AF-07108EDB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0E5AA-986C-498B-9B06-6F1C2F77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4FB90-DF01-4B8C-B509-F19EC0C0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70866-8F4C-4F77-B4BC-9C98A442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2FBC2-5D48-46BD-9291-2C529682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ACFBC-D18F-4E91-A06B-F49A8607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E6B97-95DD-42CF-9E96-D1D6C7FB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1377FC-6042-4AA0-9BCD-73E8C6EF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08628-76B2-4F46-873E-52EB2290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5C74-25EC-4AF3-B1E6-C39A208D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FA9F7-B918-4F1F-9EFA-D8414F53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75790-0178-4E71-8B89-FE2030E6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EA785-E862-4919-A00A-6237632E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24649-5C1E-4C27-8BED-1657AA49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0875B-BA34-4631-8BF6-72E8D30F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8FA51-CE90-4B75-BD62-1E59F54C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396841-D173-49A5-9E1E-ECFF1B4D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4CE43-AED4-4F4D-82B9-23979899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CCCC8-8123-43C4-9C8A-905E3C1E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1AFE7-8CA8-4B5C-B9DB-76E5876A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E0D9-FBC1-4D4B-AC15-507E0536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2C4A4-7295-44A5-A659-5B3298C7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F3F57B-5675-4C79-860B-FF87C7ED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F8833-61EB-49B0-97AA-D83A5C0B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28842-F5F7-4955-BE51-22BCE564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5F38E-7708-41C8-8B02-0063B6F9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A93AC7-0DA2-484D-B113-0EB9305E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88996-9432-4A78-B753-0ED5E071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7B493D-56F4-41CF-A225-C43C1218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AB9FE-5680-4387-91EE-9DB5F99A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998A7-E803-4FEA-BE16-7DDB26D5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53F4-559C-4969-B147-C6F850C6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DF054-EDF1-4511-8D6D-DE7A302B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4928B3-FB8A-4585-BB5B-8E994623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8A992-71A2-462B-BB7D-EEC0DEA9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5C695-8C45-4B22-A428-A1CB41B8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3AA5A-5766-4CD9-8EDA-B7F37CB0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DB040-CEBA-4B1C-B6C9-F8B1CBF0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9A3CEA-9670-42E2-AAE6-76286B18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19D9C-F119-43AA-AC5D-543CCB37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0D5F7-F72B-43DD-8505-222DBC05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7A58DD-963A-4AD6-8613-E89128DB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DD15-9CA3-469F-8057-B4082594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736A27-FD7A-4885-A789-83D622C3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439E7-2F42-45E0-A1A5-A8109E55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B99F4F-77BD-4C09-8557-BA3872A8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DC827-08B7-407D-9139-2C9AEE5C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D68CD-F120-47B9-A3B8-76861D7C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D18188-0CD4-48F2-B0B4-144DF391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29FB68-5529-4FE4-A287-758D6E82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BC9DB-71BF-4D75-B557-53D1B10E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C7362-41C5-4BA9-850A-4042BB8F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BA9BD-34F4-4AF7-938B-DFEE1FD1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78F-8946-4FA9-9BF4-5271802B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0C0C-CDDD-45C3-B7A1-C3243B38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51EBB-4AF3-42F1-8360-45CF809B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DE7440-C5D0-4D60-BA43-6D5F3EB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C9689-55B7-4346-B0F7-220B4F2C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B71E30-1A90-438E-A45B-15FC6669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4268A-EB25-44C3-AF7F-68E28A90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E9164C-D262-4B71-840D-0A4A8747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FBAB4-9F7D-4ECA-9067-A17B471D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472D0C-F66B-4CF2-9B39-B7179450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2B60D-765B-4182-ACD7-94D5E22A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126DFB-5684-46DA-B2FC-C2A2B205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C541-4CCC-4767-89AE-9A231143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D39352-5EE0-4215-9542-87E0AD05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7FB4A-1B4E-424B-878D-31BDDFD4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039F2B-8AAD-417F-9A50-F287C93F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EE088-EC30-42D1-92A2-6F3D3778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686ACE-1217-43EB-AC77-57F1E263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CEAE9-2B25-439D-AE3F-AEFAC562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40F8EC-9570-4410-BB88-DB106EB6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B70E64-175E-41BF-8900-347F0BC8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4EC43B-E5DD-4FEC-B051-5FA39864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FFCAE7-619D-4D79-84F8-B1123844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BD4E-B350-4A10-A56E-D72ED5F2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ED6280-3751-4468-A5FA-005DD755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380EDC-CDC4-4790-9553-3F196F4E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297146-5256-4319-8987-0205C447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58E883-98EF-45AE-AEE6-375BD475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00B454-1FF2-4945-B9BA-E8F985E6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CE3DF0-E12E-4B31-A71D-4FAF15AF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77CBF-004D-42BF-BE4F-CC63707E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0D551-5EF8-495D-B47C-5CA4C18C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C4092-E300-4A54-A34C-3EE664D6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DCF6F0-0D03-4D84-9B6F-9F6D6714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2980-DCE7-43CE-8789-ADA0090E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40751D-4185-491B-92E2-45D98D56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0308E3-848A-447D-B61E-8AACCA35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22FC87-1997-4EAC-9391-C35C1BB0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627C53-8EFE-4232-AE59-D86167EE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8B7449-DA18-4513-B242-5A9B9D13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8F5D8D-CBB6-4DC6-8423-79A26A39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2B0C49-CB55-4C60-BFE1-7BEDC277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D70296-B20C-420A-8094-FB7A362A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B89C9-2662-49EA-9885-E97C4AAC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DDC841-422A-42F8-9FD5-39DAFFFE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326F-3136-48E0-9EA7-8914DBB9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D198C1-D541-400C-B10B-514C78F5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DD07EB-8D23-4658-980A-C5493000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A73D41-7772-4EF8-9F96-C2F97C9C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1AA379-C7E5-4A1A-87D5-7B698AD5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ED80DB-031C-47F1-A848-A33147F8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061B26-4B54-4A30-9720-AC526947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19C81D-AD06-44C8-9059-EDA98CE1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A3E873-C856-4CD9-AE62-4E38148E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359DBC-087F-4FA8-B70D-B92022FF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2675D-E2AD-4928-AA5F-A13EAC33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42CB2-4C6D-4D79-87FB-7F0940F0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80F8A2-C5A3-4E7C-A4DB-1CC9A76E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FB188F-1D58-4157-801B-EF98EF37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34C6A9-7BEB-4113-8EFB-49861E4D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D06208-F6FC-4E2C-9937-7823CAF9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E04005-26C3-4BAE-AE7E-9047D2C3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EC4D44-3236-4CF1-90B0-5EEE9DE3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D1978D-83A6-45F4-A1BF-74AA83D7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8CF493-057E-469F-9570-16591FA1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CBDB9D-DB0F-4062-9ADC-6036FDA1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AFB1B0-2E95-4C20-8E01-08059878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C6AB-2B51-40A3-8921-9AABBBBC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CC18FC-24C3-4A7A-9FB5-71A2864C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FA0449-A311-477A-A595-98DF2B7A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C41AC8-4ACE-4F38-B11A-1B740404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5983CD-31A0-4E13-A686-AFFA832D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789859-9C62-4D48-91AC-F3995240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532109-CFD1-4739-8422-71318DDD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DF7586-B3D3-4056-9C17-7618EDA5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29FCF8-77EA-4C92-A096-B8396DFE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51DA43-1CEC-4553-A60B-123FD9E2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772F31-AB32-4AB1-8B36-D65D2AD7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643F7-94A3-4EC8-807E-14651A81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1B6CD2-6446-40BB-B39E-E05278EF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130E5F-6945-4193-8C84-C2022FF9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7214E6-DFE1-40C1-9B60-8F19DBD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7CE6A9-BC2C-470D-8C77-CB552F35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0F35CB-54B8-4293-BDB3-B4DF7F6F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80001F-7BE8-403D-B1D3-037CF0DB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E155DF-2C3A-44C2-9512-98359E77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EA16C6-D352-4D5C-AB3D-A73AC1FC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B23E8A-F285-46F0-967C-C07828C5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258C93-AC48-4A53-865C-1B7B7200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A6C7-28CA-48FE-BB75-7B1F3C28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C16D07-8E8A-4F73-83C6-53EFD5A9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3A8B29-17E4-4DF1-882B-5DC92E99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176872-64B7-4759-841E-D26F18E4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B8AA68-39E6-4340-9A34-523552CE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27B44E-C844-4997-AC72-C9B454D1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8362A8-33CC-456E-ACF2-E46AD023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ADE3FC-C507-46D5-804E-2D169B6A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1F34E7-F0BD-49F4-9688-B0638182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EE8074-13D9-4C4A-A829-11428380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893015-4EF7-4291-8E9D-92495F01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9845-C235-4717-8F98-C4E5CF63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4C4E41-625E-4E31-8581-12CDD581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11580C-DCED-41E1-A939-36A7827E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06C3E0-5015-4D8D-BA5A-98F1EA1C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F019F8-DC48-49A7-A2E4-6314945A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53BD42-4E0F-4512-B9A7-16E0960E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586B05-7387-471F-94F6-E72EC540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BCB85C-FAEE-4AA2-909B-67234139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9E301D-8F18-41FE-8A54-339D102C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08917E-F6C4-4261-A249-6F469B63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86529C-82E5-43D6-B619-A0ACEA2D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A4B-2384-45B3-BE37-4D7612E6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7A38-DB62-416B-AA5B-727A7D7C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3B099B-39A5-483F-AF72-69FB49A2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225DEE-43EA-4AF2-A714-5759A9A0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009048-B141-4E4F-8D6E-EA0914C8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2848B1-B292-4712-8AC1-AFD3ADBC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357D29-A883-4E47-8C33-FAC3CEEB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3AA29A-BDAA-4F41-9CC9-63AE676F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3F8B3B-55BE-4FE2-925B-FF0E72E7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98BD24-C257-4A05-9D2E-E417248A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F01FCD-4700-4A43-BE2E-3E0DFDCC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9B4B67-2390-455A-90C2-E85F92A8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766F-2E44-46AD-8788-E4B63340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5E1E6C-034E-47CB-B974-9ABBC6F7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AB2AE7-04D1-4DBD-B45A-C3B512F1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26730F-7931-4697-9D7E-A5E5CC57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AD48-6C9C-4C83-82DB-3DD4AE97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D8E7-4219-4D65-988A-F48DCB1E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EF48-BEC1-4B7E-9257-3E66462D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A183-9736-4FBE-8450-A3A3DB04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6E280-788A-4D72-92F7-44FCDA45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EE78-8FD5-4DD7-95A2-E0FB5D7A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1BD7-25C6-4B17-A8B0-39076904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9B949-71C6-4BB7-B442-B6BE7BEE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117-F5FA-42F2-84E9-152DF1C4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B4935-E81F-4AB1-A497-F022FAEC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13D7C-476A-4C98-9CC5-A4EA1D77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ECA1-EE0E-4A58-A3EF-FEA51C70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B519-8A0F-4F8C-AD48-8E097721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345D6-326E-4525-A9D4-3BBCEF9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F603A-A96E-4256-A4E3-B0CB0FE2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FA6D9-8B98-4955-802F-02643F1B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69645-BB0A-4666-A4D2-3A2D9B8B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0FCA7-926F-47A2-BAF7-41390A12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9D768-AEF5-46B6-9DA4-73609B22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A6F-0AB0-4470-A0AF-9A7E8247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C4CCC-A40C-4D2C-BD8A-F26114C7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D9143-52EC-4721-A989-68077544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73512-4AAA-4ABF-BB9D-887AD309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68BB3-B1DA-463E-BA01-215070DE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80550-5398-4FBF-A8AE-508EF00F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4D5D9-0E6E-4019-AD0A-1FC84CF9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DB7E4-E84C-4E8E-8B02-6DB001E7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6A60D-93C6-4E78-B4BB-E14BC5E7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E85EF-C4F8-4317-9126-E7074F22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0CA4B-38D4-4336-A6BA-B2B7574B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03B-B51E-4BEE-A83D-6E1C9EDC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9A447-A0FD-4BF5-AF77-887CF7DA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A7F4-CDCC-4EF1-9556-C5CB6897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9CF21-6EC4-4BBA-BAA2-32B6B075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DEEC8-0593-475A-912D-78E8532D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461BA-AE9C-4AF0-BC6E-A3E04E40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19261-1D88-4ABE-96D0-78A6FB62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39B92-1024-4EDC-86A9-90ACD1F3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20757-ACFF-437D-9F3E-0A10ECAD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C2898-D4E8-4F71-8A8C-9B0CAEC4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79442-6123-4826-809B-9E28AF5B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7FB-0B08-4665-82E7-A2CCBB51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DA512-BAB5-4462-94F7-4C4D165E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674E5-0F3C-4001-918D-C8864488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8A5BC-A555-4F0E-BCA9-F8D44C9A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C0FFB-C87E-4581-8844-A7A8CCD3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882E6-AFBB-4ED9-BB93-8603C20B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7CBDB-DB5B-4EA9-B2A0-5A1E04AD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A3E55-11C9-4D83-AE78-A2A78C0A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71810-42FB-4455-9490-BC7BCAD2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5F2AB-EFBA-4076-8733-C46D2C76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4F82A-9500-4246-94E9-16B1710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4FB-2632-4B54-9724-7791E055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5D58C-907D-4A2D-A573-7332AFFD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99A99-9C92-44D1-8888-FEDBB0A0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2817E-72B8-48F6-8BAF-1341B134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3E8F5-F1A5-4557-AD56-2125DC65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549B6-CD74-40CE-80A4-E6A86083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78A51-8F38-4B34-B8FF-8F845355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D7009-3A28-4199-A2E1-4FD8FADE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41E51-7634-41C2-83D9-4D76008A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58DB9-72CE-4747-8FDA-353BF239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590AD-2CA1-4D4E-B9B9-FD19D3D1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ABF-C737-4D42-855D-558775AA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C2E6A-3BC8-4937-AC5A-6AF3000E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77BC5-F7A5-4F80-9556-AB2AFAD5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F670D-112D-4CB7-A2A2-1ECAEF42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1AC9D-C724-405C-9CC6-61B4C57D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46CD5-53AF-4393-8EB3-CA4104FF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9E417-345D-4A92-A486-9E34BAEF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43859-47D4-41B0-BF18-BECE475C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C691A-513E-407E-8C59-9B740991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A4601-CA52-40BC-B307-4BEE44D6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B1931-A5CD-4660-838F-AAEA5563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F476-B382-4E05-BBD2-44F21439D3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9141-C16F-4DA2-8CFA-3C0653A5E5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4A0C-AF4C-49CF-BBA3-DFA9F92CAC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A1D0-7A8D-4726-97F8-A65807ADAD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05EE-B27E-4C68-8AC2-4D1D371427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72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72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83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43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44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45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2226-37AE-4491-827B-B4A42F3231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87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46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47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F45E-78A6-4E84-A7F5-31B6EDB62D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48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92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4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-1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5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AF95-CCD5-4905-9AB7-4F3C9D2650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5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S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程技术</a:t>
            </a:r>
            <a:fld id="{F4C87CDE-C17F-4A2B-AA50-496704F5DF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96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96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5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5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5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7DA3-9A9C-42D5-B0BE-13E57D7B3E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00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1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5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5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5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95D9-FA83-41FB-952F-05AD098099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05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0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6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C51B-5F0E-49B8-929B-FE62C9E8ED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0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6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6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6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0A1B-00B4-4B2D-8B94-53A716D0BB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1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1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6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6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sldNum" idx="6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1CD0-42E9-4B80-A8B1-2269E9021C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1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1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D947-38DE-4D48-9852-47ADF2E1DE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2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2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dt" idx="7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ftr" idx="7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sldNum" idx="7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D6B-82BB-4180-8F79-DF1E6F8878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2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199F-295A-4A65-B2E4-327B583093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7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7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7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6937-E3E8-4839-9768-38782CC9E2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3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9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90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4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5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6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7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8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9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0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1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2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3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8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9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3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4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6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8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0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7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8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9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4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5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6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7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8ADE-562F-4DAE-A168-A82E53FC30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6655-F754-42D6-BCA4-EFEA615A3F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D6E4-8AFD-4527-88F5-8FCFDDC3C0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1515-C130-408E-B918-46B0289A54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B2E3-CDB5-4E4E-BE26-E6634E41ED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5699-9F26-4E8A-A004-1D4F67066B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B736-1205-4016-AF78-B9D5D38007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9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10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0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数据管理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转置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285920" y="21427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转置就是把数据集的观测变为变量，变量变为观测。利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的转置过程可以对数据集进行转置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转置过程句法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9" name="Text Box 5"/>
          <p:cNvSpPr/>
          <p:nvPr/>
        </p:nvSpPr>
        <p:spPr>
          <a:xfrm>
            <a:off x="1428840" y="1857240"/>
            <a:ext cx="64767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PROC TRANSPOS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&lt;DATA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input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gt; &lt;LABEL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label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gt; &lt;LET&g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lt;NAME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gt; &lt;OUT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output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gt; &lt;PREFIX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prefix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gt;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B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&lt;DESCENDING&gt;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variable-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       &lt;...&lt;DESCENDING&gt;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variable-n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       &lt;NOTSORTED&gt;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COP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variable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ID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variab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IDLABEL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variab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VA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variable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/>
          </p:nvPr>
        </p:nvSpPr>
        <p:spPr>
          <a:xfrm>
            <a:off x="1071720" y="13568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31" name="Object 2"/>
          <p:cNvGraphicFramePr/>
          <p:nvPr/>
        </p:nvGraphicFramePr>
        <p:xfrm>
          <a:off x="571680" y="2357280"/>
          <a:ext cx="8123040" cy="25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357280"/>
                    <a:ext cx="8123040" cy="25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TRANSPOSE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071720" y="19285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TRANSPOSE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ption-list&gt;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35" name="Object 2"/>
          <p:cNvGraphicFramePr/>
          <p:nvPr/>
        </p:nvGraphicFramePr>
        <p:xfrm>
          <a:off x="785880" y="3071880"/>
          <a:ext cx="8213760" cy="26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3071880"/>
                    <a:ext cx="821376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VAR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和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ID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1214280" y="185688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9a55"/>
                </a:solidFill>
                <a:latin typeface="Times New Roman"/>
                <a:ea typeface="黑体"/>
              </a:rPr>
              <a:t>VAR</a:t>
            </a:r>
            <a:r>
              <a:rPr b="0" lang="zh-CN" sz="24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列出要转置的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没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则没有列在其它语句里的所有数值变量被转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/>
          </p:nvPr>
        </p:nvSpPr>
        <p:spPr>
          <a:xfrm>
            <a:off x="1071720" y="14284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9a55"/>
                </a:solidFill>
                <a:latin typeface="Times New Roman"/>
                <a:ea typeface="黑体"/>
              </a:rPr>
              <a:t>ID</a:t>
            </a:r>
            <a:r>
              <a:rPr b="0" lang="zh-CN" sz="24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输入数据集中一个变量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的值为转置后数据集的变量名。在没有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E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时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的值在数据集中只能出现一次，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组内只包含最后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675468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的值为转置后数据集的变量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原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为转置后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变量名，对所有数值变量转置。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还有一变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AME_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403280" y="1916280"/>
            <a:ext cx="648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43" name="Text Box 5"/>
          <p:cNvSpPr/>
          <p:nvPr/>
        </p:nvSpPr>
        <p:spPr>
          <a:xfrm>
            <a:off x="928800" y="1571760"/>
            <a:ext cx="7429320" cy="340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ab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Obs  _NAME_  Alice  Barbara  Carol  Jane  Janet  Joyce  Judy  Louise   Mary  Alfred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1   Age      13.0    13.0    14.0  12.0   15.0   11.0  14.0   12.0    15.0    14.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2   Height   56.5    65.3    62.8  59.8   62.5   51.3  64.3   56.3    66.5    69.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3   Weight   84.0    98.0   102.5  84.5  112.5   50.5  90.0   77.0   112.0   112.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Obs  Henry    James    Jeffrey    John    Philip    Robert    Ronald    Thomas    Willia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1    14.0     12.0      13.0     12.0       16       12.0       15      11.0       15.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2    63.5     57.3      62.5     59.0       72       64.8       67      57.5       66.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3   102.5     83.0      84.0     99.5      150      128.0      133      85.0      112.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/>
          </p:nvPr>
        </p:nvSpPr>
        <p:spPr>
          <a:xfrm>
            <a:off x="1285920" y="1142640"/>
            <a:ext cx="72388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组内最后一个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值的观测被转置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结果显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45" name="Object 2"/>
          <p:cNvGraphicFramePr/>
          <p:nvPr/>
        </p:nvGraphicFramePr>
        <p:xfrm>
          <a:off x="1523880" y="4191120"/>
          <a:ext cx="4648320" cy="17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191120"/>
                    <a:ext cx="464832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/>
          </p:nvPr>
        </p:nvSpPr>
        <p:spPr>
          <a:xfrm>
            <a:off x="1285920" y="714240"/>
            <a:ext cx="7238880" cy="23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sor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sor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结果显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48" name="Object 2"/>
          <p:cNvGraphicFramePr/>
          <p:nvPr/>
        </p:nvGraphicFramePr>
        <p:xfrm>
          <a:off x="3000240" y="3929040"/>
          <a:ext cx="4596120" cy="253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3929040"/>
                    <a:ext cx="459612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/>
          </p:nvPr>
        </p:nvSpPr>
        <p:spPr>
          <a:xfrm>
            <a:off x="1213920" y="1428840"/>
            <a:ext cx="72392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系统提供的过程按其用途可分为四大类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管理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基础统计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呈现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访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任何一种编程语言一样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有一些数据管理过程，用于实现常用的中间操作或数据转换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TextBox 2"/>
          <p:cNvSpPr/>
          <p:nvPr/>
        </p:nvSpPr>
        <p:spPr>
          <a:xfrm>
            <a:off x="1071720" y="785880"/>
            <a:ext cx="5357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0.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规定转置后数据集变量名的前缀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p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da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geno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size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0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gesize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0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ranspo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sco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dnumbe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Tes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f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dentid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dnumbe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ob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Student Test Scor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451" name=""/>
          <p:cNvGraphicFramePr/>
          <p:nvPr/>
        </p:nvGraphicFramePr>
        <p:xfrm>
          <a:off x="1214280" y="4714920"/>
          <a:ext cx="6786720" cy="1630440"/>
        </p:xfrm>
        <a:graphic>
          <a:graphicData uri="http://schemas.openxmlformats.org/drawingml/2006/table">
            <a:tbl>
              <a:tblPr/>
              <a:tblGrid>
                <a:gridCol w="847800"/>
                <a:gridCol w="849240"/>
                <a:gridCol w="847800"/>
                <a:gridCol w="849240"/>
                <a:gridCol w="847800"/>
                <a:gridCol w="847800"/>
                <a:gridCol w="849240"/>
                <a:gridCol w="847800"/>
              </a:tblGrid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054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125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116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123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252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486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067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st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st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in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1452" name="Rectangle 1"/>
          <p:cNvSpPr/>
          <p:nvPr/>
        </p:nvSpPr>
        <p:spPr>
          <a:xfrm>
            <a:off x="4514400" y="-595440"/>
            <a:ext cx="115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3" name="矩形 5"/>
          <p:cNvSpPr/>
          <p:nvPr/>
        </p:nvSpPr>
        <p:spPr>
          <a:xfrm>
            <a:off x="3397680" y="42148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288"/>
                </a:solidFill>
                <a:latin typeface="黑体"/>
              </a:rPr>
              <a:t>Student Test Scor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TextBox 1"/>
          <p:cNvSpPr/>
          <p:nvPr/>
        </p:nvSpPr>
        <p:spPr>
          <a:xfrm>
            <a:off x="1214280" y="785880"/>
            <a:ext cx="5929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0.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规定转置后数据集变量名的标签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p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da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geno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size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0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gesize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0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ranspo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sco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dlabel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Tes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f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dentid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d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den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dlabel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ob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Student Test Scor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5" name="矩形 2"/>
          <p:cNvSpPr/>
          <p:nvPr/>
        </p:nvSpPr>
        <p:spPr>
          <a:xfrm>
            <a:off x="3397680" y="42148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288"/>
                </a:solidFill>
                <a:latin typeface="黑体"/>
              </a:rPr>
              <a:t>Student Test Scor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456" name=""/>
          <p:cNvGraphicFramePr/>
          <p:nvPr/>
        </p:nvGraphicFramePr>
        <p:xfrm>
          <a:off x="1143000" y="4643280"/>
          <a:ext cx="7000920" cy="1905120"/>
        </p:xfrm>
        <a:graphic>
          <a:graphicData uri="http://schemas.openxmlformats.org/drawingml/2006/table">
            <a:tbl>
              <a:tblPr/>
              <a:tblGrid>
                <a:gridCol w="874800"/>
                <a:gridCol w="876240"/>
                <a:gridCol w="874800"/>
                <a:gridCol w="874440"/>
                <a:gridCol w="874800"/>
                <a:gridCol w="876240"/>
                <a:gridCol w="874800"/>
                <a:gridCol w="874800"/>
              </a:tblGrid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以前的变量名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apalleti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ubos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ngl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Gran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Krupski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undsford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cBan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st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st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in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1457" name="Rectangle 1"/>
          <p:cNvSpPr/>
          <p:nvPr/>
        </p:nvSpPr>
        <p:spPr>
          <a:xfrm>
            <a:off x="4514400" y="-595440"/>
            <a:ext cx="115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每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转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fishdata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fishlength(rename=(col1=Measurement)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ength1-length4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ocation d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fishlength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ish Length Data for Each Location and Dat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Text Box 4"/>
          <p:cNvSpPr/>
          <p:nvPr/>
        </p:nvSpPr>
        <p:spPr>
          <a:xfrm>
            <a:off x="1258920" y="1916280"/>
            <a:ext cx="705636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ish Length Data for Each Location and Date                  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cation        Date    _NAME_     Measureme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2JUN95    Length1         3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2JUN95    Length2         3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2JUN95    Length3         3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2JUN95    Length4         3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3JUL95    Length1         3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3JUL95    Length2         3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3JUL95    Length3         3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3JUL95    Length4         3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4AUG95    Length1         2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……     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…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60" name="Text Box 5"/>
          <p:cNvSpPr/>
          <p:nvPr/>
        </p:nvSpPr>
        <p:spPr>
          <a:xfrm>
            <a:off x="1979640" y="1341360"/>
            <a:ext cx="259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输出窗口显示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.8 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有重复值时命名转置后的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da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no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4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0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k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clo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an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clo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Closing Prices for Horizon Kites and SkyHi Kit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1428840" y="4929120"/>
          <a:ext cx="6095880" cy="14972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mpan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_NAME_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jun1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jun1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orizon Kit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kyHi Kit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添加观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PPE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可以将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的观测添加到另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的后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PPEN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避免处理原数据集中的数据，直接把新观测添加到原始数据集的后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APPEND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句法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928800" y="1643040"/>
            <a:ext cx="72388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APPE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BASE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A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&lt;FORCE&gt; 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PPEN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中只需要一个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467" name="Group 20"/>
          <p:cNvGrpSpPr/>
          <p:nvPr/>
        </p:nvGrpSpPr>
        <p:grpSpPr>
          <a:xfrm>
            <a:off x="1428840" y="3714840"/>
            <a:ext cx="6417720" cy="1910880"/>
            <a:chOff x="1428840" y="3714840"/>
            <a:chExt cx="6417720" cy="1910880"/>
          </a:xfrm>
        </p:grpSpPr>
        <p:grpSp>
          <p:nvGrpSpPr>
            <p:cNvPr id="1468" name="Group 18"/>
            <p:cNvGrpSpPr/>
            <p:nvPr/>
          </p:nvGrpSpPr>
          <p:grpSpPr>
            <a:xfrm>
              <a:off x="1434240" y="3719520"/>
              <a:ext cx="6405480" cy="1900080"/>
              <a:chOff x="1434240" y="3719520"/>
              <a:chExt cx="6405480" cy="1900080"/>
            </a:xfrm>
          </p:grpSpPr>
          <p:grpSp>
            <p:nvGrpSpPr>
              <p:cNvPr id="1469" name="Group 7"/>
              <p:cNvGrpSpPr/>
              <p:nvPr/>
            </p:nvGrpSpPr>
            <p:grpSpPr>
              <a:xfrm>
                <a:off x="1434240" y="3719520"/>
                <a:ext cx="1444680" cy="569520"/>
                <a:chOff x="1434240" y="3719520"/>
                <a:chExt cx="1444680" cy="569520"/>
              </a:xfrm>
            </p:grpSpPr>
            <p:sp>
              <p:nvSpPr>
                <p:cNvPr id="1470" name="Rectangle 0"/>
                <p:cNvSpPr/>
                <p:nvPr/>
              </p:nvSpPr>
              <p:spPr>
                <a:xfrm>
                  <a:off x="1514880" y="3719520"/>
                  <a:ext cx="128340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80808"/>
                      </a:solidFill>
                      <a:latin typeface="Times New Roman"/>
                    </a:rPr>
                    <a:t>BASE=| OUT=</a:t>
                  </a: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Rectangle 6"/>
                <p:cNvSpPr/>
                <p:nvPr/>
              </p:nvSpPr>
              <p:spPr>
                <a:xfrm>
                  <a:off x="1434240" y="3719520"/>
                  <a:ext cx="144468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Group 9"/>
              <p:cNvGrpSpPr/>
              <p:nvPr/>
            </p:nvGrpSpPr>
            <p:grpSpPr>
              <a:xfrm>
                <a:off x="2879280" y="3719520"/>
                <a:ext cx="4960440" cy="569520"/>
                <a:chOff x="2879280" y="3719520"/>
                <a:chExt cx="4960440" cy="569520"/>
              </a:xfrm>
            </p:grpSpPr>
            <p:sp>
              <p:nvSpPr>
                <p:cNvPr id="1473" name="Rectangle 1"/>
                <p:cNvSpPr/>
                <p:nvPr/>
              </p:nvSpPr>
              <p:spPr>
                <a:xfrm>
                  <a:off x="2959920" y="3719520"/>
                  <a:ext cx="479916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80808"/>
                      </a:solidFill>
                      <a:latin typeface="Times New Roman"/>
                    </a:rPr>
                    <a:t>规定基本数据集的名子</a:t>
                  </a: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Rectangle 8"/>
                <p:cNvSpPr/>
                <p:nvPr/>
              </p:nvSpPr>
              <p:spPr>
                <a:xfrm>
                  <a:off x="2879280" y="3719520"/>
                  <a:ext cx="49604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Group 11"/>
              <p:cNvGrpSpPr/>
              <p:nvPr/>
            </p:nvGrpSpPr>
            <p:grpSpPr>
              <a:xfrm>
                <a:off x="1434240" y="4289400"/>
                <a:ext cx="1444680" cy="760320"/>
                <a:chOff x="1434240" y="4289400"/>
                <a:chExt cx="1444680" cy="760320"/>
              </a:xfrm>
            </p:grpSpPr>
            <p:sp>
              <p:nvSpPr>
                <p:cNvPr id="1476" name="Rectangle 2"/>
                <p:cNvSpPr/>
                <p:nvPr/>
              </p:nvSpPr>
              <p:spPr>
                <a:xfrm>
                  <a:off x="1514880" y="4289400"/>
                  <a:ext cx="12834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80808"/>
                      </a:solidFill>
                      <a:latin typeface="Times New Roman"/>
                    </a:rPr>
                    <a:t>DATA=| NEW=</a:t>
                  </a: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Rectangle 10"/>
                <p:cNvSpPr/>
                <p:nvPr/>
              </p:nvSpPr>
              <p:spPr>
                <a:xfrm>
                  <a:off x="1434240" y="4289400"/>
                  <a:ext cx="144468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Group 13"/>
              <p:cNvGrpSpPr/>
              <p:nvPr/>
            </p:nvGrpSpPr>
            <p:grpSpPr>
              <a:xfrm>
                <a:off x="2879280" y="4289400"/>
                <a:ext cx="4960440" cy="760320"/>
                <a:chOff x="2879280" y="4289400"/>
                <a:chExt cx="4960440" cy="760320"/>
              </a:xfrm>
            </p:grpSpPr>
            <p:sp>
              <p:nvSpPr>
                <p:cNvPr id="1479" name="Rectangle 3"/>
                <p:cNvSpPr/>
                <p:nvPr/>
              </p:nvSpPr>
              <p:spPr>
                <a:xfrm>
                  <a:off x="2959920" y="4289400"/>
                  <a:ext cx="4799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80808"/>
                      </a:solidFill>
                      <a:latin typeface="Times New Roman"/>
                    </a:rPr>
                    <a:t>规定要添加在基本数据集后面的数据集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名，缺省时使用最近创建的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AS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数据集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Rectangle 12"/>
                <p:cNvSpPr/>
                <p:nvPr/>
              </p:nvSpPr>
              <p:spPr>
                <a:xfrm>
                  <a:off x="2879280" y="4289400"/>
                  <a:ext cx="49604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Group 15"/>
              <p:cNvGrpSpPr/>
              <p:nvPr/>
            </p:nvGrpSpPr>
            <p:grpSpPr>
              <a:xfrm>
                <a:off x="1434240" y="5050080"/>
                <a:ext cx="1444680" cy="569520"/>
                <a:chOff x="1434240" y="5050080"/>
                <a:chExt cx="1444680" cy="569520"/>
              </a:xfrm>
            </p:grpSpPr>
            <p:sp>
              <p:nvSpPr>
                <p:cNvPr id="1482" name="Rectangle 4"/>
                <p:cNvSpPr/>
                <p:nvPr/>
              </p:nvSpPr>
              <p:spPr>
                <a:xfrm>
                  <a:off x="1514880" y="5050080"/>
                  <a:ext cx="128340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80808"/>
                      </a:solidFill>
                      <a:latin typeface="Times New Roman"/>
                    </a:rPr>
                    <a:t>FORCE</a:t>
                  </a: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Rectangle 14"/>
                <p:cNvSpPr/>
                <p:nvPr/>
              </p:nvSpPr>
              <p:spPr>
                <a:xfrm>
                  <a:off x="1434240" y="5050080"/>
                  <a:ext cx="144468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Group 17"/>
              <p:cNvGrpSpPr/>
              <p:nvPr/>
            </p:nvGrpSpPr>
            <p:grpSpPr>
              <a:xfrm>
                <a:off x="2879280" y="5050080"/>
                <a:ext cx="4960440" cy="569520"/>
                <a:chOff x="2879280" y="5050080"/>
                <a:chExt cx="4960440" cy="569520"/>
              </a:xfrm>
            </p:grpSpPr>
            <p:sp>
              <p:nvSpPr>
                <p:cNvPr id="1485" name="Rectangle 5"/>
                <p:cNvSpPr/>
                <p:nvPr/>
              </p:nvSpPr>
              <p:spPr>
                <a:xfrm>
                  <a:off x="2959920" y="5050080"/>
                  <a:ext cx="479916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80808"/>
                      </a:solidFill>
                      <a:latin typeface="Times New Roman"/>
                    </a:rPr>
                    <a:t>强迫</a:t>
                  </a:r>
                  <a:r>
                    <a:rPr b="0" lang="en-US" sz="1800" spc="-1" strike="noStrike">
                      <a:solidFill>
                        <a:srgbClr val="080808"/>
                      </a:solidFill>
                      <a:latin typeface="Times New Roman"/>
                    </a:rPr>
                    <a:t>PROC APPEND</a:t>
                  </a:r>
                  <a:r>
                    <a:rPr b="0" lang="zh-CN" sz="1800" spc="-1" strike="noStrike">
                      <a:solidFill>
                        <a:srgbClr val="080808"/>
                      </a:solidFill>
                      <a:latin typeface="Times New Roman"/>
                    </a:rPr>
                    <a:t>连接两数据集</a:t>
                  </a: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Rectangle 16"/>
                <p:cNvSpPr/>
                <p:nvPr/>
              </p:nvSpPr>
              <p:spPr>
                <a:xfrm>
                  <a:off x="2879280" y="5050080"/>
                  <a:ext cx="49604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7" name="Rectangle 19"/>
            <p:cNvSpPr/>
            <p:nvPr/>
          </p:nvSpPr>
          <p:spPr>
            <a:xfrm>
              <a:off x="1428840" y="3714840"/>
              <a:ext cx="6417720" cy="1910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000080" y="2133360"/>
            <a:ext cx="7215120" cy="34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有条件添加数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app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 ResDat.stk000001(where=(year(date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使用数据集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来限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数据集中只有满足条件的观测被加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ASE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数据集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排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转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添加观测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PPEN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排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071720" y="17856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利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排序过程可以对数据集中的观测重新排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许多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配合使用的语句，如对数据集进行合并的语句或更新语句等，使用前必须先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进行排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排序过程句法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OR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&lt;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ollating-sequence-option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ESCENDING&gt;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...&lt;DESCENDING&gt;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n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6715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SOR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2276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OR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ption-list&gt;&lt;collating-sequence-option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19" name=""/>
          <p:cNvGraphicFramePr/>
          <p:nvPr/>
        </p:nvGraphicFramePr>
        <p:xfrm>
          <a:off x="1619280" y="2997360"/>
          <a:ext cx="5256360" cy="2627280"/>
        </p:xfrm>
        <a:graphic>
          <a:graphicData uri="http://schemas.openxmlformats.org/drawingml/2006/table">
            <a:tbl>
              <a:tblPr/>
              <a:tblGrid>
                <a:gridCol w="1655640"/>
                <a:gridCol w="3600720"/>
              </a:tblGrid>
              <a:tr h="6202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被排序数据集，缺省时为最新创建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创建输出数据集，省略时用排序后数据集替换原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SCII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SCII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排序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WEDIS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wedish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排序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ATION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按习惯排序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ORC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强行实施多余排序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/>
          </p:nvPr>
        </p:nvSpPr>
        <p:spPr>
          <a:xfrm>
            <a:off x="1143000" y="1499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强行实施多余排序。排序并替换原来加索引的或取子集的数据集，即没有规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时，如果没有规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C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就不能对有索引的数据集进行排序和替换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没有规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OUT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时必须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FOR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的选项有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BS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选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RSTOBS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选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的数据集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S=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ORT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785520" y="78552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BY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999720" y="1928520"/>
            <a:ext cx="7643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ESCENDING&gt;variable-1&lt;…&lt;DESCENDING&gt;variable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必须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可以规定任意多个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规定多个变量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首先按第一个变量排序，然后是第二个变量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可以规定的选项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SCENDING—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变量按下降次序排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213920" y="171432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按多变量排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ear=year(date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tr=qtr(date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nth=month(date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 qtr month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对上证数据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x00000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按年、季和月排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/>
          </p:nvPr>
        </p:nvSpPr>
        <p:spPr>
          <a:xfrm>
            <a:off x="1000080" y="1214280"/>
            <a:ext cx="723888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.2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按单变量降序排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ResDat.stk00000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esce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a 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按收盘价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LP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的降序排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20T02:46:10Z</dcterms:modified>
  <cp:revision>338</cp:revision>
  <dc:subject/>
  <dc:title>第1章 SAS软件入门</dc:title>
</cp:coreProperties>
</file>