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3.jpeg" ContentType="image/jpeg"/>
  <Override PartName="/ppt/media/image15.png" ContentType="image/png"/>
  <Override PartName="/ppt/media/image5.wmf" ContentType="image/x-wmf"/>
  <Override PartName="/ppt/media/image2.png" ContentType="image/png"/>
  <Override PartName="/ppt/media/image10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move the slide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48CB-FFA2-43B8-8A57-7995004F9C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DD95-606F-4F58-91BB-4564300B2D9D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9811-1D4C-4CCF-9B2A-FDCADF74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EBFA-9E05-4961-AE16-EEF4BB84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29771-0AC7-4078-919E-FC4FBBA0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31C39-B380-4773-9932-D7888F9F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16C67-7F5D-4FCB-99EE-6FC691D1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AD028-0CD8-438F-B82D-19D23210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569D3-3AB9-428D-A3B8-69B06AA5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CFD94-E659-4F74-B922-F0284856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099FC-4EE4-4623-874F-43BDCDF5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4F2F5-FDE9-4713-BDD4-20E637ED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38416-32AA-4101-8E11-0E43299F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30C9B-F07C-4D63-B1C9-2B0D4B51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AC7-459B-4D59-A4B8-5B4E5EE6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90FA8-0889-47AF-8BD4-6F66715D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30E27-DD0A-433C-91C6-E3433BFB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BAF0D-4E59-4C15-AC47-7F00CA0B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839E7-4512-4C93-B49C-7FD95EC1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2E883-27C4-4278-8825-08C2F336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7660B-A0D0-4380-8967-E716A4E8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77E81-55A0-4274-BBD3-168C2BF2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92438-2263-422F-8F09-4B056F36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B9F6F-538D-4E9C-B9D3-66D63CEE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B283D-9ACB-4E76-B770-D38B873A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AD8-67CD-40DE-96EB-D3ECAFEF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C0CB4-2022-4531-9E88-A6DC9C61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BB8EA-99B7-4E5E-8989-26ED8ED6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E7806-4209-48A6-AD84-89E5E4B9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6A3C6-CB3B-4626-92C2-F0AC8330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4D56F-E070-47FA-B6CA-6D21569A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A8D7E-0D1A-4969-B54F-C70A417C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BAFDB-8815-480B-B5CE-106BD786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45EA3-42C5-4368-8492-E9C51D81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DDD13-4292-4095-8E93-F112EE93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83CAB-CA33-4E73-A723-4E6E7B47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0E92-D83C-4BFD-8387-1427EE47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E10F6-4465-4723-A489-319BF7B8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44E17-FFEE-4F08-A360-F2F73F6F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8BBBD-1758-46F4-8C6D-4B172A4E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21A0A-F9CE-4CD3-AFCD-72F213B7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4984C-1CE6-47D5-8342-F48FABE0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CF6C5-B0EC-4668-9B49-F8658721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D0407-A171-4FAD-BB81-59B256D3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59BC8-F973-4B86-B2E7-D3F62498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EE60B-5DAD-42BB-A80A-33D9693A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B098F-68B4-418C-9D95-4B1F05FA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036E-0299-49CF-8B06-F3CE7F55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E9124-CCA0-42C1-A892-E7ACA021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4C334-FE96-43F3-8910-7C2B0261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D4300-1ED5-4EA1-93C7-DC029AD7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9A9E5-84B9-4C32-906C-B6A9A498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71793-C7F6-4076-A714-621C759B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55CFD-5009-4708-AA75-BC071262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81B6C-98AD-41D0-91F2-07BE7E7D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82934-5328-400C-86B8-601322F8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A5C726-1401-4C4F-B9F4-C3165FF1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FABA8-9B61-4BC3-A5AE-8CC1FA80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098E-5060-4942-9082-F82E8278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7290F-8264-49D7-BC7B-02DD2FA9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5C0AF-0A0C-4EE7-8539-393178BB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44B52-9E94-4BAC-8792-01D589FD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230CF-82EF-43B3-BE8E-7E67CCBB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454B4-4D08-48DA-974A-9F439276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7B27D-154B-4671-A49F-14224E16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8800C-B616-478C-8DB3-45E4B156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18CB6-7AD0-4F49-8B27-609BC2F2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9A6D5C-A036-410A-ACB2-8ED50652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AFDB9D-9677-4227-BE9C-98F55F95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C07E-5229-4BFC-99E5-8B571725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758EA-C3E7-488B-83CB-79AAAC33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D9F4E0-F90B-4C09-B050-6E7F48D3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99D954-4ABC-49C3-BAD0-EA46A4A3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6BA73C-B681-45D5-A6E7-CCD2DC0A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C9C78D-5C78-4A2E-86C0-097D6985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30A33-B64F-48D1-929D-2F8CC250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ECD36-FAB6-4EC4-97B1-21251F1B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CF3B91-5CE8-46A4-B692-FE5542E7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BC966-E0E8-412F-A114-14619719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9CE6-7C7B-46DD-AC6C-A95FE884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63A3-1A99-45C7-B0EF-D295AB26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A7BA-1C62-4D44-8992-78FA79D0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F5D0-3CFF-4514-8D4B-8F09E855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7CFA-9C15-4706-9AEA-AE981DB3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2FE9-674F-4845-8F47-80706F9A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2482-E4DB-40FB-AED7-9F792E85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AB27-903D-4259-8EF7-EFFCDB4C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5B0C-3AA6-450A-B593-D1A728E2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648EB-01B8-4025-BFF9-FC9A3ADE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1035-96F4-460C-99B8-1D91D702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964D2-8E0F-4FC8-BF86-45AB2052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C440B-BEC9-41C7-8BD5-328E7B08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DEA3-6EBD-4CC8-921F-D120C401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B41-A408-420D-A14D-A4062A7A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80BA-59AE-44D8-9B18-E716DF4E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90028-5818-4F9A-AB03-4D0C9252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AC3A7-6FA1-4CF0-86D3-EB48C666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B6042-8406-452A-A33B-4DCB66EE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210FA-737B-40E1-86EF-9C629D2D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0D21E-8EA0-492C-B9D2-83504F3E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FB49B-6FD7-4816-8E04-858C5941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9414F-9082-4B1D-AA34-5D56ABDC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263A3-A7E0-4EDC-8835-D4207380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907AE-BFDB-4D4F-8F51-7E6CB769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65F-37A8-4C43-8962-F3F37F59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4AA38-C6B4-4E69-B013-C97A1072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44B25-3C29-4D84-808D-C1FEFEF9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EF2B3-3F93-4F9E-8452-A179D79F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C4FC7-09B1-4346-A27A-8009184A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7FACF-C8E5-4263-8AC9-CB741B45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7A4C8-A08D-4061-AE16-4999443A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29C32-10F6-475B-93D7-46A5E354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3D947-F866-4DAA-8D10-229BD0A6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D8F32-DA8D-4072-9139-241236D0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61591-C731-4696-AA67-9899E9FA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727-46EC-43F7-BB71-C29C3A25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9055A-2300-469F-AB16-C32074EB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1945E-15A9-43D2-BB36-A9D90C8B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0E099-AE2C-46F9-ADED-6C3D058E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6F562-37EC-498E-9859-15E1DBCF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7F275-7517-4A82-8A01-BB82166F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5B564-CE0A-4709-AD62-B5D4A0A5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2B266-2653-4DFC-915F-4B396C06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2CAA7-B625-4A8B-BAD7-18EAD013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C4C12-7DCE-49FE-94E4-3934527C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8AD10-FBFC-44DC-8E47-0CE416AF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5B8-7B9F-4769-B689-12C33430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C68AE-6114-4500-A13A-1263B1BA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199CC-B92A-493D-A434-77EB4126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1F0DF-D6EA-4C68-952A-8D5EADC3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88006-0C27-43E3-A5A3-CE0FFF1C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D79D7-8F9D-4BC4-8C6F-B0548BC1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1EA2D-148B-4897-BC95-C45EC204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850E9-E22F-40CE-B0AC-CC80F3A1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68CB3-7529-426E-ABE0-84F93CDD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0D290-8B22-4D0B-ACE9-D24723AA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355CF-95AA-4D10-9FEC-452A3788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062-3F2F-479E-8230-37FFB831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BA7E9-2E7E-44DF-A192-FB1760D7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90B51-159A-4FEA-B987-FD77F49E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57B1C-C905-47AA-8FEC-F7233103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7C3F3-BC1B-4A73-A751-93EDBBFB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8A162-2532-4CC3-BD2F-A1F7BB3F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7E8FA-E396-4C2D-AEE9-C643D48D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0BC3E-A41B-497C-92C1-6BA35E0C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FA4F3-2EA9-4B1F-812D-469D03EA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5A366-D14C-4AAB-9753-8DC3D588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37CA0-8062-470D-9159-55A2155A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DE6-E38D-467C-9463-8D241FC6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A3878-93EF-41F2-A33D-5F5D293E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E4641-F87C-4DDB-8A6F-6F54CFC1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72158-5AEB-43D6-825E-1F808C59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49158-474F-403E-9830-11775937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54603-8FFB-4ACE-A2E0-A7202ED4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3FCD4-2AC8-46A4-9977-BBBBB7AC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EDD26-9BA5-4642-BA4D-4674E06E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6D184-0F3A-403D-96DA-2D2A491D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98EC4-C295-42BC-865F-F41D2434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B29D8-CC4B-420C-8687-D44D0D4B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EF9-BE8A-46EB-A019-0ADFBD1B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FE34D-A113-44F0-9CDE-F2123628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B2FF1-01D6-404F-BDEC-1A205A35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355E3-A55A-45C8-8935-A3A33F7E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3E3CA-200D-4C65-A132-1AB60C08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C2982-0D30-4F0F-A692-0DFF790E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0C0E1-C3C0-468F-A69A-B782108E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07348-10F9-4065-A9AD-F2CF5AD9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468FB-4187-41C6-98A0-66111F66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3820C-B767-4233-855C-57E5EBA8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2361A-E1F1-4452-BE8F-19DEE781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EE2D-DB35-47C6-AB36-F77DC020C4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F59E-B880-4DEA-B4D4-D362A37FB0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F36E-7A45-49A5-A9BB-1B36694A43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4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23E4-4B15-462F-B352-CDE15EA677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CEA2-FF95-430B-8066-C26F0E10AC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6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6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4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0BDC-26CA-464E-AB4F-ECE165FD2F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矩形 9"/>
          <p:cNvSpPr/>
          <p:nvPr/>
        </p:nvSpPr>
        <p:spPr>
          <a:xfrm>
            <a:off x="1357200" y="1785960"/>
            <a:ext cx="6572520" cy="4286160"/>
          </a:xfrm>
          <a:prstGeom prst="rect">
            <a:avLst/>
          </a:prstGeom>
          <a:solidFill>
            <a:srgbClr val="ffffff"/>
          </a:solidFill>
          <a:ln w="0">
            <a:solidFill>
              <a:srgbClr val="3481a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9"/>
          <p:cNvSpPr/>
          <p:nvPr/>
        </p:nvSpPr>
        <p:spPr>
          <a:xfrm>
            <a:off x="1285920" y="1857240"/>
            <a:ext cx="6357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3337-31E9-4513-918C-D968AFBE5F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5CCD-98E7-4F6F-9CF7-0603F1D565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144D-D9A4-4C9C-8439-9255B247A9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CC11-15DE-4D88-947E-B7C7CEB102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2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2BE5-0E77-48A4-987D-889D7FE70E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FFE6-F969-40B9-9D88-D21368544B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8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6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9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6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9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输出控制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日志输出地点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通常情况下，日志输出在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。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日志可以输出的地点有：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终端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外部文件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打印机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PRINTTO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可以重新定义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日志的输出地点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定制日志格式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定制日志格式的语句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41" name="Object 2"/>
          <p:cNvGraphicFramePr/>
          <p:nvPr/>
        </p:nvGraphicFramePr>
        <p:xfrm>
          <a:off x="1600200" y="3048120"/>
          <a:ext cx="6356520" cy="174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8120"/>
                    <a:ext cx="6356520" cy="17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00200" y="14475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定制日志格式系统的选项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graphicFrame>
        <p:nvGraphicFramePr>
          <p:cNvPr id="844" name="Object 2"/>
          <p:cNvGraphicFramePr/>
          <p:nvPr/>
        </p:nvGraphicFramePr>
        <p:xfrm>
          <a:off x="1676520" y="2971800"/>
          <a:ext cx="6424560" cy="117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971800"/>
                    <a:ext cx="6424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6262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2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将日志存贮为外部文件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o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d:\saslog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new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语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INTTO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的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EW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表示替换文件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LOG.TX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原有的内容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3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增量输出日志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o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d:\log.da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7"/>
          <p:cNvSpPr/>
          <p:nvPr/>
        </p:nvSpPr>
        <p:spPr>
          <a:xfrm>
            <a:off x="1835280" y="1341360"/>
            <a:ext cx="36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替换输出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aslog-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记事本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9" name="Text Box 8"/>
          <p:cNvSpPr/>
          <p:nvPr/>
        </p:nvSpPr>
        <p:spPr>
          <a:xfrm>
            <a:off x="1476360" y="2133720"/>
            <a:ext cx="5616720" cy="267732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OTE: “PROCEDURE PRINTTO”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所用时间（总处理时间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4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84  proc print data=ResDat.class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85  run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从数据集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RESDAT.CLASS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读取了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9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个观测。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OTE: “PROCEDURE PRINT”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所用时间（总处理时间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 Box 4"/>
          <p:cNvSpPr/>
          <p:nvPr/>
        </p:nvSpPr>
        <p:spPr>
          <a:xfrm>
            <a:off x="1285920" y="1428840"/>
            <a:ext cx="662472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“PROCEDURE PRINTTO”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所用时间（总处理时间）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187  proc print data=ResDat.class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188  run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从数据集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RESDAT.CLASS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读取了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19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个观测。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“PROCEDURE PRINT”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所用时间（总处理时间）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189  proc printto  log= 'd:\log.dat' 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“PROCEDURE PRINTTO”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所用时间（总处理时间）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190  proc print data=ResDat.class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191  run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从数据集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RESDAT.CLASS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读取了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19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个观测。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“PROCEDURE PRINT”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所用时间（总处理时间）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1" name="Text Box 5"/>
          <p:cNvSpPr/>
          <p:nvPr/>
        </p:nvSpPr>
        <p:spPr>
          <a:xfrm>
            <a:off x="1619280" y="1052640"/>
            <a:ext cx="338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增量输出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og-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记事本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运行结果输出控制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产生的运行结果有两类：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步产生的输出结果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步通过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产生的输出结果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定制输出格式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600200" y="24379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定制输出格式的语句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6" name="Object 2"/>
          <p:cNvGraphicFramePr/>
          <p:nvPr/>
        </p:nvGraphicFramePr>
        <p:xfrm>
          <a:off x="1600200" y="3124080"/>
          <a:ext cx="5564160" cy="179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124080"/>
                    <a:ext cx="5564160" cy="17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1600200" y="15998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定制输出格式的系统选项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9" name="Object 2"/>
          <p:cNvGraphicFramePr/>
          <p:nvPr/>
        </p:nvGraphicFramePr>
        <p:xfrm>
          <a:off x="1600200" y="2205000"/>
          <a:ext cx="5780160" cy="332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5000"/>
                    <a:ext cx="578016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.5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时不加页码的系统选项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nonumber;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.6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时不打印日期和时间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date;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.7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左对齐输出选项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nocenter;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.8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缺失值的表示字符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missing =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'B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lang="en-US" sz="36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285920" y="1642680"/>
            <a:ext cx="6286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窗口与内容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日志输出控制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运行结果输出控制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图形存贮利用与输出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传送系统（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运行结果输出地点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57160" y="1856880"/>
            <a:ext cx="7429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通常情况下，运行结果输出在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运行结果可以输出的地点有：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终端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外部文件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打印机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PRINTTO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可以重新定义运行结果的输出地点。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928440" y="157176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.9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直接输出到外部文件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d:\out.txt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ew;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IN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产生的输出结果直接存贮到文件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:\OUT.TX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中，选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NEW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表示替换原有文件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UT.TXT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.10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增量输出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d:\out.txt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19200" y="990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图形存贮利用与输出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143000" y="18568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/GRAPH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软件是一个功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大的图形软件包，有许多绘图过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绘图过程产生的图形一方面可以直接输出到显示设备（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APH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）上，另一方面也可以作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图形存贮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目录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talog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存贮图形的缺省目录册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ORK.GRSEG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71680" y="90792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图形存贮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071720" y="1857240"/>
            <a:ext cx="723888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每幅图都是目录册的一个条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NTRY),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条目的类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YPE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SEG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每个条目都有自己的名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AME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描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TION),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缺省的名称和描述是过程名加上相应的序号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作图过程语句中加入选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OUT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把过程生成的图形存入指定的逻辑库和目录册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1000080" y="1218960"/>
            <a:ext cx="723888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12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将图形存入目录册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graph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ymbol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none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join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u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*date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PLO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过程产生的图形存入逻辑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sDa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下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RAP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目录册中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13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存贮图形时给出名称和描述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graph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ymbol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none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join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u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上证指数时序图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*date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Idx000001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 series plot for close pric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存贮图形的名子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dx000001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描述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me series plot for close price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4" descr=""/>
          <p:cNvPicPr/>
          <p:nvPr/>
        </p:nvPicPr>
        <p:blipFill>
          <a:blip r:embed="rId1"/>
          <a:srcRect l="0" t="0" r="75482" b="71255"/>
          <a:stretch/>
        </p:blipFill>
        <p:spPr>
          <a:xfrm>
            <a:off x="826920" y="1700280"/>
            <a:ext cx="2953080" cy="194940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6" descr=""/>
          <p:cNvPicPr/>
          <p:nvPr/>
        </p:nvPicPr>
        <p:blipFill>
          <a:blip r:embed="rId2"/>
          <a:stretch/>
        </p:blipFill>
        <p:spPr>
          <a:xfrm>
            <a:off x="4284720" y="1700280"/>
            <a:ext cx="338292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42960" y="9997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GREPLAY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过程的功能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0992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重复利用已生成图形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重新命名，复制和删除目录册中的图形条目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在一个画面显示多幅图形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已存贮在目录册中的图形按设定的模板进行显示和输出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99680" y="999720"/>
            <a:ext cx="46436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模板条目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238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模板是目录册中的一个条目，规定一个画面中怎样显示多幅图形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模板可以自行设计。逻辑库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HELP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目录册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TEMPLT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中存放了许多模板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逻辑库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HELP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目录册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TEMPLT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中存放的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L2R2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就是将四幅图按左面两幅右面两幅在一起显示的模板。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GREPLAY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过程的简单格式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447920" y="1989000"/>
            <a:ext cx="72388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GREPLAY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nofs GOUT=&lt;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libref.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&gt;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-catalog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IGOUT=&lt;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libref.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&gt;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-catalog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TC=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template-catalog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TEMPLATE=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template-entry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TREPLAY 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-pair(s)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23520" y="114264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过程选项说明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graphicFrame>
        <p:nvGraphicFramePr>
          <p:cNvPr id="880" name="Object 2"/>
          <p:cNvGraphicFramePr/>
          <p:nvPr/>
        </p:nvGraphicFramePr>
        <p:xfrm>
          <a:off x="1600200" y="2421000"/>
          <a:ext cx="6284880" cy="238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21000"/>
                    <a:ext cx="628488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56800" y="11426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输出窗口与内容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graphicFrame>
        <p:nvGraphicFramePr>
          <p:cNvPr id="822" name="Object 2"/>
          <p:cNvGraphicFramePr/>
          <p:nvPr/>
        </p:nvGraphicFramePr>
        <p:xfrm>
          <a:off x="1619280" y="2276640"/>
          <a:ext cx="5832360" cy="177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583236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1116000" y="981000"/>
            <a:ext cx="73137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画面放四幅图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grep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f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igout=ResDat.graph  gout=ResDat.graph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ashelp.templ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emp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2r2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rep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Idx000001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Idx000002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Idx399106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Idx399001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将上证指数，上证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股指数，深证成指和深证综指这四幅时序图放在一个画面上。   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grep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f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igout=ResDat.graph  gout=ResDat.graph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ashelp.templ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emp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2r2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rep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Idx000001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Idx000002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Idx399001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template  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一个画面放四幅图，其中的第四幅图形使用模板合成的图形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4" descr=""/>
          <p:cNvPicPr/>
          <p:nvPr/>
        </p:nvPicPr>
        <p:blipFill>
          <a:blip r:embed="rId1"/>
          <a:srcRect l="20477" t="14067" r="3127" b="12586"/>
          <a:stretch/>
        </p:blipFill>
        <p:spPr>
          <a:xfrm>
            <a:off x="0" y="0"/>
            <a:ext cx="914400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2" descr=""/>
          <p:cNvPicPr/>
          <p:nvPr/>
        </p:nvPicPr>
        <p:blipFill>
          <a:blip r:embed="rId1"/>
          <a:srcRect l="20433" t="14564" r="2673" b="12364"/>
          <a:stretch/>
        </p:blipFill>
        <p:spPr>
          <a:xfrm>
            <a:off x="0" y="0"/>
            <a:ext cx="9144000" cy="65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输出其它格式的图形文件 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BMP,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EMF,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WMF, JPG, JIF, TIF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等格式的文件；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带图形的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HTML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。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输出其它格式文件的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GOPTIONS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语句选项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599840" y="1917720"/>
            <a:ext cx="59245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GOPTIONS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DEVICE=device-entry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GSFNAME=fileref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GSFMODE=APPEND | PORT | REPLACE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89" name="Object 2"/>
          <p:cNvGraphicFramePr/>
          <p:nvPr/>
        </p:nvGraphicFramePr>
        <p:xfrm>
          <a:off x="1357200" y="4214880"/>
          <a:ext cx="7417080" cy="167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214880"/>
                    <a:ext cx="741708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1523520" y="11426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5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显示当前输出图形文件的设备和格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gde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6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直接将输出图形存贮其它格式的文件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il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000001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d:\ResDat\Id000001.gif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ll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e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gif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sf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Idx000001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sfm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plac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graph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ymbol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none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join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blu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上证指数时序图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*dat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/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Idx000001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 series plot for close price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直接输出存贮上证指数时序图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I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格式的文件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输出传送系统（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ODS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从版本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7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开始提供了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 DELIVERY SYSTEM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，输出传送系统）。利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可以更方便，更灵活地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各个过程的输出结果，可以选择输出结果形式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ODS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功能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挑选或剔除过程的输出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将过程的输出转换成数据集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到不同的平台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个性化输出表格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在交互操作环境的结果窗口组织和管理输出对象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ODS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对象与传送目标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将每个过程的输出分成若干个对象。虽然每个对象的内容属性不同，但所有对象都由两部分构成：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部分：是输出内容包括的数值和字符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模板部分：也称为表的定义，描述输出内容在输出显示时的布局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ODS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对象的传送目标及生成的文件格式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graphicFrame>
        <p:nvGraphicFramePr>
          <p:cNvPr id="899" name="Object 2"/>
          <p:cNvGraphicFramePr/>
          <p:nvPr/>
        </p:nvGraphicFramePr>
        <p:xfrm>
          <a:off x="1476360" y="3429000"/>
          <a:ext cx="5302440" cy="299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429000"/>
                    <a:ext cx="5302440" cy="29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Rectangle 156"/>
          <p:cNvSpPr/>
          <p:nvPr/>
        </p:nvSpPr>
        <p:spPr>
          <a:xfrm>
            <a:off x="1523880" y="1905120"/>
            <a:ext cx="7239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当一个传送目标打开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OD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就将程序的输出对象传送到这一目标。系统可以同时打开多个传送目标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缺省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LISTIN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目标打开，其它目标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OUTPUT, HTML, PRINT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RT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都被关闭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日志输出控制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日志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LOG)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程序被执行的信息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日志输出的信息有助于用户解决系统运行过程中出现的各种问题。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传送目标控制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对象的传送目标有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, LISTING, HTML, PRINTER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RTF.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这里介绍将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对象传送至这些目标的控制方法。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传送至目标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LISTING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213920" y="1714680"/>
            <a:ext cx="723924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缺省的传送目标就是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LISTING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。 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LISTING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目标的显示方式：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700"/>
              </a:spcBef>
              <a:buClr>
                <a:srgbClr val="92d05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字符文本在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OUTPUT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窗口显示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700"/>
              </a:spcBef>
              <a:buClr>
                <a:srgbClr val="92d05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图形在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GRAPH1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窗口显示。 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关闭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LISTING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目标：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打开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LISTING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目标：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1447920" y="12189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.17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关闭输出目标不输出任何结果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由于缺省情况下，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LISTING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是唯一开放的目标，先关闭这一目标后，没有开放的传送目标，输出结果无可传送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 Box 2"/>
          <p:cNvSpPr/>
          <p:nvPr/>
        </p:nvSpPr>
        <p:spPr>
          <a:xfrm>
            <a:off x="1143000" y="928800"/>
            <a:ext cx="72723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.18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直接将输出结果存贮为外部文本文件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'd:\ResDat\f.txt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sDat.Idx000001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e clpr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len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1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'd:\ResDat\f.txt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F1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sDat.Idx000001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e clpr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例中，用前面介绍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PRINTTO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过程可以得到相同的效果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传送至目标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OUTPUT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071720" y="1714680"/>
            <a:ext cx="7238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对于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7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前的版本，有许多过程的输出结果不能直接生成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，要想将输出报告中的统计量直接转换成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是件很麻烦的事。利用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DS OUTPUT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为多数过程的输出对象建立数据集。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f0"/>
                </a:solidFill>
                <a:latin typeface="Times New Roman"/>
                <a:ea typeface="黑体"/>
              </a:rPr>
              <a:t>传送至目标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黑体"/>
              </a:rPr>
              <a:t>OUTPUT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DS OUTPUT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对象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1=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1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对象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2=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2…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/>
          </p:nvPr>
        </p:nvSpPr>
        <p:spPr>
          <a:xfrm>
            <a:off x="1143000" y="1500120"/>
            <a:ext cx="7238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.19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将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的输出统计量直接写入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summary=sum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hipr clpr 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13840" y="785880"/>
            <a:ext cx="72392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传送至目标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PRINTER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071720" y="1714680"/>
            <a:ext cx="72388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传送至目标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INT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是将输出对象直接在打印机输出或生成打印文件。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传送至目标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PRINTE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DS PRINTER &lt;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2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直接输出到打印机上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没有选项时的缺省情况是将输出对象直接在系统缺省打印机上输出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900000" y="765000"/>
            <a:ext cx="795816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DS PRINTER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常用选项说明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STYLE=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格式包括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14" name="Object 2"/>
          <p:cNvGraphicFramePr/>
          <p:nvPr/>
        </p:nvGraphicFramePr>
        <p:xfrm>
          <a:off x="900000" y="1666800"/>
          <a:ext cx="6721560" cy="25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66800"/>
                    <a:ext cx="672156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3"/>
          <p:cNvGraphicFramePr/>
          <p:nvPr/>
        </p:nvGraphicFramePr>
        <p:xfrm>
          <a:off x="1362240" y="4857840"/>
          <a:ext cx="5995800" cy="1471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4857840"/>
                    <a:ext cx="599580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/>
          </p:nvPr>
        </p:nvSpPr>
        <p:spPr>
          <a:xfrm>
            <a:off x="1447920" y="14475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23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生成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DF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格式文件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\prt.pdf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d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\prt.pdf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acrobat pdfwriter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571400" y="135720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生成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RTF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格式文件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直接将输出对象存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RT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格式文件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OD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DS RTF FILE=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标识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|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物理地址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YLE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格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2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将输出对象存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T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格式文件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t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\prt.rtf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tatdoc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t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日志输出信息类型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285920" y="1571760"/>
            <a:ext cx="75009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执行的程序语句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创建的数据集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执行期间遇到的警告或错误信息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每个数据集包含多少个变量和多少个观测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每一步执行的时间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行的信息和列表。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传送至目标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HTML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071360" y="1642680"/>
            <a:ext cx="778644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将输出结果直接转换成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HT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文件的方式有以下三种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数据步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 WEB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发布工具提供的宏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DS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利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将输出结果转换成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HT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是最为方便和直接的方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生成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HT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目标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OD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一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文件物理地址和名称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，’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ODY=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’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LE=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效果相同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1000080" y="1213920"/>
            <a:ext cx="72388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.25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生成绝对物理路径的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HTML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格式文件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ht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\prt.htm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ht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1371240" y="16761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Times New Roman"/>
                <a:ea typeface="黑体"/>
              </a:rPr>
              <a:t>生成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黑体"/>
              </a:rPr>
              <a:t>HTML</a:t>
            </a:r>
            <a:r>
              <a:rPr b="0" lang="zh-CN" sz="2000" spc="-1" strike="noStrike">
                <a:solidFill>
                  <a:srgbClr val="00b0f0"/>
                </a:solidFill>
                <a:latin typeface="Times New Roman"/>
                <a:ea typeface="黑体"/>
              </a:rPr>
              <a:t>目标的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黑体"/>
              </a:rPr>
              <a:t>ODS</a:t>
            </a:r>
            <a:r>
              <a:rPr b="0" lang="zh-CN" sz="2000" spc="-1" strike="noStrike">
                <a:solidFill>
                  <a:srgbClr val="00b0f0"/>
                </a:solidFill>
                <a:latin typeface="Times New Roman"/>
                <a:ea typeface="黑体"/>
              </a:rPr>
              <a:t>语句格式二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DS HTML PATH=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物理地址’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URL=NONE)&gt; BODY=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名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HTML CLOS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子选项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URL=NONE)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表示当生成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HT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包含有超链接时，不使用绝对物理路径，而使用相对路径。这对于生成多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HT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并将生成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HT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移到其它服务器上使用时是必须的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/>
          </p:nvPr>
        </p:nvSpPr>
        <p:spPr>
          <a:xfrm>
            <a:off x="1371600" y="16761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26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生成使用相对路径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HT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格式文件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\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ur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prt.htm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查询输出对象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143000" y="178560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可以将每个过程步的输出分成一个或多个对象。使用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查询和挑选这些对象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在对某个过程的输出对象进行挑选前，首先要查询这个过程的输出包含哪些对象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Text Box 2"/>
          <p:cNvSpPr/>
          <p:nvPr/>
        </p:nvSpPr>
        <p:spPr>
          <a:xfrm>
            <a:off x="1835280" y="1268280"/>
            <a:ext cx="1152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29" name="Text Box 3"/>
          <p:cNvSpPr/>
          <p:nvPr/>
        </p:nvSpPr>
        <p:spPr>
          <a:xfrm>
            <a:off x="1000080" y="1071720"/>
            <a:ext cx="6786720" cy="15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查询输出对象的语句格式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DS TRACE ON &lt;/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选项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&gt;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DS TRACE OFF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DS TRACE NO/OFF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表示打开或关闭输出对象的跟踪功能，缺省的状态跟踪功能产关闭的。跟踪功能打开后，每个运行的过程步都将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窗口显示它传送的输出对象名称。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选项及说明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30" name="Object 2"/>
          <p:cNvGraphicFramePr/>
          <p:nvPr/>
        </p:nvGraphicFramePr>
        <p:xfrm>
          <a:off x="1143000" y="3500280"/>
          <a:ext cx="6119640" cy="17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500280"/>
                    <a:ext cx="61196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1499760" y="857160"/>
            <a:ext cx="7086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2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查询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的输出对象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r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r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28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查询回归分析过程的输出对象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r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e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r_month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o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_600603=r_m /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out1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p  l95=l  u95=u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r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注意，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OD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的非缺省状态时，过程步的结束时最好都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RU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语句，这样可以避免过程步界线不明而引起的一些意外结果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选择输出对象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692360" y="2204640"/>
            <a:ext cx="72388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缺省情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35" name="Object 2"/>
          <p:cNvGraphicFramePr/>
          <p:nvPr/>
        </p:nvGraphicFramePr>
        <p:xfrm>
          <a:off x="2173320" y="2971800"/>
          <a:ext cx="3255840" cy="231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3320" y="2971800"/>
                    <a:ext cx="3255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选择输出对象的语句格式：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447920" y="22093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DS &lt;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传送目标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象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LL|NON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DS &lt;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传送目标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XCLUDE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象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LL|NON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于输出对象，可以使用它的全路径或路径标签，也可以只用它的一部分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可省略任一点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t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前的部分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路径和路径标签也可以混用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1371600" y="1904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.29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查询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的输出对象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tr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tr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日志输出信息控制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600200" y="22096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控制日志输出信息的方法有两类：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选项设置自动写入日志中的信息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1371600" y="12952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结果显示的输出对象只有一个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名称：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mmary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标签：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mmary statistic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模板：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base.summary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路径：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.Summary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标签路径：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'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'.'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mmary statistics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于是，引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的输出对象时可以采用下面的任一种方式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'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'.'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mmary statistics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'Summary statistics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mmary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.Summary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. 'Summary statistics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'Means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'.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mmary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步结束时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自动清除对输出对象的挑选或删除，恢复缺省状态。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使用选项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ERSIS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时将保持关于对象的挑选。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57120" y="856800"/>
            <a:ext cx="5500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控制日志输出信息的语句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graphicFrame>
        <p:nvGraphicFramePr>
          <p:cNvPr id="831" name="Object 2"/>
          <p:cNvGraphicFramePr/>
          <p:nvPr/>
        </p:nvGraphicFramePr>
        <p:xfrm>
          <a:off x="1428840" y="2362320"/>
          <a:ext cx="6750000" cy="232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2362320"/>
                    <a:ext cx="675000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57120" y="928440"/>
            <a:ext cx="65721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控制日志输出信息的系统选项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graphicFrame>
        <p:nvGraphicFramePr>
          <p:cNvPr id="834" name="Object 2"/>
          <p:cNvGraphicFramePr/>
          <p:nvPr/>
        </p:nvGraphicFramePr>
        <p:xfrm>
          <a:off x="1285920" y="2286000"/>
          <a:ext cx="7219800" cy="211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286000"/>
                    <a:ext cx="721980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785520" y="1857240"/>
            <a:ext cx="751500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.1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利用系统选项语句控制日志输出信息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NONOTES NO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规定不输出时间，注释和源程序到日志上。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RESSET</cp:lastModifiedBy>
  <dcterms:modified xsi:type="dcterms:W3CDTF">2013-02-21T08:12:59Z</dcterms:modified>
  <cp:revision>661</cp:revision>
  <dc:subject/>
  <dc:title>第1章 SAS软件入门</dc:title>
</cp:coreProperties>
</file>